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" name="로고1" descr=""/>
          <p:cNvPicPr/>
          <p:nvPr/>
        </p:nvPicPr>
        <p:blipFill>
          <a:blip r:embed="rId3"/>
          <a:stretch/>
        </p:blipFill>
        <p:spPr>
          <a:xfrm>
            <a:off x="7391520" y="6211800"/>
            <a:ext cx="160020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580680" y="380880"/>
            <a:ext cx="175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99"/>
                </a:solidFill>
                <a:latin typeface="굴림"/>
              </a:rPr>
              <a:t>건설산업연구원 세미나 자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"/>
          <p:cNvSpPr/>
          <p:nvPr/>
        </p:nvSpPr>
        <p:spPr>
          <a:xfrm>
            <a:off x="5612400" y="571500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99"/>
                </a:solidFill>
                <a:latin typeface="굴림"/>
              </a:rPr>
              <a:t>Dain FRESCO CEO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7315560" y="5105520"/>
            <a:ext cx="843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900" spc="-1" strike="noStrike">
                <a:solidFill>
                  <a:srgbClr val="ffff99"/>
                </a:solidFill>
                <a:latin typeface="굴림"/>
              </a:rPr>
              <a:t>신창득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209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굴림"/>
              </a:rPr>
              <a:t>미분양 아파트 유동화 방안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1828800"/>
            <a:ext cx="3657600" cy="40384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1600200"/>
            <a:ext cx="30481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158436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장    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2209680"/>
            <a:ext cx="3353040" cy="350532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2590920"/>
            <a:ext cx="2971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자금조달 코스트의 절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상환청구권이 없는 금융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재무구조의 개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유동성의 조기 확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자금조달 수단의 다양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투자자층의 확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4800600" y="1828800"/>
            <a:ext cx="3657600" cy="40384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1600200"/>
            <a:ext cx="30481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5638680" y="158436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단    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2209680"/>
            <a:ext cx="3353040" cy="350532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0" y="2590920"/>
            <a:ext cx="320040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유동화 거래구조의 복잡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법적 리스크 부담가능성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대한 면밀한 검토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533520"/>
            <a:ext cx="45720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343080" y="457200"/>
            <a:ext cx="4457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457200"/>
            <a:ext cx="35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3. ABS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발행의 장담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4085280" y="6315840"/>
            <a:ext cx="43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신그래픽"/>
                <a:ea typeface="신그래픽"/>
              </a:rPr>
              <a:t>- 32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28600" y="838080"/>
            <a:ext cx="8534520" cy="541044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419040" y="533520"/>
            <a:ext cx="45720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457200"/>
            <a:ext cx="4457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343080" y="457200"/>
            <a:ext cx="35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자산보유자의 범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279440"/>
            <a:ext cx="6313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99"/>
                </a:solidFill>
                <a:latin typeface="굴림"/>
              </a:rPr>
              <a:t>자산유동화에관한법률</a:t>
            </a:r>
            <a:r>
              <a:rPr b="1" lang="ko-KR" sz="2000" spc="-1" strike="noStrike">
                <a:solidFill>
                  <a:srgbClr val="ffff99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99"/>
                </a:solidFill>
                <a:latin typeface="굴림"/>
              </a:rPr>
              <a:t>동시행령 및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99"/>
                </a:solidFill>
                <a:latin typeface="굴림"/>
              </a:rPr>
              <a:t>자산유동화업무감독규정 제</a:t>
            </a:r>
            <a:r>
              <a:rPr b="1" lang="ko-KR" sz="2000" spc="-1" strike="noStrike">
                <a:solidFill>
                  <a:srgbClr val="ffff99"/>
                </a:solidFill>
                <a:latin typeface="굴림"/>
              </a:rPr>
              <a:t>2</a:t>
            </a:r>
            <a:r>
              <a:rPr b="1" lang="ko-KR" sz="2000" spc="-1" strike="noStrike">
                <a:solidFill>
                  <a:srgbClr val="ffff99"/>
                </a:solidFill>
                <a:latin typeface="굴림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295280" y="2438280"/>
            <a:ext cx="6705720" cy="53352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3276720"/>
            <a:ext cx="6705720" cy="182880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14600"/>
            <a:ext cx="59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99"/>
                </a:solidFill>
                <a:latin typeface="굴림"/>
              </a:rPr>
              <a:t>신탁업법에 의한 신탁회사</a:t>
            </a:r>
            <a:r>
              <a:rPr b="1" lang="ko-KR" sz="1800" spc="-1" strike="noStrike">
                <a:solidFill>
                  <a:srgbClr val="ffff99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99"/>
                </a:solidFill>
                <a:latin typeface="굴림"/>
              </a:rPr>
              <a:t>시행령 제 </a:t>
            </a:r>
            <a:r>
              <a:rPr b="1" lang="ko-KR" sz="1800" spc="-1" strike="noStrike">
                <a:solidFill>
                  <a:srgbClr val="ffff99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99"/>
                </a:solidFill>
                <a:latin typeface="굴림"/>
              </a:rPr>
              <a:t>조</a:t>
            </a:r>
            <a:r>
              <a:rPr b="1" lang="ko-KR" sz="1800" spc="-1" strike="noStrike">
                <a:solidFill>
                  <a:srgbClr val="ffff99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1714680" y="38862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1447920" y="342900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99"/>
                </a:solidFill>
                <a:latin typeface="굴림"/>
              </a:rPr>
              <a:t>건설사의 경우 최근 </a:t>
            </a:r>
            <a:r>
              <a:rPr b="1" lang="ko-KR" sz="1800" spc="-1" strike="noStrike">
                <a:solidFill>
                  <a:srgbClr val="ffff99"/>
                </a:solidFill>
                <a:latin typeface="굴림"/>
              </a:rPr>
              <a:t>1</a:t>
            </a:r>
            <a:r>
              <a:rPr b="1" lang="ko-KR" sz="1800" spc="-1" strike="noStrike">
                <a:solidFill>
                  <a:srgbClr val="ffff99"/>
                </a:solidFill>
                <a:latin typeface="굴림"/>
              </a:rPr>
              <a:t>년내의 신용평가등급이 투자 적격등급 이상이거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buClr>
                <a:srgbClr val="ffff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99"/>
                </a:solidFill>
                <a:latin typeface="굴림"/>
              </a:rPr>
              <a:t>증시에 상장 또는 </a:t>
            </a:r>
            <a:r>
              <a:rPr b="1" lang="ko-KR" sz="1800" spc="-1" strike="noStrike">
                <a:solidFill>
                  <a:srgbClr val="ffff99"/>
                </a:solidFill>
                <a:latin typeface="굴림"/>
              </a:rPr>
              <a:t>KOSDAQ</a:t>
            </a:r>
            <a:r>
              <a:rPr b="1" lang="ko-KR" sz="1800" spc="-1" strike="noStrike">
                <a:solidFill>
                  <a:srgbClr val="ffff99"/>
                </a:solidFill>
                <a:latin typeface="굴림"/>
              </a:rPr>
              <a:t>의 등록된 법인으로서 해외에서 채권발행실적이 있는 법인 </a:t>
            </a:r>
            <a:r>
              <a:rPr b="1" lang="ko-KR" sz="1800" spc="-1" strike="noStrike">
                <a:solidFill>
                  <a:srgbClr val="ffff99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99"/>
                </a:solidFill>
                <a:latin typeface="굴림"/>
              </a:rPr>
              <a:t>단</a:t>
            </a:r>
            <a:r>
              <a:rPr b="1" lang="ko-KR" sz="1800" spc="-1" strike="noStrike">
                <a:solidFill>
                  <a:srgbClr val="ffff99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99"/>
                </a:solidFill>
                <a:latin typeface="굴림"/>
              </a:rPr>
              <a:t>관리종목 및 투자유의종목 제외</a:t>
            </a:r>
            <a:r>
              <a:rPr b="1" lang="ko-KR" sz="1800" spc="-1" strike="noStrike">
                <a:solidFill>
                  <a:srgbClr val="ffff99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1104840" y="541008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cc00"/>
                </a:solidFill>
                <a:latin typeface="굴림"/>
              </a:rPr>
              <a:t>   ※ </a:t>
            </a:r>
            <a:r>
              <a:rPr b="1" lang="ko-KR" sz="1800" spc="-1" strike="noStrike">
                <a:solidFill>
                  <a:srgbClr val="ffcc00"/>
                </a:solidFill>
                <a:latin typeface="굴림"/>
              </a:rPr>
              <a:t>상기규정상 실제 대부분의 경우 신탁회사를 자산보유자로 한 </a:t>
            </a:r>
            <a:r>
              <a:rPr b="1" lang="ko-KR" sz="1800" spc="-1" strike="noStrike">
                <a:solidFill>
                  <a:srgbClr val="ffcc00"/>
                </a:solidFill>
                <a:latin typeface="굴림"/>
              </a:rPr>
              <a:t>ABS </a:t>
            </a:r>
            <a:r>
              <a:rPr b="1" lang="ko-KR" sz="1800" spc="-1" strike="noStrike">
                <a:solidFill>
                  <a:srgbClr val="ffcc00"/>
                </a:solidFill>
                <a:latin typeface="굴림"/>
              </a:rPr>
              <a:t>구조가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신그래픽"/>
                <a:ea typeface="신그래픽"/>
              </a:rPr>
              <a:t>- 33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8600" y="838080"/>
            <a:ext cx="8610480" cy="541044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419040" y="533520"/>
            <a:ext cx="605808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457200"/>
            <a:ext cx="59817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57200"/>
            <a:ext cx="44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ABS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가능 대상자산의 일반 요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2514600"/>
            <a:ext cx="7772400" cy="38088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3048120"/>
            <a:ext cx="7772400" cy="38088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3581280"/>
            <a:ext cx="7772400" cy="38124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4114800"/>
            <a:ext cx="7772400" cy="38088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2175480" y="2560680"/>
            <a:ext cx="4633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매매가 가능하고 자산보유자의 파산시 파산재단에서 분리될 수 있을 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>
            <a:off x="2499480" y="3071880"/>
            <a:ext cx="39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자산의 회수 및 지급이 자산보유자로부터 분리될 수 있을 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1243080" y="3622680"/>
            <a:ext cx="6224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자산관련 채무자의 신용도가 우수할 것</a:t>
            </a:r>
            <a:r>
              <a:rPr b="1" lang="en-US" sz="1800" spc="-1" strike="noStrike">
                <a:solidFill>
                  <a:srgbClr val="ffff99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2424600" y="4151160"/>
            <a:ext cx="4085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자산의 기존 회수실적과 현금흐름에 관한 최근 자료가 있을 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479916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※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원칙적이고 일반적인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ABS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의 대상자산의 요건은 상기와 같으나  우리나라에서 이용되는 유동화 자산은 일부요건에  欠缺이 있는 경우가 대부분이며 실제 발행구조상 내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·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외부적 신용보강장치를 필히  포함하여 설계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648320" y="2057400"/>
            <a:ext cx="0" cy="4572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1447920"/>
            <a:ext cx="2971800" cy="53316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3750120" y="1447920"/>
            <a:ext cx="172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ABS 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발행 가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신그래픽"/>
                <a:ea typeface="신그래픽"/>
              </a:rPr>
              <a:t>- 34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5800" y="2286000"/>
            <a:ext cx="7848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굴림"/>
              </a:rPr>
              <a:t>III. </a:t>
            </a:r>
            <a:r>
              <a:rPr b="1" lang="zh-CN" sz="4000" spc="-1" strike="noStrike">
                <a:solidFill>
                  <a:srgbClr val="ffff99"/>
                </a:solidFill>
                <a:latin typeface="굴림"/>
              </a:rPr>
              <a:t>준공미분양 아파트에 대한 유동화 방안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2286000"/>
            <a:ext cx="7696080" cy="1600200"/>
          </a:xfrm>
          <a:prstGeom prst="rect">
            <a:avLst/>
          </a:prstGeom>
          <a:noFill/>
          <a:ln w="349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신그래픽"/>
                <a:ea typeface="신그래픽"/>
              </a:rPr>
              <a:t>- 35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914400" y="14731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굴림"/>
              </a:rPr>
              <a:t>미분양 아파트 현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80880" y="1930320"/>
          <a:ext cx="8305920" cy="152424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  <a:gridCol w="990720"/>
                <a:gridCol w="990360"/>
                <a:gridCol w="1067040"/>
                <a:gridCol w="1066680"/>
                <a:gridCol w="1066680"/>
                <a:gridCol w="990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지 역 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`95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`96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`97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`98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`99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`00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굴림"/>
                        </a:rPr>
                        <a:t>`01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전 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152,3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109,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88,8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102,7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70,8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58,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굴림"/>
                        </a:rPr>
                        <a:t>48,0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( </a:t>
                      </a:r>
                      <a:r>
                        <a:rPr b="1" lang="ko-KR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준공후 </a:t>
                      </a:r>
                      <a:r>
                        <a:rPr b="1" lang="ko-KR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(17,9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(12,3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(7,56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(18,10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(17,81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(16,27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굴림"/>
                        </a:rPr>
                        <a:t>(11,55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민간 부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91,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69,4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62,7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81,0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57,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38,9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굴림"/>
                        </a:rPr>
                        <a:t>33,0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공공 부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60,8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40,2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26,1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21,6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13,7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19,6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굴림"/>
                        </a:rPr>
                        <a:t>15,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7543800" y="151776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굴림"/>
              </a:rPr>
              <a:t>(</a:t>
            </a:r>
            <a:r>
              <a:rPr b="0" lang="zh-CN" sz="1600" spc="-1" strike="noStrike">
                <a:solidFill>
                  <a:srgbClr val="ffff99"/>
                </a:solidFill>
                <a:latin typeface="굴림"/>
              </a:rPr>
              <a:t>단위 </a:t>
            </a:r>
            <a:r>
              <a:rPr b="0" lang="en-US" sz="1600" spc="-1" strike="noStrike">
                <a:solidFill>
                  <a:srgbClr val="ffff99"/>
                </a:solidFill>
                <a:latin typeface="굴림"/>
              </a:rPr>
              <a:t>: </a:t>
            </a:r>
            <a:r>
              <a:rPr b="0" lang="zh-CN" sz="1600" spc="-1" strike="noStrike">
                <a:solidFill>
                  <a:srgbClr val="ffff99"/>
                </a:solidFill>
                <a:latin typeface="굴림"/>
              </a:rPr>
              <a:t>호</a:t>
            </a:r>
            <a:r>
              <a:rPr b="0" lang="en-US" sz="1600" spc="-1" strike="noStrike">
                <a:solidFill>
                  <a:srgbClr val="ffff99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80880" y="4140360"/>
          <a:ext cx="8305920" cy="2031840"/>
        </p:xfrm>
        <a:graphic>
          <a:graphicData uri="http://schemas.openxmlformats.org/drawingml/2006/table">
            <a:tbl>
              <a:tblPr/>
              <a:tblGrid>
                <a:gridCol w="685800"/>
                <a:gridCol w="838440"/>
                <a:gridCol w="6781680"/>
              </a:tblGrid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구 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검 토 내 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93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완공</a:t>
                      </a: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A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분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유동화 필요성</a:t>
                      </a: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실익 없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11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미분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대한주택보증의 분양보증 이행으로 보유하게 된 사업장내의 미분양 아파트 및 기타 건설사의 미분양 아파트의 경우 정책적인 유동화의 필요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대한주택보증</a:t>
                      </a:r>
                      <a:r>
                        <a:rPr b="0" lang="ko-KR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: </a:t>
                      </a:r>
                      <a:r>
                        <a:rPr b="0" lang="ko-KR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재무구조 개선 및 보증여력 확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민간 건설사</a:t>
                      </a:r>
                      <a:r>
                        <a:rPr b="0" lang="ko-KR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: </a:t>
                      </a:r>
                      <a:r>
                        <a:rPr b="0" lang="ko-KR" sz="14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건축경기 활성화를 위한 자금지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6" name="a6" descr=""/>
          <p:cNvPicPr/>
          <p:nvPr/>
        </p:nvPicPr>
        <p:blipFill>
          <a:blip r:embed="rId2"/>
          <a:stretch/>
        </p:blipFill>
        <p:spPr>
          <a:xfrm>
            <a:off x="838080" y="1625760"/>
            <a:ext cx="68400" cy="680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914400" y="3697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굴림"/>
              </a:rPr>
              <a:t>대상자산 유형분석 </a:t>
            </a:r>
            <a:r>
              <a:rPr b="1" lang="en-US" sz="1800" spc="-1" strike="noStrike">
                <a:solidFill>
                  <a:srgbClr val="ffff99"/>
                </a:solidFill>
                <a:latin typeface="굴림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8" name="a6" descr=""/>
          <p:cNvPicPr/>
          <p:nvPr/>
        </p:nvPicPr>
        <p:blipFill>
          <a:blip r:embed="rId3"/>
          <a:stretch/>
        </p:blipFill>
        <p:spPr>
          <a:xfrm>
            <a:off x="838080" y="3849840"/>
            <a:ext cx="68400" cy="680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80880" y="838080"/>
            <a:ext cx="45720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266760" y="762120"/>
            <a:ext cx="4457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762120"/>
            <a:ext cx="35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대상자산 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신그래픽"/>
                <a:ea typeface="신그래픽"/>
              </a:rPr>
              <a:t>- 36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380880" y="990720"/>
          <a:ext cx="8305920" cy="4038120"/>
        </p:xfrm>
        <a:graphic>
          <a:graphicData uri="http://schemas.openxmlformats.org/drawingml/2006/table">
            <a:tbl>
              <a:tblPr/>
              <a:tblGrid>
                <a:gridCol w="838440"/>
                <a:gridCol w="914400"/>
                <a:gridCol w="6553080"/>
              </a:tblGrid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구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검토내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729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미완공</a:t>
                      </a:r>
                      <a:r>
                        <a:rPr b="1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AP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분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ffff99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건설중인 아파트 자체만으로는 법률적으로 양도대상이 되는 물건의 특정성을 충족 못하므로 유동화의 대상자산으로는 부적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ff99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아파트 분양대금 유동화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분양이 완료된 상태라면 분양대금의 일부 상환중이라고 보여지며 분양대금 청구권을 유동화하는 것은 가능하며 실제 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ABS 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발생사례가 있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80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미분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ffff99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미완공된 미분양 아파트의 경우에는 해당 사업장의 부도로 대한 주택보증이 분양보증 이행의 주체로서 인수하게 된 사업장분은 대한주택보증의 재무구조 개선을 목적으로 한 유동화의 필요성이 있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ff99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기타 민간 건설사 미분양분은 채권회수의 어려움과 하도급구조의 불투명성 등으로 별도의 유동화 지원 실익 및 명분 부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457200" y="53341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cc00"/>
                </a:solidFill>
                <a:latin typeface="굴림"/>
              </a:rPr>
              <a:t>※</a:t>
            </a:r>
            <a:r>
              <a:rPr b="1" lang="ko-KR" sz="1800" spc="-1" strike="noStrike">
                <a:solidFill>
                  <a:srgbClr val="ffcc00"/>
                </a:solidFill>
                <a:latin typeface="굴림"/>
              </a:rPr>
              <a:t>상기 대상자산 유형 중 경제적인 실익 내지는 정책적인 측면에서 완공아파트 중 미분양분이나 미분양 미완공 아파트 중 대한주택보증시공 아파트가 유동화에 가장 적합하다고 보여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914400" y="457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굴림"/>
              </a:rPr>
              <a:t>대상자산 유형분석 </a:t>
            </a:r>
            <a:r>
              <a:rPr b="1" lang="en-US" sz="1800" spc="-1" strike="noStrike">
                <a:solidFill>
                  <a:srgbClr val="ffff99"/>
                </a:solidFill>
                <a:latin typeface="굴림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6" name="a6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68400" cy="68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신그래픽"/>
                <a:ea typeface="신그래픽"/>
              </a:rPr>
              <a:t>- 37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80880" y="457200"/>
            <a:ext cx="53341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266760" y="380880"/>
            <a:ext cx="52196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88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준공 미분양 아파트 유동화 구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1158840"/>
            <a:ext cx="1447560" cy="349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143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기본 구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391520" y="1905120"/>
            <a:ext cx="990360" cy="83808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AAA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우량은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391520" y="3492360"/>
            <a:ext cx="990360" cy="83844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AB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발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7467480" y="5029200"/>
            <a:ext cx="914400" cy="76212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일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매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719600" y="1676520"/>
            <a:ext cx="1523880" cy="838080"/>
          </a:xfrm>
          <a:prstGeom prst="rect">
            <a:avLst/>
          </a:prstGeom>
          <a:solidFill>
            <a:srgbClr val="3366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대한주택공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(Buy-back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>
            <a:off x="2743200" y="3962520"/>
            <a:ext cx="1219320" cy="1066680"/>
          </a:xfrm>
          <a:prstGeom prst="rect">
            <a:avLst/>
          </a:prstGeom>
          <a:solidFill>
            <a:srgbClr val="3366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부동산투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신탁회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4419720" y="5029200"/>
            <a:ext cx="1981080" cy="1219320"/>
          </a:xfrm>
          <a:prstGeom prst="rect">
            <a:avLst/>
          </a:prstGeom>
          <a:solidFill>
            <a:srgbClr val="3366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AMC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대한주택공사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부동산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4952880" y="3276720"/>
            <a:ext cx="1067040" cy="1066680"/>
          </a:xfrm>
          <a:prstGeom prst="rect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P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2057400"/>
            <a:ext cx="1219320" cy="129528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건설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4495680"/>
            <a:ext cx="1219320" cy="129564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건설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적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2590920"/>
            <a:ext cx="0" cy="45720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562720" y="2590920"/>
            <a:ext cx="0" cy="45720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5334120" y="4419720"/>
            <a:ext cx="0" cy="45720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562720" y="4419720"/>
            <a:ext cx="0" cy="45720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6400800" y="3733920"/>
            <a:ext cx="838080" cy="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2209680" y="2514600"/>
            <a:ext cx="2362320" cy="91440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2133360" y="2743200"/>
            <a:ext cx="2438280" cy="91440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038480" y="4038120"/>
            <a:ext cx="533520" cy="30492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038480" y="4267080"/>
            <a:ext cx="533520" cy="30492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133720" y="4266720"/>
            <a:ext cx="457200" cy="38124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133720" y="4572000"/>
            <a:ext cx="380880" cy="30492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400800" y="4419720"/>
            <a:ext cx="838080" cy="685800"/>
          </a:xfrm>
          <a:prstGeom prst="line">
            <a:avLst/>
          </a:prstGeom>
          <a:ln w="19080">
            <a:solidFill>
              <a:srgbClr val="ffcc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3429000"/>
            <a:ext cx="990720" cy="838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AB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발행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7391520" y="4965840"/>
            <a:ext cx="914400" cy="7617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일반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매각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7315200" y="1828800"/>
            <a:ext cx="990720" cy="838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AAA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급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우량은행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643280" y="1600200"/>
            <a:ext cx="1524240" cy="8380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대한주택공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Buy-back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4343400" y="4965840"/>
            <a:ext cx="1981080" cy="121896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AMC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굴림"/>
              </a:rPr>
              <a:t>대한주택공사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굴림"/>
              </a:rPr>
              <a:t>부동산투자신탁회사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654280" y="3873600"/>
            <a:ext cx="1219320" cy="10666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부동산투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신탁회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4876920" y="3200400"/>
            <a:ext cx="1066680" cy="10666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P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1981080"/>
            <a:ext cx="1218960" cy="12956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건설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적격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산보유자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4419720"/>
            <a:ext cx="1218960" cy="12952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대한주택보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건설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부적격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산보유자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2895480" y="2362320"/>
            <a:ext cx="1143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cc00"/>
                </a:solidFill>
                <a:latin typeface="굴림"/>
              </a:rPr>
              <a:t>미분양아파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굴림"/>
              </a:rPr>
              <a:t> </a:t>
            </a:r>
            <a:r>
              <a:rPr b="0" lang="zh-CN" sz="1200" spc="-1" strike="noStrike">
                <a:solidFill>
                  <a:srgbClr val="ffcc00"/>
                </a:solidFill>
                <a:latin typeface="굴림"/>
              </a:rPr>
              <a:t>매각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92560" y="3230640"/>
            <a:ext cx="98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cc00"/>
                </a:solidFill>
                <a:latin typeface="굴림"/>
              </a:rPr>
              <a:t>현금</a:t>
            </a:r>
            <a:r>
              <a:rPr b="0" lang="ko-KR" sz="1200" spc="-1" strike="noStrike">
                <a:solidFill>
                  <a:srgbClr val="ffcc00"/>
                </a:solidFill>
                <a:latin typeface="굴림"/>
              </a:rPr>
              <a:t>+</a:t>
            </a:r>
            <a:r>
              <a:rPr b="0" lang="ko-KR" sz="1200" spc="-1" strike="noStrike">
                <a:solidFill>
                  <a:srgbClr val="ffcc00"/>
                </a:solidFill>
                <a:latin typeface="굴림"/>
              </a:rPr>
              <a:t>후순위증권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4404600" y="2590920"/>
            <a:ext cx="939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굴림"/>
              </a:rPr>
              <a:t>Guarante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굴림"/>
              </a:rPr>
              <a:t>Fe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5546160" y="277344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굴림"/>
              </a:rPr>
              <a:t>Guarante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4587480" y="46483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cc00"/>
                </a:solidFill>
                <a:latin typeface="굴림"/>
              </a:rPr>
              <a:t>자산관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5745600" y="46483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cc00"/>
                </a:solidFill>
                <a:latin typeface="굴림"/>
              </a:rPr>
              <a:t>자산관리수수료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1556280" y="3809880"/>
            <a:ext cx="729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cc00"/>
                </a:solidFill>
                <a:latin typeface="굴림"/>
              </a:rPr>
              <a:t>미분양아파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굴림"/>
              </a:rPr>
              <a:t> </a:t>
            </a:r>
            <a:r>
              <a:rPr b="0" lang="zh-CN" sz="1200" spc="-1" strike="noStrike">
                <a:solidFill>
                  <a:srgbClr val="ffcc00"/>
                </a:solidFill>
                <a:latin typeface="굴림"/>
              </a:rPr>
              <a:t>처분신탁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7772400" y="2819520"/>
            <a:ext cx="0" cy="609480"/>
          </a:xfrm>
          <a:prstGeom prst="line">
            <a:avLst/>
          </a:prstGeom>
          <a:ln w="19080">
            <a:solidFill>
              <a:srgbClr val="ffcc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7733880" y="2895480"/>
            <a:ext cx="95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굴림"/>
              </a:rPr>
              <a:t>Credit L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934320" y="46483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굴림"/>
              </a:rPr>
              <a:t>Sa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2209680" y="5029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cc00"/>
                </a:solidFill>
                <a:latin typeface="굴림"/>
              </a:rPr>
              <a:t>현금</a:t>
            </a:r>
            <a:r>
              <a:rPr b="0" lang="ko-KR" sz="1200" spc="-1" strike="noStrike">
                <a:solidFill>
                  <a:srgbClr val="ffcc00"/>
                </a:solidFill>
                <a:latin typeface="굴림"/>
              </a:rPr>
              <a:t>+</a:t>
            </a:r>
            <a:r>
              <a:rPr b="0" lang="ko-KR" sz="1200" spc="-1" strike="noStrike">
                <a:solidFill>
                  <a:srgbClr val="ffcc00"/>
                </a:solidFill>
                <a:latin typeface="굴림"/>
              </a:rPr>
              <a:t>후순위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3809880" y="37339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cc00"/>
                </a:solidFill>
                <a:latin typeface="굴림"/>
              </a:rPr>
              <a:t>매각 </a:t>
            </a:r>
            <a:r>
              <a:rPr b="0" lang="en-US" sz="1200" spc="-1" strike="noStrike">
                <a:solidFill>
                  <a:srgbClr val="ffcc00"/>
                </a:solidFill>
                <a:latin typeface="굴림"/>
              </a:rPr>
              <a:t>or </a:t>
            </a:r>
            <a:r>
              <a:rPr b="0" lang="zh-CN" sz="1200" spc="-1" strike="noStrike">
                <a:solidFill>
                  <a:srgbClr val="ffcc00"/>
                </a:solidFill>
                <a:latin typeface="굴림"/>
              </a:rPr>
              <a:t>신탁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4114800" y="44197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cc00"/>
                </a:solidFill>
                <a:latin typeface="굴림"/>
              </a:rPr>
              <a:t>현금</a:t>
            </a:r>
            <a:r>
              <a:rPr b="0" lang="ko-KR" sz="1200" spc="-1" strike="noStrike">
                <a:solidFill>
                  <a:srgbClr val="ffcc00"/>
                </a:solidFill>
                <a:latin typeface="굴림"/>
              </a:rPr>
              <a:t>+</a:t>
            </a:r>
            <a:r>
              <a:rPr b="0" lang="ko-KR" sz="1200" spc="-1" strike="noStrike">
                <a:solidFill>
                  <a:srgbClr val="ffcc00"/>
                </a:solidFill>
                <a:latin typeface="굴림"/>
              </a:rPr>
              <a:t>후순위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신그래픽"/>
                <a:ea typeface="신그래픽"/>
              </a:rPr>
              <a:t>- 38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09480" y="1600200"/>
            <a:ext cx="77724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각각의 건설회사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대한주택보증시공분 미완공 미분양분 포함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는 미분양아파트를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SPC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로 매각하고 매각 대금으로 현금 및 필요시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SPC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초과이익에 대한 옵션을 취득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(</a:t>
            </a:r>
            <a:r>
              <a:rPr b="0" lang="ko-KR" sz="1800" spc="-1" strike="noStrike" u="sng">
                <a:solidFill>
                  <a:srgbClr val="ffff99"/>
                </a:solidFill>
                <a:uFillTx/>
                <a:latin typeface="굴림"/>
              </a:rPr>
              <a:t>후순위채 매입 형태</a:t>
            </a:r>
            <a:r>
              <a:rPr b="0" lang="ko-KR" sz="1800" spc="-1" strike="noStrike" u="sng">
                <a:solidFill>
                  <a:srgbClr val="ffff99"/>
                </a:solidFill>
                <a:uFillTx/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대한주택공사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이하 주공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는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SPC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의 미분양아파트 처분 및 관리에 문제가 있어 선순위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ABS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의 상환에 부족함이 예상되는 경우 자산보유자가 아닌 </a:t>
            </a:r>
            <a:r>
              <a:rPr b="1" lang="ko-KR" sz="1800" spc="-1" strike="noStrike" u="sng">
                <a:solidFill>
                  <a:srgbClr val="ffff99"/>
                </a:solidFill>
                <a:uFillTx/>
                <a:latin typeface="굴림"/>
              </a:rPr>
              <a:t>제</a:t>
            </a:r>
            <a:r>
              <a:rPr b="1" lang="ko-KR" sz="1800" spc="-1" strike="noStrike" u="sng">
                <a:solidFill>
                  <a:srgbClr val="ffff99"/>
                </a:solidFill>
                <a:uFillTx/>
                <a:latin typeface="굴림"/>
              </a:rPr>
              <a:t>3</a:t>
            </a:r>
            <a:r>
              <a:rPr b="1" lang="ko-KR" sz="1800" spc="-1" strike="noStrike" u="sng">
                <a:solidFill>
                  <a:srgbClr val="ffff99"/>
                </a:solidFill>
                <a:uFillTx/>
                <a:latin typeface="굴림"/>
              </a:rPr>
              <a:t>자</a:t>
            </a:r>
            <a:r>
              <a:rPr b="1" lang="ko-KR" sz="1800" spc="-1" strike="noStrike" u="sng">
                <a:solidFill>
                  <a:srgbClr val="ffff99"/>
                </a:solidFill>
                <a:uFillTx/>
                <a:latin typeface="굴림"/>
              </a:rPr>
              <a:t>(</a:t>
            </a:r>
            <a:r>
              <a:rPr b="1" lang="ko-KR" sz="1800" spc="-1" strike="noStrike" u="sng">
                <a:solidFill>
                  <a:srgbClr val="ffff99"/>
                </a:solidFill>
                <a:uFillTx/>
                <a:latin typeface="굴림"/>
              </a:rPr>
              <a:t>주공</a:t>
            </a:r>
            <a:r>
              <a:rPr b="0" lang="ko-KR" sz="1800" spc="-1" strike="noStrike" u="sng">
                <a:solidFill>
                  <a:srgbClr val="ffff99"/>
                </a:solidFill>
                <a:uFillTx/>
                <a:latin typeface="굴림"/>
              </a:rPr>
              <a:t>)</a:t>
            </a:r>
            <a:r>
              <a:rPr b="0" lang="ko-KR" sz="1800" spc="-1" strike="noStrike" u="sng">
                <a:solidFill>
                  <a:srgbClr val="ffff99"/>
                </a:solidFill>
                <a:uFillTx/>
                <a:latin typeface="굴림"/>
              </a:rPr>
              <a:t>의 </a:t>
            </a:r>
            <a:r>
              <a:rPr b="0" lang="ko-KR" sz="1800" spc="-1" strike="noStrike" u="sng">
                <a:solidFill>
                  <a:srgbClr val="ffff99"/>
                </a:solidFill>
                <a:uFillTx/>
                <a:latin typeface="굴림"/>
              </a:rPr>
              <a:t>Buy-back option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에 의한 자산 매입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Guarante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상기 구조는 주공이 실질적으로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SPC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의 선순위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ABS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에 대한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Guarantee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를 하는 것이며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방법은 미분양아파트 매입을 통하여 선순위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ABS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상환금을 보장하게 되며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매입금액은 선순위채권의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원금 및 이자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기타 비용의 합계액이 최소한도의 금액이 될 것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990720"/>
            <a:ext cx="8229600" cy="480060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777960"/>
            <a:ext cx="106668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762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절 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신그래픽"/>
                <a:ea typeface="신그래픽"/>
              </a:rPr>
              <a:t>- 39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09480" y="1371600"/>
            <a:ext cx="79250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미분양아파트의 자산관리는 해당업무에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Know-how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가 있는 주공이 담당하여 통합관리 함으로써 각각의 건설사가 관리하는 것보다 전문적 </a:t>
            </a:r>
            <a:r>
              <a:rPr b="0" lang="ko-KR" sz="1800" spc="-1" strike="noStrike">
                <a:solidFill>
                  <a:srgbClr val="ffff99"/>
                </a:solidFill>
                <a:latin typeface="Symbol"/>
                <a:ea typeface="Symbol"/>
              </a:rPr>
              <a:t>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 효율적으로 관리가 가능하고 실질적인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Credit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을 제공하는 주공에게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Incentive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부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또한 미분양아파트 중 우량자산은 일반인에 매각하여 자금조기회수 가능할 것임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공신력 있는 기관이 관리함으로써 매각촉진에 기여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상기구조는 기본적으로 주공의 실질적인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Credit(AAA)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을 활용한 방식이며 주공의 부담을 일부 완화하기 위한 방안으로 유동화증권 발행시 신용보증기금이나 기타 기금의 신용참여도 검토되어야 할 것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일반매각 등을 통한 자금일부 회수시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SPC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인수가격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판매가격 등의 세부내용은 보다 구체적인 협의를 통해 검토되어야 할 것으로 판단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세부구조검토에서 후술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990720"/>
            <a:ext cx="8229600" cy="525780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777960"/>
            <a:ext cx="106668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838080" y="762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절 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신그래픽"/>
                <a:ea typeface="신그래픽"/>
              </a:rPr>
              <a:t>- 40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800280" y="2295360"/>
            <a:ext cx="73911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99"/>
                </a:solidFill>
                <a:latin typeface="굴림"/>
              </a:rPr>
              <a:t>※ </a:t>
            </a:r>
            <a:r>
              <a:rPr b="1" lang="ko-KR" sz="1800" spc="-1" strike="noStrike">
                <a:solidFill>
                  <a:srgbClr val="ffff99"/>
                </a:solidFill>
                <a:latin typeface="굴림"/>
              </a:rPr>
              <a:t>ABS</a:t>
            </a:r>
            <a:r>
              <a:rPr b="1" lang="ko-KR" sz="1800" spc="-1" strike="noStrike">
                <a:solidFill>
                  <a:srgbClr val="ffff99"/>
                </a:solidFill>
                <a:latin typeface="굴림"/>
              </a:rPr>
              <a:t>법상 자산보유 부적격 건설회사의 경우 상기내용과 동일하나 자산을 이전 할 경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먼저 건설사들이 부동산투자신탁에 처분신탁으로 미분양아파트 양도하고 부동산투자신탁회사는 신탁 양도 받은 미분양아파트를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SPC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에 매각처분 하거나 다시 신탁하여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ABS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를 발행해야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1523880"/>
            <a:ext cx="81536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" y="838080"/>
            <a:ext cx="8229600" cy="541044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신그래픽"/>
                <a:ea typeface="신그래픽"/>
              </a:rPr>
              <a:t>- 41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1401840"/>
            <a:ext cx="609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굴림"/>
              </a:rPr>
              <a:t>I. </a:t>
            </a:r>
            <a:r>
              <a:rPr b="1" lang="zh-CN" sz="3000" spc="-1" strike="noStrike">
                <a:solidFill>
                  <a:srgbClr val="ffff99"/>
                </a:solidFill>
                <a:latin typeface="굴림"/>
              </a:rPr>
              <a:t>검토배경 및 목적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239920"/>
            <a:ext cx="5333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굴림"/>
              </a:rPr>
              <a:t>II. ABS</a:t>
            </a:r>
            <a:r>
              <a:rPr b="1" lang="zh-CN" sz="3000" spc="-1" strike="noStrike">
                <a:solidFill>
                  <a:srgbClr val="ffff99"/>
                </a:solidFill>
                <a:latin typeface="굴림"/>
              </a:rPr>
              <a:t>의 발행취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3078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굴림"/>
              </a:rPr>
              <a:t>III. </a:t>
            </a:r>
            <a:r>
              <a:rPr b="1" lang="zh-CN" sz="3000" spc="-1" strike="noStrike">
                <a:solidFill>
                  <a:srgbClr val="ffff99"/>
                </a:solidFill>
                <a:latin typeface="굴림"/>
              </a:rPr>
              <a:t>준공미분양 아파트에 대한 유동화 방안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557856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굴림"/>
              </a:rPr>
              <a:t>VI. </a:t>
            </a:r>
            <a:r>
              <a:rPr b="1" lang="zh-CN" sz="3200" spc="-1" strike="noStrike">
                <a:solidFill>
                  <a:srgbClr val="ffff99"/>
                </a:solidFill>
                <a:latin typeface="굴림"/>
              </a:rPr>
              <a:t>참여기관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391644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굴림"/>
              </a:rPr>
              <a:t>IV. </a:t>
            </a:r>
            <a:r>
              <a:rPr b="1" lang="zh-CN" sz="3000" spc="-1" strike="noStrike">
                <a:solidFill>
                  <a:srgbClr val="ffff99"/>
                </a:solidFill>
                <a:latin typeface="굴림"/>
              </a:rPr>
              <a:t>발행구조의 </a:t>
            </a:r>
            <a:r>
              <a:rPr b="1" lang="en-US" sz="3000" spc="-1" strike="noStrike">
                <a:solidFill>
                  <a:srgbClr val="ffff99"/>
                </a:solidFill>
                <a:latin typeface="굴림"/>
              </a:rPr>
              <a:t>Simulation </a:t>
            </a:r>
            <a:r>
              <a:rPr b="1" lang="zh-CN" sz="3000" spc="-1" strike="noStrike">
                <a:solidFill>
                  <a:srgbClr val="ffff99"/>
                </a:solidFill>
                <a:latin typeface="굴림"/>
              </a:rPr>
              <a:t>사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475452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굴림"/>
              </a:rPr>
              <a:t>V. </a:t>
            </a:r>
            <a:r>
              <a:rPr b="1" lang="zh-CN" sz="3000" spc="-1" strike="noStrike">
                <a:solidFill>
                  <a:srgbClr val="ffff99"/>
                </a:solidFill>
                <a:latin typeface="굴림"/>
              </a:rPr>
              <a:t>조세관련 검토사항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533520"/>
            <a:ext cx="2819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99"/>
                </a:solidFill>
                <a:latin typeface="굴림"/>
              </a:rPr>
              <a:t>목        차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신그래픽"/>
                <a:ea typeface="신그래픽"/>
              </a:rPr>
              <a:t>- 24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609480" y="2340000"/>
            <a:ext cx="7848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주공의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Buy-back Option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에 의해 장래 발생 할 수 있는 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Risk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를 감안하여 지역별 건설사별 평형별로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Tranch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를 분리하고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해당지역의 주택수급 및 부동산 경기전망을 고려하여 향후 미매각 위험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(SPC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의 자산관리위험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이 분산될 수 있도록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건설사별 자산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Pooling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비율은  과거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Track Record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등을 검토하여 일정기준을 설정하되 후순위채 비율을 조정하여 건설사의 모럴 해저드에 대한 방지책 마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대한주택공사에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Asset Pooling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시 선택권 부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609480"/>
            <a:ext cx="53341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66760" y="533520"/>
            <a:ext cx="52196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53352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세부구조의 검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33520" y="1387440"/>
            <a:ext cx="1828800" cy="349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685800" y="1371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자산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ool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99" name="a6" descr=""/>
          <p:cNvPicPr/>
          <p:nvPr/>
        </p:nvPicPr>
        <p:blipFill>
          <a:blip r:embed="rId2"/>
          <a:stretch/>
        </p:blipFill>
        <p:spPr>
          <a:xfrm>
            <a:off x="846000" y="5562720"/>
            <a:ext cx="68400" cy="68040"/>
          </a:xfrm>
          <a:prstGeom prst="rect">
            <a:avLst/>
          </a:prstGeom>
          <a:ln w="0">
            <a:noFill/>
          </a:ln>
        </p:spPr>
      </p:pic>
      <p:pic>
        <p:nvPicPr>
          <p:cNvPr id="300" name="a6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68400" cy="68400"/>
          </a:xfrm>
          <a:prstGeom prst="rect">
            <a:avLst/>
          </a:prstGeom>
          <a:ln w="0">
            <a:noFill/>
          </a:ln>
        </p:spPr>
      </p:pic>
      <p:pic>
        <p:nvPicPr>
          <p:cNvPr id="301" name="a6" descr=""/>
          <p:cNvPicPr/>
          <p:nvPr/>
        </p:nvPicPr>
        <p:blipFill>
          <a:blip r:embed="rId4"/>
          <a:stretch/>
        </p:blipFill>
        <p:spPr>
          <a:xfrm>
            <a:off x="838080" y="2492280"/>
            <a:ext cx="68400" cy="684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신그래픽"/>
                <a:ea typeface="신그래픽"/>
              </a:rPr>
              <a:t>- 42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85800" y="1592280"/>
            <a:ext cx="77724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자산 평가가액을 바탕으로 한 자산 양도가격 및 선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후순위 비율은 기본적으로 본 구조의 핵심인 대한주택공사의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Buy-back Guarantee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에 의한 신용보강구조와 직접적인 관련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단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건설사의 경우 입주자 내지는 피분양자의 역민원이 우려되어 실제 의사가 있어도 할인매각을 못하므로 이러한 점을 고려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SPC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에 분양가로 자산을 넘기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주공의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Buy-back Risk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를 제거하기 위하여 후순위채는 기본적으로 자산보유자에게 앞서의 각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Tranch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별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또는 건설사별로 대상물건에 따라 비율을 차등하여 인수시킴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(Primary CBO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와 유사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533520" y="777960"/>
            <a:ext cx="3657600" cy="349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7621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자산의 평가 및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SPC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양도 가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7" name="a6" descr=""/>
          <p:cNvPicPr/>
          <p:nvPr/>
        </p:nvPicPr>
        <p:blipFill>
          <a:blip r:embed="rId2"/>
          <a:stretch/>
        </p:blipFill>
        <p:spPr>
          <a:xfrm>
            <a:off x="838080" y="4495680"/>
            <a:ext cx="68400" cy="68400"/>
          </a:xfrm>
          <a:prstGeom prst="rect">
            <a:avLst/>
          </a:prstGeom>
          <a:ln w="0">
            <a:noFill/>
          </a:ln>
        </p:spPr>
      </p:pic>
      <p:pic>
        <p:nvPicPr>
          <p:cNvPr id="308" name="a6" descr=""/>
          <p:cNvPicPr/>
          <p:nvPr/>
        </p:nvPicPr>
        <p:blipFill>
          <a:blip r:embed="rId3"/>
          <a:stretch/>
        </p:blipFill>
        <p:spPr>
          <a:xfrm>
            <a:off x="838080" y="3124080"/>
            <a:ext cx="68400" cy="68400"/>
          </a:xfrm>
          <a:prstGeom prst="rect">
            <a:avLst/>
          </a:prstGeom>
          <a:ln w="0">
            <a:noFill/>
          </a:ln>
        </p:spPr>
      </p:pic>
      <p:pic>
        <p:nvPicPr>
          <p:cNvPr id="309" name="a6" descr=""/>
          <p:cNvPicPr/>
          <p:nvPr/>
        </p:nvPicPr>
        <p:blipFill>
          <a:blip r:embed="rId4"/>
          <a:stretch/>
        </p:blipFill>
        <p:spPr>
          <a:xfrm>
            <a:off x="838080" y="1744560"/>
            <a:ext cx="68400" cy="684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신그래픽"/>
                <a:ea typeface="신그래픽"/>
              </a:rPr>
              <a:t>- 43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2860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1211400"/>
            <a:ext cx="7696080" cy="37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99"/>
                </a:solidFill>
                <a:latin typeface="굴림"/>
              </a:rPr>
              <a:t> 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ABS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의 경우 담보자산의 현금흐름이 원금과 이자 상환액을 충분히 감당할 수 있어야 하고 그 실현가능성이 확실해야 하나 대상물건의 경우 그렇지 못하므로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AAA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급의 우량기관의 지급보증이나 매수의사표시가 있어야 구조설계가 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주공의 경우는 해마다 약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15~30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천 가구 이상의 임대주택을 건설 공급하고 있는 만큼 실제 부동산 경기가 극도로 침체된 현 시점에서 지속적인 건설확대 보다는 민간의 미분양 아파트를 매입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임대주택으로 전환하는 정책도 검토 해야 할 것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이 경우 공급과잉 해소와 함께 건설기간의 단축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건설비 절감 등의 잇 점 외에도 임대주택 공급 물량 확대를 통한 전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·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월세 시장의 안정을 가져올 수 있으므로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ABS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채권 상환기간동안 미분양 물량에 대해서는 주공이 전량인수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(Buy-back Guarantee)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를 해줄 경우 정책적 명분도 있고 구조상의 문제점 해소가 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549360"/>
            <a:ext cx="365760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" y="5335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신용 보강의 필요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6" name="a6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68400" cy="74880"/>
          </a:xfrm>
          <a:prstGeom prst="rect">
            <a:avLst/>
          </a:prstGeom>
          <a:ln w="0">
            <a:noFill/>
          </a:ln>
        </p:spPr>
      </p:pic>
      <p:pic>
        <p:nvPicPr>
          <p:cNvPr id="317" name="a6" descr=""/>
          <p:cNvPicPr/>
          <p:nvPr/>
        </p:nvPicPr>
        <p:blipFill>
          <a:blip r:embed="rId3"/>
          <a:stretch/>
        </p:blipFill>
        <p:spPr>
          <a:xfrm>
            <a:off x="838080" y="1441440"/>
            <a:ext cx="68400" cy="74520"/>
          </a:xfrm>
          <a:prstGeom prst="rect">
            <a:avLst/>
          </a:prstGeom>
          <a:ln w="0">
            <a:noFill/>
          </a:ln>
        </p:spPr>
      </p:pic>
      <p:pic>
        <p:nvPicPr>
          <p:cNvPr id="318" name="a6" descr=""/>
          <p:cNvPicPr/>
          <p:nvPr/>
        </p:nvPicPr>
        <p:blipFill>
          <a:blip r:embed="rId4"/>
          <a:stretch/>
        </p:blipFill>
        <p:spPr>
          <a:xfrm>
            <a:off x="838080" y="4800600"/>
            <a:ext cx="68400" cy="745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신그래픽"/>
                <a:ea typeface="신그래픽"/>
              </a:rPr>
              <a:t>- 44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723960" y="1638360"/>
            <a:ext cx="7657920" cy="32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선순위채의 상환 부족이 예상되는 경우 주공이 잔존 유동화 자산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미분양 아파트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을 인수하여 선순위채의 상환을 보장하되 인수가액은 원칙적으로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SPC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의 인수가액인 분양가에서 채권 만기동안 매각 대금을 제외한 금액이 될 것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buClr>
                <a:srgbClr val="ffff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Credit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을 제공하는 주공의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Incentive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부여 차원에서 최소한 주공의 임대 아파트 건설 조성원가 수준이하에서 결정될 수 있도록 선∙후순위 비율이 반영되어야 할 것이며 건설사들의 경제적 실익도 해하지 않는 적정한 타협점을 찾는 것이 본 신용보강구조의 핵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buClr>
                <a:srgbClr val="ffff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지급보증의 형태가 아닌 주공이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Buy-back Option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을 가지는 것이므로 기존 주공의 기능수행과도 실질상 접촉되는 것이 없을 것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6094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990720"/>
            <a:ext cx="8229600" cy="480060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777960"/>
            <a:ext cx="220968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7621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신용 보강의 구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25" name="a6" descr=""/>
          <p:cNvPicPr/>
          <p:nvPr/>
        </p:nvPicPr>
        <p:blipFill>
          <a:blip r:embed="rId2"/>
          <a:stretch/>
        </p:blipFill>
        <p:spPr>
          <a:xfrm>
            <a:off x="914400" y="5105520"/>
            <a:ext cx="68400" cy="74520"/>
          </a:xfrm>
          <a:prstGeom prst="rect">
            <a:avLst/>
          </a:prstGeom>
          <a:ln w="0">
            <a:noFill/>
          </a:ln>
        </p:spPr>
      </p:pic>
      <p:pic>
        <p:nvPicPr>
          <p:cNvPr id="326" name="a6" descr=""/>
          <p:cNvPicPr/>
          <p:nvPr/>
        </p:nvPicPr>
        <p:blipFill>
          <a:blip r:embed="rId3"/>
          <a:stretch/>
        </p:blipFill>
        <p:spPr>
          <a:xfrm>
            <a:off x="846000" y="3467160"/>
            <a:ext cx="68400" cy="74520"/>
          </a:xfrm>
          <a:prstGeom prst="rect">
            <a:avLst/>
          </a:prstGeom>
          <a:ln w="0">
            <a:noFill/>
          </a:ln>
        </p:spPr>
      </p:pic>
      <p:pic>
        <p:nvPicPr>
          <p:cNvPr id="327" name="a6" descr=""/>
          <p:cNvPicPr/>
          <p:nvPr/>
        </p:nvPicPr>
        <p:blipFill>
          <a:blip r:embed="rId4"/>
          <a:stretch/>
        </p:blipFill>
        <p:spPr>
          <a:xfrm>
            <a:off x="838080" y="1784520"/>
            <a:ext cx="68400" cy="745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신그래픽"/>
                <a:ea typeface="신그래픽"/>
              </a:rPr>
              <a:t>- 45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685800" y="4724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정책적인 측면에서의 지원사항이며 주공의 부담을 완화하고 건설사에 보다 실질적인 혜택을 위해 주공에 대한 국민주택기금 이나 신용보증기금의 참여도 정책적으로 배려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" y="762120"/>
            <a:ext cx="8229600" cy="297180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549360"/>
            <a:ext cx="205740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838080" y="5335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선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후순위 구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" y="4343400"/>
            <a:ext cx="8229600" cy="160020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685800" y="4130640"/>
            <a:ext cx="449568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41148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국민 주택기금 및 신용보증기금의 활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18730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자산평가가액의 일부를 후순위채로 발행하여 선순위채의 상환 가능성을 향상시키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37" name="a6" descr=""/>
          <p:cNvPicPr/>
          <p:nvPr/>
        </p:nvPicPr>
        <p:blipFill>
          <a:blip r:embed="rId2"/>
          <a:stretch/>
        </p:blipFill>
        <p:spPr>
          <a:xfrm>
            <a:off x="838080" y="1395360"/>
            <a:ext cx="68400" cy="74520"/>
          </a:xfrm>
          <a:prstGeom prst="rect">
            <a:avLst/>
          </a:prstGeom>
          <a:ln w="0">
            <a:noFill/>
          </a:ln>
        </p:spPr>
      </p:pic>
      <p:pic>
        <p:nvPicPr>
          <p:cNvPr id="338" name="a6" descr=""/>
          <p:cNvPicPr/>
          <p:nvPr/>
        </p:nvPicPr>
        <p:blipFill>
          <a:blip r:embed="rId3"/>
          <a:stretch/>
        </p:blipFill>
        <p:spPr>
          <a:xfrm>
            <a:off x="838080" y="2027160"/>
            <a:ext cx="68400" cy="74520"/>
          </a:xfrm>
          <a:prstGeom prst="rect">
            <a:avLst/>
          </a:prstGeom>
          <a:ln w="0">
            <a:noFill/>
          </a:ln>
        </p:spPr>
      </p:pic>
      <p:pic>
        <p:nvPicPr>
          <p:cNvPr id="339" name="a6" descr=""/>
          <p:cNvPicPr/>
          <p:nvPr/>
        </p:nvPicPr>
        <p:blipFill>
          <a:blip r:embed="rId4"/>
          <a:stretch/>
        </p:blipFill>
        <p:spPr>
          <a:xfrm>
            <a:off x="838080" y="4876920"/>
            <a:ext cx="68400" cy="74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99840" y="1219320"/>
            <a:ext cx="32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굴림"/>
              </a:rPr>
              <a:t> </a:t>
            </a:r>
            <a:r>
              <a:rPr b="0" lang="zh-CN" sz="1800" spc="-1" strike="noStrike">
                <a:solidFill>
                  <a:srgbClr val="ffff99"/>
                </a:solidFill>
                <a:latin typeface="굴림"/>
              </a:rPr>
              <a:t>일반적으로 사용되는 </a:t>
            </a:r>
            <a:r>
              <a:rPr b="0" lang="en-US" sz="1800" spc="-1" strike="noStrike">
                <a:solidFill>
                  <a:srgbClr val="ffff99"/>
                </a:solidFill>
                <a:latin typeface="굴림"/>
              </a:rPr>
              <a:t>ABS</a:t>
            </a:r>
            <a:r>
              <a:rPr b="0" lang="zh-CN" sz="1800" spc="-1" strike="noStrike">
                <a:solidFill>
                  <a:srgbClr val="ffff99"/>
                </a:solidFill>
                <a:latin typeface="굴림"/>
              </a:rPr>
              <a:t>의 신용보강 구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838080" y="27432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후순위채는 자산보유자인 건설사에게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return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SPC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의 초과이익을 향유할 수 있는 구조로 설정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(</a:t>
            </a:r>
            <a:r>
              <a:rPr b="0" lang="ko-KR" sz="1800" spc="-1" strike="noStrike" u="sng">
                <a:solidFill>
                  <a:srgbClr val="ffff99"/>
                </a:solidFill>
                <a:uFillTx/>
                <a:latin typeface="굴림"/>
              </a:rPr>
              <a:t>각 건설사 성격별 차등 </a:t>
            </a:r>
            <a:r>
              <a:rPr b="0" lang="ko-KR" sz="1800" spc="-1" strike="noStrike" u="sng">
                <a:solidFill>
                  <a:srgbClr val="ffff99"/>
                </a:solidFill>
                <a:uFillTx/>
                <a:latin typeface="굴림"/>
              </a:rPr>
              <a:t>return</a:t>
            </a:r>
            <a:r>
              <a:rPr b="0" lang="ko-KR" sz="1800" spc="-1" strike="noStrike" u="sng">
                <a:solidFill>
                  <a:srgbClr val="ffff99"/>
                </a:solidFill>
                <a:uFillTx/>
                <a:latin typeface="굴림"/>
              </a:rPr>
              <a:t>도 고려되어야 함</a:t>
            </a:r>
            <a:r>
              <a:rPr b="0" lang="ko-KR" sz="1800" spc="-1" strike="noStrike" u="sng">
                <a:solidFill>
                  <a:srgbClr val="ffff99"/>
                </a:solidFill>
                <a:uFillTx/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42" name="a6" descr=""/>
          <p:cNvPicPr/>
          <p:nvPr/>
        </p:nvPicPr>
        <p:blipFill>
          <a:blip r:embed="rId5"/>
          <a:stretch/>
        </p:blipFill>
        <p:spPr>
          <a:xfrm>
            <a:off x="838080" y="2895480"/>
            <a:ext cx="68400" cy="7488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신그래픽"/>
                <a:ea typeface="신그래픽"/>
              </a:rPr>
              <a:t>- 46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굴림"/>
              </a:rPr>
              <a:t>IV. </a:t>
            </a:r>
            <a:r>
              <a:rPr b="1" lang="zh-CN" sz="4000" spc="-1" strike="noStrike">
                <a:solidFill>
                  <a:srgbClr val="ffff99"/>
                </a:solidFill>
                <a:latin typeface="굴림"/>
              </a:rPr>
              <a:t>발행구조의 </a:t>
            </a:r>
            <a:r>
              <a:rPr b="1" lang="en-US" sz="4000" spc="-1" strike="noStrike">
                <a:solidFill>
                  <a:srgbClr val="ffff99"/>
                </a:solidFill>
                <a:latin typeface="굴림"/>
              </a:rPr>
              <a:t>Simulation </a:t>
            </a:r>
            <a:r>
              <a:rPr b="1" lang="zh-CN" sz="4000" spc="-1" strike="noStrike">
                <a:solidFill>
                  <a:srgbClr val="ffff99"/>
                </a:solidFill>
                <a:latin typeface="굴림"/>
              </a:rPr>
              <a:t>사례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762120" y="2590920"/>
            <a:ext cx="7619760" cy="1066680"/>
          </a:xfrm>
          <a:prstGeom prst="rect">
            <a:avLst/>
          </a:prstGeom>
          <a:noFill/>
          <a:ln w="349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4024440" y="6270120"/>
            <a:ext cx="56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신그래픽"/>
                <a:ea typeface="신그래픽"/>
              </a:rPr>
              <a:t>- </a:t>
            </a:r>
            <a:r>
              <a:rPr b="0" lang="en-US" sz="1000" spc="-1" strike="noStrike">
                <a:solidFill>
                  <a:srgbClr val="ffff00"/>
                </a:solidFill>
                <a:latin typeface="신그래픽"/>
                <a:ea typeface="신그래픽"/>
              </a:rPr>
              <a:t>47</a:t>
            </a:r>
            <a:r>
              <a:rPr b="0" lang="en-US" sz="1600" spc="-1" strike="noStrike">
                <a:solidFill>
                  <a:srgbClr val="ffff00"/>
                </a:solidFill>
                <a:latin typeface="신그래픽"/>
                <a:ea typeface="신그래픽"/>
              </a:rPr>
              <a:t> 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04920" y="6094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ffff99"/>
                </a:solidFill>
                <a:latin typeface="굴림"/>
              </a:rPr>
              <a:t>주공의 자산인수가격 추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304920" y="1523880"/>
            <a:ext cx="8534160" cy="487692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685800" y="1295280"/>
            <a:ext cx="205740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838080" y="12952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발행구조 가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533520" y="3200400"/>
            <a:ext cx="807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2" name="a6" descr=""/>
          <p:cNvPicPr/>
          <p:nvPr/>
        </p:nvPicPr>
        <p:blipFill>
          <a:blip r:embed="rId2"/>
          <a:stretch/>
        </p:blipFill>
        <p:spPr>
          <a:xfrm>
            <a:off x="617400" y="1981080"/>
            <a:ext cx="68400" cy="74880"/>
          </a:xfrm>
          <a:prstGeom prst="rect">
            <a:avLst/>
          </a:prstGeom>
          <a:ln w="0">
            <a:noFill/>
          </a:ln>
        </p:spPr>
      </p:pic>
      <p:pic>
        <p:nvPicPr>
          <p:cNvPr id="353" name="a6" descr=""/>
          <p:cNvPicPr/>
          <p:nvPr/>
        </p:nvPicPr>
        <p:blipFill>
          <a:blip r:embed="rId3"/>
          <a:stretch/>
        </p:blipFill>
        <p:spPr>
          <a:xfrm>
            <a:off x="617400" y="2440080"/>
            <a:ext cx="68400" cy="745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477720" y="1843200"/>
            <a:ext cx="67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발행구조는 편의상 선순위채 단일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Tranche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로 설정하여 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" y="3595680"/>
            <a:ext cx="811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주공의 유동화자산 인수가격은 만기시점 당시 선순위채 상환부족액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>
            <a:off x="609480" y="2286000"/>
            <a:ext cx="79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상기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Tranche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에 있어 건설경기 호전시에는 건설사에  전부 또는 부분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Call Option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부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7" name="a6" descr=""/>
          <p:cNvPicPr/>
          <p:nvPr/>
        </p:nvPicPr>
        <p:blipFill>
          <a:blip r:embed="rId4"/>
          <a:stretch/>
        </p:blipFill>
        <p:spPr>
          <a:xfrm>
            <a:off x="617400" y="3125880"/>
            <a:ext cx="68400" cy="74520"/>
          </a:xfrm>
          <a:prstGeom prst="rect">
            <a:avLst/>
          </a:prstGeom>
          <a:ln w="0">
            <a:noFill/>
          </a:ln>
        </p:spPr>
      </p:pic>
      <p:pic>
        <p:nvPicPr>
          <p:cNvPr id="358" name="a6" descr=""/>
          <p:cNvPicPr/>
          <p:nvPr/>
        </p:nvPicPr>
        <p:blipFill>
          <a:blip r:embed="rId5"/>
          <a:stretch/>
        </p:blipFill>
        <p:spPr>
          <a:xfrm>
            <a:off x="617400" y="3733920"/>
            <a:ext cx="68400" cy="7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9" name=""/>
          <p:cNvGraphicFramePr/>
          <p:nvPr/>
        </p:nvGraphicFramePr>
        <p:xfrm>
          <a:off x="838080" y="4773600"/>
          <a:ext cx="7391520" cy="1474920"/>
        </p:xfrm>
        <a:graphic>
          <a:graphicData uri="http://schemas.openxmlformats.org/drawingml/2006/table">
            <a:tbl>
              <a:tblPr/>
              <a:tblGrid>
                <a:gridCol w="990720"/>
                <a:gridCol w="761760"/>
                <a:gridCol w="762120"/>
                <a:gridCol w="1143000"/>
                <a:gridCol w="1981080"/>
                <a:gridCol w="762120"/>
                <a:gridCol w="990720"/>
              </a:tblGrid>
              <a:tr h="383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구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발행금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신용등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발행수익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만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이자지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1</a:t>
                      </a:r>
                      <a:r>
                        <a:rPr b="1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선순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AA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7.8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단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후순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선순위 배당후 참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"/>
          <p:cNvSpPr/>
          <p:nvPr/>
        </p:nvSpPr>
        <p:spPr>
          <a:xfrm>
            <a:off x="457200" y="40068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99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완공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APT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인 만큼 만기상환원리금은 임대를 통한 재투자수익을 계산해야하나 배제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61" name="a6" descr=""/>
          <p:cNvPicPr/>
          <p:nvPr/>
        </p:nvPicPr>
        <p:blipFill>
          <a:blip r:embed="rId6"/>
          <a:stretch/>
        </p:blipFill>
        <p:spPr>
          <a:xfrm>
            <a:off x="617400" y="4192560"/>
            <a:ext cx="68400" cy="745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609480" y="297180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주공의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Buy-back Guarantee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는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SPC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의 선순위채 만기 전 일정 기준  시점에 상환부족이 예상되는 경우로 가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4046400" y="6369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신그래픽"/>
                <a:ea typeface="신그래픽"/>
              </a:rPr>
              <a:t>- 48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457200" y="2117880"/>
          <a:ext cx="8229600" cy="3978000"/>
        </p:xfrm>
        <a:graphic>
          <a:graphicData uri="http://schemas.openxmlformats.org/drawingml/2006/table">
            <a:tbl>
              <a:tblPr/>
              <a:tblGrid>
                <a:gridCol w="1447920"/>
                <a:gridCol w="1371600"/>
                <a:gridCol w="1447560"/>
                <a:gridCol w="1295640"/>
                <a:gridCol w="1218960"/>
                <a:gridCol w="144792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분양</a:t>
                      </a: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(</a:t>
                      </a:r>
                      <a:r>
                        <a:rPr b="1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매각</a:t>
                      </a: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)</a:t>
                      </a:r>
                      <a:r>
                        <a:rPr b="1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원금</a:t>
                      </a:r>
                      <a:r>
                        <a:rPr b="1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이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만기상환분</a:t>
                      </a:r>
                      <a:r>
                        <a:rPr b="1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잔여물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선순위상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부족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인수가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분양가 대비인수가격비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80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70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70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78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80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8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60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60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76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80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7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50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50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72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80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40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40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68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80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30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30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61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80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20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20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52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7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80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10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10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36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8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80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0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0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4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80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-9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-9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건설사 배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80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-19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-19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건설사 배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5" name=""/>
          <p:cNvSpPr/>
          <p:nvPr/>
        </p:nvSpPr>
        <p:spPr>
          <a:xfrm>
            <a:off x="762120" y="990720"/>
            <a:ext cx="266688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914400" y="9748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선순위 발행금액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신그래픽"/>
                <a:ea typeface="신그래픽"/>
              </a:rPr>
              <a:t>- 49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762120" y="990720"/>
            <a:ext cx="266688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914400" y="974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선순위 발행금액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57200" y="2117880"/>
          <a:ext cx="8305920" cy="39780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295280"/>
                <a:gridCol w="1371600"/>
                <a:gridCol w="1219320"/>
                <a:gridCol w="167652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분양</a:t>
                      </a: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(</a:t>
                      </a:r>
                      <a:r>
                        <a:rPr b="1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매각</a:t>
                      </a: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)</a:t>
                      </a:r>
                      <a:r>
                        <a:rPr b="1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원금</a:t>
                      </a:r>
                      <a:r>
                        <a:rPr b="1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이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만기상환분</a:t>
                      </a:r>
                      <a:r>
                        <a:rPr b="1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잔여물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선순위상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부족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인수가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분양가대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인수가격비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92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82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82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91.6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92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8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72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72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90.6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92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7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62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62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89.2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92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52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52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87.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92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42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42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85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92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32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32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81.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7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92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22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22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75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8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92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12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12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62.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92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2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2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25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92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-7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-7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건설사배당가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신그래픽"/>
                <a:ea typeface="신그래픽"/>
              </a:rPr>
              <a:t>- 50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굴림"/>
              </a:rPr>
              <a:t>V. </a:t>
            </a:r>
            <a:r>
              <a:rPr b="1" lang="zh-CN" sz="4000" spc="-1" strike="noStrike">
                <a:solidFill>
                  <a:srgbClr val="ffff99"/>
                </a:solidFill>
                <a:latin typeface="굴림"/>
              </a:rPr>
              <a:t>조세관련 검토사항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1828800" y="2590920"/>
            <a:ext cx="5562720" cy="990360"/>
          </a:xfrm>
          <a:prstGeom prst="rect">
            <a:avLst/>
          </a:prstGeom>
          <a:noFill/>
          <a:ln w="349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신그래픽"/>
                <a:ea typeface="신그래픽"/>
              </a:rPr>
              <a:t>- 51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44200" y="2514240"/>
            <a:ext cx="753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굴림"/>
              </a:rPr>
              <a:t>I. </a:t>
            </a:r>
            <a:r>
              <a:rPr b="1" lang="zh-CN" sz="4000" spc="-1" strike="noStrike">
                <a:solidFill>
                  <a:srgbClr val="ffff99"/>
                </a:solidFill>
                <a:latin typeface="굴림"/>
              </a:rPr>
              <a:t>검토배경 및 목적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2590920"/>
            <a:ext cx="4876560" cy="1066680"/>
          </a:xfrm>
          <a:prstGeom prst="rect">
            <a:avLst/>
          </a:prstGeom>
          <a:noFill/>
          <a:ln w="349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신그래픽"/>
                <a:ea typeface="신그래픽"/>
              </a:rPr>
              <a:t>- 25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380880" y="1676520"/>
          <a:ext cx="8305920" cy="4572000"/>
        </p:xfrm>
        <a:graphic>
          <a:graphicData uri="http://schemas.openxmlformats.org/drawingml/2006/table">
            <a:tbl>
              <a:tblPr/>
              <a:tblGrid>
                <a:gridCol w="1524240"/>
                <a:gridCol w="2361960"/>
                <a:gridCol w="441972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구 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자산보유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S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SPC</a:t>
                      </a:r>
                      <a:r>
                        <a:rPr b="0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설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세무상 특수관계 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유동화자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양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취득세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면세 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조감법 제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119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조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등록세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면세 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조감법 제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120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조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ff99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국민주택채권 매입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주택건설촉진법 제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16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조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자산보유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후순위채인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부당행위 계산의 부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(</a:t>
                      </a:r>
                      <a:r>
                        <a:rPr b="0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자산보유자와 </a:t>
                      </a: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SPC</a:t>
                      </a:r>
                      <a:r>
                        <a:rPr b="0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간</a:t>
                      </a: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213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SPC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유동화 자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보유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ffff99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종합토지세 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토지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) : 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과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ff99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재산세 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건물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) : 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과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ff99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도시계획세 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토지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건물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) : 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과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ff99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공동시설세 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건물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) : 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과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ff99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기타 법인세 관련 조세문제 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: SPC 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유동화자산인 미분양아파트를 임대 및 처분하는 것은 그 고유업무에 사용한 것으로 볼 수 있을 것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6" name=""/>
          <p:cNvSpPr/>
          <p:nvPr/>
        </p:nvSpPr>
        <p:spPr>
          <a:xfrm>
            <a:off x="380880" y="762120"/>
            <a:ext cx="45720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266760" y="685800"/>
            <a:ext cx="4457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304920" y="685800"/>
            <a:ext cx="35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자산보유자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SPC (1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신그래픽"/>
                <a:ea typeface="신그래픽"/>
              </a:rPr>
              <a:t>- 52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380880" y="1066680"/>
          <a:ext cx="8305920" cy="5329440"/>
        </p:xfrm>
        <a:graphic>
          <a:graphicData uri="http://schemas.openxmlformats.org/drawingml/2006/table">
            <a:tbl>
              <a:tblPr/>
              <a:tblGrid>
                <a:gridCol w="1295640"/>
                <a:gridCol w="289548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구 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자산보유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S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214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SPC</a:t>
                      </a:r>
                      <a:r>
                        <a:rPr b="0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부동산 처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ffff99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취득일로부터 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년 이내 양도하면 양도차익에 대한 특별부가세의 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50% 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감면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농어촌특별세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ff99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건물양도에 대한 부가가치세는 부동산처분이 자산유동화 전문화사업에 해당한다면 면세될것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ff99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부동산의 제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3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자 양도시 정상가액보다 저가인 경우 기부금의제 문제가 발생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137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SPC</a:t>
                      </a:r>
                      <a:r>
                        <a:rPr b="0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의 청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(</a:t>
                      </a:r>
                      <a:r>
                        <a:rPr b="0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잔여재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분배</a:t>
                      </a: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ffff99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의제배당에 대한 법인세 부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ff99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현물분배 받는 경우 원칙적으로 당해 부동산에 대해 취득세와 등록세 부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ffff99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청산소득에 대한 법인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ff99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양도차익에 대한 특별부가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144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하자담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책임으로서의 환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취득세</a:t>
                      </a: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등록세 부과여부는 하자담보책임의 이행으로서의 환매를 형식적인 취득으로 볼 것인가의 문제이며 형식적인 취득으로 본다면 비과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ffff99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"/>
          <p:cNvSpPr/>
          <p:nvPr/>
        </p:nvSpPr>
        <p:spPr>
          <a:xfrm>
            <a:off x="380880" y="457200"/>
            <a:ext cx="45720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266760" y="380880"/>
            <a:ext cx="4457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304920" y="380880"/>
            <a:ext cx="35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자산보유자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SPC (2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신그래픽"/>
                <a:ea typeface="신그래픽"/>
              </a:rPr>
              <a:t>- 53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457200" y="91440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굴림"/>
              </a:rPr>
              <a:t>- </a:t>
            </a:r>
            <a:r>
              <a:rPr b="0" lang="zh-CN" sz="1600" spc="-1" strike="noStrike">
                <a:solidFill>
                  <a:srgbClr val="ffff99"/>
                </a:solidFill>
                <a:latin typeface="굴림"/>
              </a:rPr>
              <a:t>기본적으로 주공이 </a:t>
            </a:r>
            <a:r>
              <a:rPr b="0" lang="en-US" sz="1600" spc="-1" strike="noStrike">
                <a:solidFill>
                  <a:srgbClr val="ffff99"/>
                </a:solidFill>
                <a:latin typeface="굴림"/>
              </a:rPr>
              <a:t>SPC </a:t>
            </a:r>
            <a:r>
              <a:rPr b="0" lang="zh-CN" sz="1600" spc="-1" strike="noStrike">
                <a:solidFill>
                  <a:srgbClr val="ffff99"/>
                </a:solidFill>
                <a:latin typeface="굴림"/>
              </a:rPr>
              <a:t>출자자</a:t>
            </a:r>
            <a:r>
              <a:rPr b="0" lang="en-US" sz="1600" spc="-1" strike="noStrike">
                <a:solidFill>
                  <a:srgbClr val="ffff99"/>
                </a:solidFill>
                <a:latin typeface="굴림"/>
              </a:rPr>
              <a:t>(</a:t>
            </a:r>
            <a:r>
              <a:rPr b="0" lang="zh-CN" sz="1600" spc="-1" strike="noStrike">
                <a:solidFill>
                  <a:srgbClr val="ffff99"/>
                </a:solidFill>
                <a:latin typeface="굴림"/>
              </a:rPr>
              <a:t>주주</a:t>
            </a:r>
            <a:r>
              <a:rPr b="0" lang="en-US" sz="1600" spc="-1" strike="noStrike">
                <a:solidFill>
                  <a:srgbClr val="ffff99"/>
                </a:solidFill>
                <a:latin typeface="굴림"/>
              </a:rPr>
              <a:t>)</a:t>
            </a:r>
            <a:r>
              <a:rPr b="0" lang="zh-CN" sz="1600" spc="-1" strike="noStrike">
                <a:solidFill>
                  <a:srgbClr val="ffff99"/>
                </a:solidFill>
                <a:latin typeface="굴림"/>
              </a:rPr>
              <a:t>가 아니면 특별히 문제될 것이 없을 것으로 보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457200"/>
            <a:ext cx="45720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>
            <a:off x="266760" y="380880"/>
            <a:ext cx="4457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80880"/>
            <a:ext cx="35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자산관리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주공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SP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380880" y="1523880"/>
          <a:ext cx="8305920" cy="4724640"/>
        </p:xfrm>
        <a:graphic>
          <a:graphicData uri="http://schemas.openxmlformats.org/drawingml/2006/table">
            <a:tbl>
              <a:tblPr/>
              <a:tblGrid>
                <a:gridCol w="1295640"/>
                <a:gridCol w="3200400"/>
                <a:gridCol w="3809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구 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자산관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S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153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자산관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수수료 취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ffff99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자산관리자가 </a:t>
                      </a: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SPC </a:t>
                      </a:r>
                      <a:r>
                        <a:rPr b="0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출자자인 경우 부당행위계산의 부인이 문제될 수 있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ff99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자산유동화법에 의한 자산관리자인경우 부가가치세는 면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ffff99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137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Buy-b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Guaran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ffff99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부당행위 계산의 부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ff99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취득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ff99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등록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* 60</a:t>
                      </a:r>
                      <a:r>
                        <a:rPr b="0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㎡ 이하는 세금감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ffff99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저가 양도시 기부금의제 문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ff99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특별부가세 및 법인세 등은 양도차익을 기대하기 어려우므로 문제 없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144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잔여재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분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- </a:t>
                      </a:r>
                      <a:r>
                        <a:rPr b="0" lang="zh-CN" sz="1600" spc="-1" strike="noStrike">
                          <a:solidFill>
                            <a:srgbClr val="ffff99"/>
                          </a:solidFill>
                          <a:latin typeface="굴림"/>
                        </a:rPr>
                        <a:t>출자자 아닌 경우 문제 없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0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신그래픽"/>
                <a:ea typeface="신그래픽"/>
              </a:rPr>
              <a:t>- 54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굴림"/>
              </a:rPr>
              <a:t>VI. </a:t>
            </a:r>
            <a:r>
              <a:rPr b="1" lang="zh-CN" sz="4000" spc="-1" strike="noStrike">
                <a:solidFill>
                  <a:srgbClr val="ffff99"/>
                </a:solidFill>
                <a:latin typeface="굴림"/>
              </a:rPr>
              <a:t>참여기관별 효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>
            <a:off x="2057400" y="2590920"/>
            <a:ext cx="5105520" cy="990360"/>
          </a:xfrm>
          <a:prstGeom prst="rect">
            <a:avLst/>
          </a:prstGeom>
          <a:noFill/>
          <a:ln w="349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신그래픽"/>
                <a:ea typeface="신그래픽"/>
              </a:rPr>
              <a:t>- 55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68160" y="5248440"/>
            <a:ext cx="7010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99"/>
                </a:solidFill>
                <a:latin typeface="굴림"/>
              </a:rPr>
              <a:t>국민주택기금</a:t>
            </a:r>
            <a:r>
              <a:rPr b="0" lang="en-US" sz="1800" spc="-1" strike="noStrike">
                <a:solidFill>
                  <a:srgbClr val="ffff99"/>
                </a:solidFill>
                <a:latin typeface="굴림"/>
              </a:rPr>
              <a:t>/</a:t>
            </a:r>
            <a:r>
              <a:rPr b="0" lang="zh-CN" sz="1800" spc="-1" strike="noStrike">
                <a:solidFill>
                  <a:srgbClr val="ffff99"/>
                </a:solidFill>
                <a:latin typeface="굴림"/>
              </a:rPr>
              <a:t>신용보증기금의 참여를 통한 주공의 부담 완화 고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" y="1168560"/>
            <a:ext cx="8534520" cy="487656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>
            <a:off x="419040" y="990720"/>
            <a:ext cx="4572000" cy="406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>
            <a:off x="304920" y="914400"/>
            <a:ext cx="4457520" cy="406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343080" y="914400"/>
            <a:ext cx="35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대한주택공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>
            <a:off x="380880" y="1728720"/>
            <a:ext cx="82296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굴림"/>
              </a:rPr>
              <a:t>    </a:t>
            </a:r>
            <a:r>
              <a:rPr b="0" lang="zh-CN" sz="1800" spc="-1" strike="noStrike">
                <a:solidFill>
                  <a:srgbClr val="ffff99"/>
                </a:solidFill>
                <a:latin typeface="굴림"/>
              </a:rPr>
              <a:t>임대주택의 저가확보 및 조기공급이 가능함에 따라 전</a:t>
            </a:r>
            <a:r>
              <a:rPr b="0" lang="en-US" sz="1800" spc="-1" strike="noStrike">
                <a:solidFill>
                  <a:srgbClr val="ffff99"/>
                </a:solidFill>
                <a:latin typeface="굴림"/>
              </a:rPr>
              <a:t>·</a:t>
            </a:r>
            <a:r>
              <a:rPr b="0" lang="zh-CN" sz="1800" spc="-1" strike="noStrike">
                <a:solidFill>
                  <a:srgbClr val="ffff99"/>
                </a:solidFill>
                <a:latin typeface="굴림"/>
              </a:rPr>
              <a:t>월세 가격안정을 위한 주공의 역할증대 및 민간 건설업체의 자금난 해소 지원을 통한 주택 정책 집행기관으로서의 위상 제고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380880" y="3476520"/>
            <a:ext cx="8001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굴림"/>
              </a:rPr>
              <a:t>   </a:t>
            </a:r>
            <a:r>
              <a:rPr b="0" lang="zh-CN" sz="1800" spc="-1" strike="noStrike">
                <a:solidFill>
                  <a:srgbClr val="ffff99"/>
                </a:solidFill>
                <a:latin typeface="굴림"/>
              </a:rPr>
              <a:t>부동산 금융시장의 활성화 촉진 및 주택수급조절 등 새로운 기능수행으로 업무영역 확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457200" y="433692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굴림"/>
              </a:rPr>
              <a:t>   </a:t>
            </a:r>
            <a:r>
              <a:rPr b="0" lang="zh-CN" sz="1800" spc="-1" strike="noStrike">
                <a:solidFill>
                  <a:srgbClr val="ffff99"/>
                </a:solidFill>
                <a:latin typeface="굴림"/>
              </a:rPr>
              <a:t>주택공급의 방법을 다양화하고</a:t>
            </a:r>
            <a:r>
              <a:rPr b="0" lang="en-US" sz="1800" spc="-1" strike="noStrike">
                <a:solidFill>
                  <a:srgbClr val="ffff99"/>
                </a:solidFill>
                <a:latin typeface="굴림"/>
              </a:rPr>
              <a:t>, </a:t>
            </a:r>
            <a:r>
              <a:rPr b="0" lang="zh-CN" sz="1800" spc="-1" strike="noStrike">
                <a:solidFill>
                  <a:srgbClr val="ffff99"/>
                </a:solidFill>
                <a:latin typeface="굴림"/>
              </a:rPr>
              <a:t>직접건축 보다 상대적인 </a:t>
            </a:r>
            <a:r>
              <a:rPr b="0" lang="en-US" sz="1800" spc="-1" strike="noStrike">
                <a:solidFill>
                  <a:srgbClr val="ffff99"/>
                </a:solidFill>
                <a:latin typeface="굴림"/>
              </a:rPr>
              <a:t>Risk </a:t>
            </a:r>
            <a:r>
              <a:rPr b="0" lang="zh-CN" sz="1800" spc="-1" strike="noStrike">
                <a:solidFill>
                  <a:srgbClr val="ffff99"/>
                </a:solidFill>
                <a:latin typeface="굴림"/>
              </a:rPr>
              <a:t>회피 및 비용절감이 용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02" name="a6" descr=""/>
          <p:cNvPicPr/>
          <p:nvPr/>
        </p:nvPicPr>
        <p:blipFill>
          <a:blip r:embed="rId2"/>
          <a:stretch/>
        </p:blipFill>
        <p:spPr>
          <a:xfrm>
            <a:off x="617400" y="1854360"/>
            <a:ext cx="68400" cy="74520"/>
          </a:xfrm>
          <a:prstGeom prst="rect">
            <a:avLst/>
          </a:prstGeom>
          <a:ln w="0">
            <a:noFill/>
          </a:ln>
        </p:spPr>
      </p:pic>
      <p:pic>
        <p:nvPicPr>
          <p:cNvPr id="403" name="a6" descr=""/>
          <p:cNvPicPr/>
          <p:nvPr/>
        </p:nvPicPr>
        <p:blipFill>
          <a:blip r:embed="rId3"/>
          <a:stretch/>
        </p:blipFill>
        <p:spPr>
          <a:xfrm>
            <a:off x="609480" y="3606840"/>
            <a:ext cx="68400" cy="74520"/>
          </a:xfrm>
          <a:prstGeom prst="rect">
            <a:avLst/>
          </a:prstGeom>
          <a:ln w="0">
            <a:noFill/>
          </a:ln>
        </p:spPr>
      </p:pic>
      <p:pic>
        <p:nvPicPr>
          <p:cNvPr id="404" name="a6" descr=""/>
          <p:cNvPicPr/>
          <p:nvPr/>
        </p:nvPicPr>
        <p:blipFill>
          <a:blip r:embed="rId4"/>
          <a:stretch/>
        </p:blipFill>
        <p:spPr>
          <a:xfrm>
            <a:off x="609480" y="4444920"/>
            <a:ext cx="68400" cy="74520"/>
          </a:xfrm>
          <a:prstGeom prst="rect">
            <a:avLst/>
          </a:prstGeom>
          <a:ln w="0">
            <a:noFill/>
          </a:ln>
        </p:spPr>
      </p:pic>
      <p:pic>
        <p:nvPicPr>
          <p:cNvPr id="405" name="a6" descr=""/>
          <p:cNvPicPr/>
          <p:nvPr/>
        </p:nvPicPr>
        <p:blipFill>
          <a:blip r:embed="rId5"/>
          <a:stretch/>
        </p:blipFill>
        <p:spPr>
          <a:xfrm>
            <a:off x="609480" y="5359320"/>
            <a:ext cx="68400" cy="74520"/>
          </a:xfrm>
          <a:prstGeom prst="rect">
            <a:avLst/>
          </a:prstGeom>
          <a:ln w="0">
            <a:noFill/>
          </a:ln>
        </p:spPr>
      </p:pic>
      <p:pic>
        <p:nvPicPr>
          <p:cNvPr id="406" name="a6" descr=""/>
          <p:cNvPicPr/>
          <p:nvPr/>
        </p:nvPicPr>
        <p:blipFill>
          <a:blip r:embed="rId6"/>
          <a:stretch/>
        </p:blipFill>
        <p:spPr>
          <a:xfrm>
            <a:off x="609480" y="2844720"/>
            <a:ext cx="68400" cy="745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533520" y="2692440"/>
            <a:ext cx="7848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굴림"/>
              </a:rPr>
              <a:t>  </a:t>
            </a:r>
            <a:r>
              <a:rPr b="0" lang="zh-CN" sz="1800" spc="-1" strike="noStrike">
                <a:solidFill>
                  <a:srgbClr val="ffff99"/>
                </a:solidFill>
                <a:latin typeface="굴림"/>
              </a:rPr>
              <a:t>주택정책의 </a:t>
            </a:r>
            <a:r>
              <a:rPr b="0" lang="en-US" sz="1800" spc="-1" strike="noStrike">
                <a:solidFill>
                  <a:srgbClr val="ffff99"/>
                </a:solidFill>
                <a:latin typeface="굴림"/>
              </a:rPr>
              <a:t>Know-How</a:t>
            </a:r>
            <a:r>
              <a:rPr b="0" lang="zh-CN" sz="1800" spc="-1" strike="noStrike">
                <a:solidFill>
                  <a:srgbClr val="ffff99"/>
                </a:solidFill>
                <a:latin typeface="굴림"/>
              </a:rPr>
              <a:t>를 적극적으로 활용</a:t>
            </a:r>
            <a:r>
              <a:rPr b="0" lang="en-US" sz="1800" spc="-1" strike="noStrike">
                <a:solidFill>
                  <a:srgbClr val="ffff99"/>
                </a:solidFill>
                <a:latin typeface="굴림"/>
              </a:rPr>
              <a:t>, </a:t>
            </a:r>
            <a:r>
              <a:rPr b="0" lang="zh-CN" sz="1800" spc="-1" strike="noStrike">
                <a:solidFill>
                  <a:srgbClr val="ffff99"/>
                </a:solidFill>
                <a:latin typeface="굴림"/>
              </a:rPr>
              <a:t>자산관리자로서의 </a:t>
            </a:r>
            <a:r>
              <a:rPr b="0" lang="en-US" sz="1800" spc="-1" strike="noStrike">
                <a:solidFill>
                  <a:srgbClr val="ffff99"/>
                </a:solidFill>
                <a:latin typeface="굴림"/>
              </a:rPr>
              <a:t>Incentive </a:t>
            </a:r>
            <a:r>
              <a:rPr b="0" lang="zh-CN" sz="1800" spc="-1" strike="noStrike">
                <a:solidFill>
                  <a:srgbClr val="ffff99"/>
                </a:solidFill>
                <a:latin typeface="굴림"/>
              </a:rPr>
              <a:t>획득 및 건설경기 회복의 견인차 역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신그래픽"/>
                <a:ea typeface="신그래픽"/>
              </a:rPr>
              <a:t>- 56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박정선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228600" y="1625760"/>
            <a:ext cx="8534520" cy="327636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>
            <a:off x="419040" y="1447920"/>
            <a:ext cx="4572000" cy="406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304920" y="1371600"/>
            <a:ext cx="4457520" cy="406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>
            <a:off x="343080" y="1371600"/>
            <a:ext cx="35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민간 건설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654120" y="2454120"/>
            <a:ext cx="60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99"/>
                </a:solidFill>
                <a:latin typeface="굴림"/>
              </a:rPr>
              <a:t>전통적인 조달 방법에서 탈피</a:t>
            </a:r>
            <a:r>
              <a:rPr b="0" lang="en-US" sz="1800" spc="-1" strike="noStrike">
                <a:solidFill>
                  <a:srgbClr val="ffff99"/>
                </a:solidFill>
                <a:latin typeface="굴림"/>
              </a:rPr>
              <a:t>, </a:t>
            </a:r>
            <a:r>
              <a:rPr b="0" lang="zh-CN" sz="1800" spc="-1" strike="noStrike">
                <a:solidFill>
                  <a:srgbClr val="ffff99"/>
                </a:solidFill>
                <a:latin typeface="굴림"/>
              </a:rPr>
              <a:t>자금조달 방법의 다양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>
            <a:off x="1948680" y="3164040"/>
            <a:ext cx="43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99"/>
                </a:solidFill>
                <a:latin typeface="굴림"/>
              </a:rPr>
              <a:t>자금조달시장의 장기침체로 인한 자금조달의 어려움 및 부담 완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384984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99"/>
                </a:solidFill>
                <a:latin typeface="굴림"/>
              </a:rPr>
              <a:t>건설업체의 투자자금 회수를 통한 신규건설시장 참여기회 확대로 건설 경기 회복에 따른 중소업체의 연쇄효과 기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7" name="a6" descr=""/>
          <p:cNvPicPr/>
          <p:nvPr/>
        </p:nvPicPr>
        <p:blipFill>
          <a:blip r:embed="rId2"/>
          <a:stretch/>
        </p:blipFill>
        <p:spPr>
          <a:xfrm>
            <a:off x="533520" y="2630520"/>
            <a:ext cx="68040" cy="68400"/>
          </a:xfrm>
          <a:prstGeom prst="rect">
            <a:avLst/>
          </a:prstGeom>
          <a:ln w="0">
            <a:noFill/>
          </a:ln>
        </p:spPr>
      </p:pic>
      <p:pic>
        <p:nvPicPr>
          <p:cNvPr id="418" name="a6" descr=""/>
          <p:cNvPicPr/>
          <p:nvPr/>
        </p:nvPicPr>
        <p:blipFill>
          <a:blip r:embed="rId3"/>
          <a:stretch/>
        </p:blipFill>
        <p:spPr>
          <a:xfrm>
            <a:off x="533520" y="3316320"/>
            <a:ext cx="68040" cy="68400"/>
          </a:xfrm>
          <a:prstGeom prst="rect">
            <a:avLst/>
          </a:prstGeom>
          <a:ln w="0">
            <a:noFill/>
          </a:ln>
        </p:spPr>
      </p:pic>
      <p:pic>
        <p:nvPicPr>
          <p:cNvPr id="419" name="a6" descr=""/>
          <p:cNvPicPr/>
          <p:nvPr/>
        </p:nvPicPr>
        <p:blipFill>
          <a:blip r:embed="rId4"/>
          <a:stretch/>
        </p:blipFill>
        <p:spPr>
          <a:xfrm>
            <a:off x="533520" y="4002120"/>
            <a:ext cx="68040" cy="684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신그래픽"/>
                <a:ea typeface="신그래픽"/>
              </a:rPr>
              <a:t>- 57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43080" y="2057400"/>
            <a:ext cx="8458200" cy="15238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647640" y="2438280"/>
            <a:ext cx="815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99"/>
                </a:solidFill>
                <a:latin typeface="굴림"/>
              </a:rPr>
              <a:t>부동산 경기침체로 인한 미분양아파트 과다보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99"/>
                </a:solidFill>
                <a:latin typeface="굴림"/>
              </a:rPr>
              <a:t>자산가격상승 기대난으로 주택구매 수요 급감과 상대적인 전</a:t>
            </a:r>
            <a:r>
              <a:rPr b="0" lang="en-US" sz="1800" spc="-1" strike="noStrike">
                <a:solidFill>
                  <a:srgbClr val="ffff99"/>
                </a:solidFill>
                <a:latin typeface="굴림"/>
              </a:rPr>
              <a:t>·</a:t>
            </a:r>
            <a:r>
              <a:rPr b="0" lang="zh-CN" sz="1800" spc="-1" strike="noStrike">
                <a:solidFill>
                  <a:srgbClr val="ffff99"/>
                </a:solidFill>
                <a:latin typeface="굴림"/>
              </a:rPr>
              <a:t>월세 수요 증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43080" y="4343400"/>
            <a:ext cx="8458200" cy="144792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647640" y="4664160"/>
            <a:ext cx="784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99"/>
                </a:solidFill>
                <a:latin typeface="굴림"/>
              </a:rPr>
              <a:t>건설업종의 </a:t>
            </a:r>
            <a:r>
              <a:rPr b="0" lang="en-US" sz="1800" spc="-1" strike="noStrike">
                <a:solidFill>
                  <a:srgbClr val="ffff99"/>
                </a:solidFill>
                <a:latin typeface="굴림"/>
              </a:rPr>
              <a:t>Primary CBO</a:t>
            </a:r>
            <a:r>
              <a:rPr b="0" lang="zh-CN" sz="1800" spc="-1" strike="noStrike">
                <a:solidFill>
                  <a:srgbClr val="ffff99"/>
                </a:solidFill>
                <a:latin typeface="굴림"/>
              </a:rPr>
              <a:t>편입비율 과소</a:t>
            </a:r>
            <a:r>
              <a:rPr b="0" lang="en-US" sz="1800" spc="-1" strike="noStrike">
                <a:solidFill>
                  <a:srgbClr val="ffff99"/>
                </a:solidFill>
                <a:latin typeface="굴림"/>
              </a:rPr>
              <a:t>: 7%</a:t>
            </a:r>
            <a:r>
              <a:rPr b="0" lang="zh-CN" sz="1800" spc="-1" strike="noStrike">
                <a:solidFill>
                  <a:srgbClr val="ffff99"/>
                </a:solidFill>
                <a:latin typeface="굴림"/>
              </a:rPr>
              <a:t>이내 </a:t>
            </a:r>
            <a:r>
              <a:rPr b="0" lang="en-US" sz="1800" spc="-1" strike="noStrike">
                <a:solidFill>
                  <a:srgbClr val="ffff99"/>
                </a:solidFill>
                <a:latin typeface="굴림"/>
              </a:rPr>
              <a:t>(</a:t>
            </a:r>
            <a:r>
              <a:rPr b="0" lang="zh-CN" sz="1800" spc="-1" strike="noStrike">
                <a:solidFill>
                  <a:srgbClr val="ffff99"/>
                </a:solidFill>
                <a:latin typeface="굴림"/>
              </a:rPr>
              <a:t>신용보증기금보증</a:t>
            </a:r>
            <a:r>
              <a:rPr b="0" lang="en-US" sz="1800" spc="-1" strike="noStrike">
                <a:solidFill>
                  <a:srgbClr val="ffff99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굴림"/>
              </a:rPr>
              <a:t>BB</a:t>
            </a:r>
            <a:r>
              <a:rPr b="0" lang="zh-CN" sz="1800" spc="-1" strike="noStrike">
                <a:solidFill>
                  <a:srgbClr val="ffff99"/>
                </a:solidFill>
                <a:latin typeface="굴림"/>
              </a:rPr>
              <a:t>이하의 신용등급보유 건설업체의 경우 참여 제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19040" y="914400"/>
            <a:ext cx="19051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838080"/>
            <a:ext cx="18669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343080" y="82224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검토 배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723960" y="1828800"/>
            <a:ext cx="480060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723960" y="4130640"/>
            <a:ext cx="480060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800280" y="41148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건설업체 자금난 지원을 위한 정부정책 한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" name="a6" descr=""/>
          <p:cNvPicPr/>
          <p:nvPr/>
        </p:nvPicPr>
        <p:blipFill>
          <a:blip r:embed="rId2"/>
          <a:stretch/>
        </p:blipFill>
        <p:spPr>
          <a:xfrm>
            <a:off x="571680" y="2590920"/>
            <a:ext cx="68040" cy="68040"/>
          </a:xfrm>
          <a:prstGeom prst="rect">
            <a:avLst/>
          </a:prstGeom>
          <a:ln w="0">
            <a:noFill/>
          </a:ln>
        </p:spPr>
      </p:pic>
      <p:pic>
        <p:nvPicPr>
          <p:cNvPr id="66" name="a6" descr=""/>
          <p:cNvPicPr/>
          <p:nvPr/>
        </p:nvPicPr>
        <p:blipFill>
          <a:blip r:embed="rId3"/>
          <a:stretch/>
        </p:blipFill>
        <p:spPr>
          <a:xfrm>
            <a:off x="571680" y="2971800"/>
            <a:ext cx="68040" cy="68400"/>
          </a:xfrm>
          <a:prstGeom prst="rect">
            <a:avLst/>
          </a:prstGeom>
          <a:ln w="0">
            <a:noFill/>
          </a:ln>
        </p:spPr>
      </p:pic>
      <p:pic>
        <p:nvPicPr>
          <p:cNvPr id="67" name="a6" descr=""/>
          <p:cNvPicPr/>
          <p:nvPr/>
        </p:nvPicPr>
        <p:blipFill>
          <a:blip r:embed="rId4"/>
          <a:stretch/>
        </p:blipFill>
        <p:spPr>
          <a:xfrm>
            <a:off x="571680" y="4808520"/>
            <a:ext cx="68040" cy="68400"/>
          </a:xfrm>
          <a:prstGeom prst="rect">
            <a:avLst/>
          </a:prstGeom>
          <a:ln w="0">
            <a:noFill/>
          </a:ln>
        </p:spPr>
      </p:pic>
      <p:pic>
        <p:nvPicPr>
          <p:cNvPr id="68" name="a6" descr=""/>
          <p:cNvPicPr/>
          <p:nvPr/>
        </p:nvPicPr>
        <p:blipFill>
          <a:blip r:embed="rId5"/>
          <a:stretch/>
        </p:blipFill>
        <p:spPr>
          <a:xfrm>
            <a:off x="571680" y="5189400"/>
            <a:ext cx="68040" cy="68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00280" y="18288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건설사의 자금난 악화 및 연쇄부도 우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신그래픽"/>
                <a:ea typeface="신그래픽"/>
              </a:rPr>
              <a:t>- 26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1219320"/>
            <a:ext cx="8458200" cy="190476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81116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99"/>
                </a:solidFill>
                <a:latin typeface="굴림"/>
              </a:rPr>
              <a:t>제도상 주택 수급조절 및 비축기능 미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99"/>
                </a:solidFill>
                <a:latin typeface="굴림"/>
              </a:rPr>
              <a:t>수익성</a:t>
            </a:r>
            <a:r>
              <a:rPr b="0" lang="en-US" sz="1800" spc="-1" strike="noStrike">
                <a:solidFill>
                  <a:srgbClr val="ffff99"/>
                </a:solidFill>
                <a:latin typeface="굴림"/>
              </a:rPr>
              <a:t>, </a:t>
            </a:r>
            <a:r>
              <a:rPr b="0" lang="zh-CN" sz="1800" spc="-1" strike="noStrike">
                <a:solidFill>
                  <a:srgbClr val="ffff99"/>
                </a:solidFill>
                <a:latin typeface="굴림"/>
              </a:rPr>
              <a:t>자금력 등의 부족으로 민간의 공급과잉 물량의 임대물량으로 전환 한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3809880"/>
            <a:ext cx="8458200" cy="190512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449568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99"/>
                </a:solidFill>
                <a:latin typeface="굴림"/>
              </a:rPr>
              <a:t>부동산 경기침체로 인한 부도건설업체 증가로 대한주택보증의 보증채무 급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99"/>
                </a:solidFill>
                <a:latin typeface="굴림"/>
              </a:rPr>
              <a:t>대한주택보증의 자금조달 한계로 정부재정 지원 불가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006560"/>
            <a:ext cx="312408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9907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주택수급 조절 주체의 부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3673440"/>
            <a:ext cx="518148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36576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대한주택보증의 부실심화로 정부재정부담 가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a6" descr=""/>
          <p:cNvPicPr/>
          <p:nvPr/>
        </p:nvPicPr>
        <p:blipFill>
          <a:blip r:embed="rId2"/>
          <a:stretch/>
        </p:blipFill>
        <p:spPr>
          <a:xfrm>
            <a:off x="465120" y="1989000"/>
            <a:ext cx="68400" cy="68400"/>
          </a:xfrm>
          <a:prstGeom prst="rect">
            <a:avLst/>
          </a:prstGeom>
          <a:ln w="0">
            <a:noFill/>
          </a:ln>
        </p:spPr>
      </p:pic>
      <p:pic>
        <p:nvPicPr>
          <p:cNvPr id="80" name="a6" descr=""/>
          <p:cNvPicPr/>
          <p:nvPr/>
        </p:nvPicPr>
        <p:blipFill>
          <a:blip r:embed="rId3"/>
          <a:stretch/>
        </p:blipFill>
        <p:spPr>
          <a:xfrm>
            <a:off x="465120" y="2362320"/>
            <a:ext cx="68400" cy="68040"/>
          </a:xfrm>
          <a:prstGeom prst="rect">
            <a:avLst/>
          </a:prstGeom>
          <a:ln w="0">
            <a:noFill/>
          </a:ln>
        </p:spPr>
      </p:pic>
      <p:pic>
        <p:nvPicPr>
          <p:cNvPr id="81" name="a6" descr=""/>
          <p:cNvPicPr/>
          <p:nvPr/>
        </p:nvPicPr>
        <p:blipFill>
          <a:blip r:embed="rId4"/>
          <a:stretch/>
        </p:blipFill>
        <p:spPr>
          <a:xfrm>
            <a:off x="465120" y="4656240"/>
            <a:ext cx="68400" cy="68040"/>
          </a:xfrm>
          <a:prstGeom prst="rect">
            <a:avLst/>
          </a:prstGeom>
          <a:ln w="0">
            <a:noFill/>
          </a:ln>
        </p:spPr>
      </p:pic>
      <p:pic>
        <p:nvPicPr>
          <p:cNvPr id="82" name="a6" descr=""/>
          <p:cNvPicPr/>
          <p:nvPr/>
        </p:nvPicPr>
        <p:blipFill>
          <a:blip r:embed="rId5"/>
          <a:stretch/>
        </p:blipFill>
        <p:spPr>
          <a:xfrm>
            <a:off x="465120" y="5037120"/>
            <a:ext cx="68400" cy="68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신그래픽"/>
                <a:ea typeface="신그래픽"/>
              </a:rPr>
              <a:t>- 27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920" y="1143000"/>
            <a:ext cx="8534160" cy="15238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2895480"/>
            <a:ext cx="8534160" cy="144792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600200"/>
            <a:ext cx="84582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굴림"/>
              </a:rPr>
              <a:t>-&gt; </a:t>
            </a:r>
            <a:r>
              <a:rPr b="0" lang="zh-CN" sz="1800" spc="-1" strike="noStrike">
                <a:solidFill>
                  <a:srgbClr val="ffff99"/>
                </a:solidFill>
                <a:latin typeface="굴림"/>
              </a:rPr>
              <a:t>주택건설 업체의 자금난 해소 도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굴림"/>
              </a:rPr>
              <a:t>-&gt; </a:t>
            </a:r>
            <a:r>
              <a:rPr b="0" lang="zh-CN" sz="1800" spc="-1" strike="noStrike">
                <a:solidFill>
                  <a:srgbClr val="ffff99"/>
                </a:solidFill>
                <a:latin typeface="굴림"/>
              </a:rPr>
              <a:t>건설업체의 실물경제에서 차지하는 중요한 위치에 상응한 정부지원의 상대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99"/>
                </a:solidFill>
                <a:latin typeface="굴림"/>
              </a:rPr>
              <a:t>부족을 보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1574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99"/>
                </a:solidFill>
                <a:latin typeface="굴림"/>
              </a:rPr>
              <a:t>다량의 미분양 아파트를 유동화 할 수 있는 금융지원 방안을 모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971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99"/>
                </a:solidFill>
                <a:latin typeface="굴림"/>
              </a:rPr>
              <a:t>유동화 과정에서 주공의 주택수급 조절기능 강화와 임대주택공급물량확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3454560"/>
            <a:ext cx="7543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굴림"/>
              </a:rPr>
              <a:t>-&gt; </a:t>
            </a:r>
            <a:r>
              <a:rPr b="0" lang="zh-CN" sz="1800" spc="-1" strike="noStrike">
                <a:solidFill>
                  <a:srgbClr val="ffff99"/>
                </a:solidFill>
                <a:latin typeface="굴림"/>
              </a:rPr>
              <a:t>주택시장의 공급과잉 해소 및 전</a:t>
            </a:r>
            <a:r>
              <a:rPr b="0" lang="en-US" sz="1800" spc="-1" strike="noStrike">
                <a:solidFill>
                  <a:srgbClr val="ffff99"/>
                </a:solidFill>
                <a:latin typeface="굴림"/>
              </a:rPr>
              <a:t>·</a:t>
            </a:r>
            <a:r>
              <a:rPr b="0" lang="zh-CN" sz="1800" spc="-1" strike="noStrike">
                <a:solidFill>
                  <a:srgbClr val="ffff99"/>
                </a:solidFill>
                <a:latin typeface="굴림"/>
              </a:rPr>
              <a:t>월세 시장의 안정화 도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굴림"/>
              </a:rPr>
              <a:t>-&gt; </a:t>
            </a:r>
            <a:r>
              <a:rPr b="0" lang="zh-CN" sz="1800" spc="-1" strike="noStrike">
                <a:solidFill>
                  <a:srgbClr val="ffff99"/>
                </a:solidFill>
                <a:latin typeface="굴림"/>
              </a:rPr>
              <a:t>주택경기 </a:t>
            </a:r>
            <a:r>
              <a:rPr b="0" lang="en-US" sz="1800" spc="-1" strike="noStrike">
                <a:solidFill>
                  <a:srgbClr val="ffff99"/>
                </a:solidFill>
                <a:latin typeface="굴림"/>
              </a:rPr>
              <a:t>Cycle</a:t>
            </a:r>
            <a:r>
              <a:rPr b="0" lang="zh-CN" sz="1800" spc="-1" strike="noStrike">
                <a:solidFill>
                  <a:srgbClr val="ffff99"/>
                </a:solidFill>
                <a:latin typeface="굴림"/>
              </a:rPr>
              <a:t>의 변동성 축소에 따른 자원 배분의 효율성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4572000"/>
            <a:ext cx="8534160" cy="167652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4692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굴림"/>
              </a:rPr>
              <a:t>     </a:t>
            </a:r>
            <a:r>
              <a:rPr b="1" lang="zh-CN" sz="1800" spc="-1" strike="noStrike">
                <a:solidFill>
                  <a:srgbClr val="ffff99"/>
                </a:solidFill>
                <a:latin typeface="굴림"/>
              </a:rPr>
              <a:t>대한주택보증의 분양보증에 따른 부도사업장의 대리시공 아파트의 우선 유동화 방안 강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5410080"/>
            <a:ext cx="7543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굴림"/>
              </a:rPr>
              <a:t>-&gt; </a:t>
            </a:r>
            <a:r>
              <a:rPr b="0" lang="zh-CN" sz="1800" spc="-1" strike="noStrike">
                <a:solidFill>
                  <a:srgbClr val="ffff99"/>
                </a:solidFill>
                <a:latin typeface="굴림"/>
              </a:rPr>
              <a:t>대한주택보증의 경영 정상화 및 보증여력 확대에 일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굴림"/>
              </a:rPr>
              <a:t>-&gt; </a:t>
            </a:r>
            <a:r>
              <a:rPr b="0" lang="zh-CN" sz="1800" spc="-1" strike="noStrike">
                <a:solidFill>
                  <a:srgbClr val="ffff99"/>
                </a:solidFill>
                <a:latin typeface="굴림"/>
              </a:rPr>
              <a:t>정부재정부담해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457200"/>
            <a:ext cx="19051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266760" y="380880"/>
            <a:ext cx="18669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3808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6" name="a6" descr=""/>
          <p:cNvPicPr/>
          <p:nvPr/>
        </p:nvPicPr>
        <p:blipFill>
          <a:blip r:embed="rId2"/>
          <a:stretch/>
        </p:blipFill>
        <p:spPr>
          <a:xfrm>
            <a:off x="609480" y="1295280"/>
            <a:ext cx="68400" cy="68400"/>
          </a:xfrm>
          <a:prstGeom prst="rect">
            <a:avLst/>
          </a:prstGeom>
          <a:ln w="0">
            <a:noFill/>
          </a:ln>
        </p:spPr>
      </p:pic>
      <p:pic>
        <p:nvPicPr>
          <p:cNvPr id="97" name="a6" descr=""/>
          <p:cNvPicPr/>
          <p:nvPr/>
        </p:nvPicPr>
        <p:blipFill>
          <a:blip r:embed="rId3"/>
          <a:stretch/>
        </p:blipFill>
        <p:spPr>
          <a:xfrm>
            <a:off x="609480" y="3124080"/>
            <a:ext cx="68400" cy="68400"/>
          </a:xfrm>
          <a:prstGeom prst="rect">
            <a:avLst/>
          </a:prstGeom>
          <a:ln w="0">
            <a:noFill/>
          </a:ln>
        </p:spPr>
      </p:pic>
      <p:pic>
        <p:nvPicPr>
          <p:cNvPr id="98" name="a6" descr=""/>
          <p:cNvPicPr/>
          <p:nvPr/>
        </p:nvPicPr>
        <p:blipFill>
          <a:blip r:embed="rId4"/>
          <a:stretch/>
        </p:blipFill>
        <p:spPr>
          <a:xfrm>
            <a:off x="609480" y="4800600"/>
            <a:ext cx="68400" cy="68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신그래픽"/>
                <a:ea typeface="신그래픽"/>
              </a:rPr>
              <a:t>- 28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굴림"/>
              </a:rPr>
              <a:t>II. ABS</a:t>
            </a:r>
            <a:r>
              <a:rPr b="1" lang="zh-CN" sz="4000" spc="-1" strike="noStrike">
                <a:solidFill>
                  <a:srgbClr val="ffff99"/>
                </a:solidFill>
                <a:latin typeface="굴림"/>
              </a:rPr>
              <a:t>의 발행취지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2590920"/>
            <a:ext cx="4876560" cy="1066680"/>
          </a:xfrm>
          <a:prstGeom prst="rect">
            <a:avLst/>
          </a:prstGeom>
          <a:noFill/>
          <a:ln w="349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신그래픽"/>
                <a:ea typeface="신그래픽"/>
              </a:rPr>
              <a:t>- 29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057400"/>
            <a:ext cx="3809880" cy="24382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828800"/>
            <a:ext cx="32004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19191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B/S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상 대변 중심의 자금 조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4876920"/>
            <a:ext cx="8915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99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최근 기업 자금조달은 기존의 은행차입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사채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및 주식발행에 의한 직간접 금융으로부터 기업이 보유한 자산을 기초로 한 조달방식으로 다양화되고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buClr>
                <a:srgbClr val="ffff99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ABS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는 사업 자금조달의 중심이 기업 자체의 신용으로부터 자산에서 발생하는 현금흐름으로 이동하는 현상을 반영한 최신 금융기법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2057400"/>
            <a:ext cx="4419720" cy="24382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1828800"/>
            <a:ext cx="3886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4952880" y="191916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B/S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상 차변계정을 이용한 자금조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2438280"/>
            <a:ext cx="4114800" cy="190512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2438280"/>
            <a:ext cx="1600200" cy="190512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3030480"/>
            <a:ext cx="1466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직접금융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사채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주식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2514600"/>
            <a:ext cx="4038480" cy="147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ABS 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매출채권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유형자산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NPL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장래발생채권 등 현금흐름 예측이 가능한 모든 자산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Project Finan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팩토링 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2438280"/>
            <a:ext cx="1524240" cy="190512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304812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간접금융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은행차입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838080"/>
            <a:ext cx="53341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343080" y="762120"/>
            <a:ext cx="52196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76212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자금조달 방식의 변화추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3352680"/>
            <a:ext cx="380880" cy="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3429000"/>
            <a:ext cx="304920" cy="0"/>
          </a:xfrm>
          <a:prstGeom prst="line">
            <a:avLst/>
          </a:prstGeom>
          <a:ln w="507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신그래픽"/>
                <a:ea typeface="신그래픽"/>
              </a:rPr>
              <a:t>- 30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533520"/>
            <a:ext cx="449568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343080" y="457200"/>
            <a:ext cx="4457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457200"/>
            <a:ext cx="35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유동화의 기본구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2895480"/>
            <a:ext cx="1371600" cy="106704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자산보유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1403280"/>
            <a:ext cx="1676160" cy="6098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1371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Liquidity   Provider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1447920"/>
            <a:ext cx="1828800" cy="5331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1304640" y="1523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신용평가기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1447920"/>
            <a:ext cx="1752480" cy="5331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5853240" y="155592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Truste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895480"/>
            <a:ext cx="2362320" cy="106704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SP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유동화전문유한회사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6095880" y="2895480"/>
            <a:ext cx="990720" cy="106704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주간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증권사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8077320" y="2895480"/>
            <a:ext cx="838080" cy="106704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투자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2057400"/>
            <a:ext cx="0" cy="68580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572000" y="2057400"/>
            <a:ext cx="1752480" cy="68580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2057400"/>
            <a:ext cx="1524240" cy="68580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1828800" y="3505320"/>
            <a:ext cx="762120" cy="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828440" y="3352680"/>
            <a:ext cx="762120" cy="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505320"/>
            <a:ext cx="685800" cy="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257440" y="3352680"/>
            <a:ext cx="685800" cy="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238880" y="3505320"/>
            <a:ext cx="685800" cy="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7238520" y="3352680"/>
            <a:ext cx="685800" cy="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4419720"/>
            <a:ext cx="2133720" cy="5331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3583080" y="4495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자산관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962520" y="3962520"/>
            <a:ext cx="0" cy="45720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5181480"/>
            <a:ext cx="4191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자산관리자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자산보유자가 업무수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업무수탁자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/ Trustee :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초우량은행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외부평가기관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99"/>
                </a:solidFill>
                <a:latin typeface="굴림"/>
              </a:rPr>
              <a:t>회계법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5124600" y="5181480"/>
            <a:ext cx="3342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굴림"/>
              </a:rPr>
              <a:t>Rating Company : 2</a:t>
            </a:r>
            <a:r>
              <a:rPr b="0" lang="zh-CN" sz="1800" spc="-1" strike="noStrike">
                <a:solidFill>
                  <a:srgbClr val="ffff99"/>
                </a:solidFill>
                <a:latin typeface="굴림"/>
              </a:rPr>
              <a:t>개 신용평가회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굴림"/>
              </a:rPr>
              <a:t>Liquidity Provider : </a:t>
            </a:r>
            <a:r>
              <a:rPr b="0" lang="zh-CN" sz="1800" spc="-1" strike="noStrike">
                <a:solidFill>
                  <a:srgbClr val="ffff99"/>
                </a:solidFill>
                <a:latin typeface="굴림"/>
              </a:rPr>
              <a:t>수탁은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a6" descr=""/>
          <p:cNvPicPr/>
          <p:nvPr/>
        </p:nvPicPr>
        <p:blipFill>
          <a:blip r:embed="rId2"/>
          <a:stretch/>
        </p:blipFill>
        <p:spPr>
          <a:xfrm>
            <a:off x="380880" y="5418000"/>
            <a:ext cx="68400" cy="68400"/>
          </a:xfrm>
          <a:prstGeom prst="rect">
            <a:avLst/>
          </a:prstGeom>
          <a:ln w="0">
            <a:noFill/>
          </a:ln>
        </p:spPr>
      </p:pic>
      <p:pic>
        <p:nvPicPr>
          <p:cNvPr id="150" name="a6" descr=""/>
          <p:cNvPicPr/>
          <p:nvPr/>
        </p:nvPicPr>
        <p:blipFill>
          <a:blip r:embed="rId3"/>
          <a:stretch/>
        </p:blipFill>
        <p:spPr>
          <a:xfrm>
            <a:off x="380880" y="5786280"/>
            <a:ext cx="68400" cy="68400"/>
          </a:xfrm>
          <a:prstGeom prst="rect">
            <a:avLst/>
          </a:prstGeom>
          <a:ln w="0">
            <a:noFill/>
          </a:ln>
        </p:spPr>
      </p:pic>
      <p:pic>
        <p:nvPicPr>
          <p:cNvPr id="151" name="a6" descr=""/>
          <p:cNvPicPr/>
          <p:nvPr/>
        </p:nvPicPr>
        <p:blipFill>
          <a:blip r:embed="rId4"/>
          <a:stretch/>
        </p:blipFill>
        <p:spPr>
          <a:xfrm>
            <a:off x="380880" y="6172200"/>
            <a:ext cx="68400" cy="68400"/>
          </a:xfrm>
          <a:prstGeom prst="rect">
            <a:avLst/>
          </a:prstGeom>
          <a:ln w="0">
            <a:noFill/>
          </a:ln>
        </p:spPr>
      </p:pic>
      <p:pic>
        <p:nvPicPr>
          <p:cNvPr id="152" name="a6" descr=""/>
          <p:cNvPicPr/>
          <p:nvPr/>
        </p:nvPicPr>
        <p:blipFill>
          <a:blip r:embed="rId5"/>
          <a:stretch/>
        </p:blipFill>
        <p:spPr>
          <a:xfrm>
            <a:off x="4724280" y="5791320"/>
            <a:ext cx="68400" cy="68040"/>
          </a:xfrm>
          <a:prstGeom prst="rect">
            <a:avLst/>
          </a:prstGeom>
          <a:ln w="0">
            <a:noFill/>
          </a:ln>
        </p:spPr>
      </p:pic>
      <p:pic>
        <p:nvPicPr>
          <p:cNvPr id="153" name="a6" descr=""/>
          <p:cNvPicPr/>
          <p:nvPr/>
        </p:nvPicPr>
        <p:blipFill>
          <a:blip r:embed="rId6"/>
          <a:stretch/>
        </p:blipFill>
        <p:spPr>
          <a:xfrm>
            <a:off x="4724280" y="5418000"/>
            <a:ext cx="68400" cy="68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57360" y="2286000"/>
            <a:ext cx="14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굴림"/>
              </a:rPr>
              <a:t>Rat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22096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굴림"/>
              </a:rPr>
              <a:t>Credit Line </a:t>
            </a:r>
            <a:r>
              <a:rPr b="0" lang="zh-CN" sz="1400" spc="-1" strike="noStrike">
                <a:solidFill>
                  <a:srgbClr val="ffcc66"/>
                </a:solidFill>
                <a:latin typeface="굴림"/>
              </a:rPr>
              <a:t>제공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23623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굴림"/>
              </a:rPr>
              <a:t>ABS </a:t>
            </a:r>
            <a:r>
              <a:rPr b="0" lang="zh-CN" sz="1400" spc="-1" strike="noStrike">
                <a:solidFill>
                  <a:srgbClr val="ffcc66"/>
                </a:solidFill>
                <a:latin typeface="굴림"/>
              </a:rPr>
              <a:t>프로그램 감독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7315200" y="29718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굴림"/>
              </a:rPr>
              <a:t>Cash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29718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굴림"/>
              </a:rPr>
              <a:t>Cash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29718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cc66"/>
                </a:solidFill>
                <a:latin typeface="굴림"/>
              </a:rPr>
              <a:t>후순위 </a:t>
            </a:r>
            <a:r>
              <a:rPr b="0" lang="ko-KR" sz="1400" spc="-1" strike="noStrike">
                <a:solidFill>
                  <a:srgbClr val="ffcc66"/>
                </a:solidFill>
                <a:latin typeface="굴림"/>
              </a:rPr>
              <a:t>AB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1905120" y="27432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굴림"/>
              </a:rPr>
              <a:t>Cash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3581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cc66"/>
                </a:solidFill>
                <a:latin typeface="굴림"/>
              </a:rPr>
              <a:t>선순위 </a:t>
            </a:r>
            <a:r>
              <a:rPr b="0" lang="ko-KR" sz="1400" spc="-1" strike="noStrike">
                <a:solidFill>
                  <a:srgbClr val="ffcc66"/>
                </a:solidFill>
                <a:latin typeface="굴림"/>
              </a:rPr>
              <a:t>AB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4952880" y="3581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cc66"/>
                </a:solidFill>
                <a:latin typeface="굴림"/>
              </a:rPr>
              <a:t>선순위 </a:t>
            </a:r>
            <a:r>
              <a:rPr b="0" lang="ko-KR" sz="1400" spc="-1" strike="noStrike">
                <a:solidFill>
                  <a:srgbClr val="ffcc66"/>
                </a:solidFill>
                <a:latin typeface="굴림"/>
              </a:rPr>
              <a:t>AB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36576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66"/>
                </a:solidFill>
                <a:latin typeface="굴림"/>
              </a:rPr>
              <a:t>자산양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068360" y="631584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신그래픽"/>
                <a:ea typeface="신그래픽"/>
              </a:rPr>
              <a:t>- 31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1T04:02:46Z</dcterms:created>
  <dc:creator>박정선</dc:creator>
  <dc:description/>
  <dc:language>en-US</dc:language>
  <cp:lastModifiedBy>심형석</cp:lastModifiedBy>
  <cp:lastPrinted>2001-07-20T11:26:49Z</cp:lastPrinted>
  <dcterms:modified xsi:type="dcterms:W3CDTF">2001-07-20T11:27:33Z</dcterms:modified>
  <cp:revision>124</cp:revision>
  <dc:subject/>
  <dc:title>검토배경 및 목적</dc:title>
</cp:coreProperties>
</file>