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761B-B92E-4BBA-A7EB-B28184873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13FA-E75D-4589-BE1F-C971AAFF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FC51-634C-4EAB-A43E-E1465594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0FF3-5FF7-46B0-935D-680978FFC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6C69-7F9A-4744-87F8-15F8862D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2108-E742-4816-ABFE-61E03D4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C385-1701-424C-90A6-4F407645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9A26-7A7C-43DA-AFE7-9143213E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1E21-3D55-4BC4-906E-3F96BDD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9A40-E1FF-464A-8E26-4D91E35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1152-ED5B-4558-A20A-2A5745F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DFC3-2CE0-4D5F-9D43-B81135E4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0477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― </a:t>
            </a:r>
            <a:fld id="{631A7EA4-D5DF-4006-9A32-06418FA9F34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286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로고2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838440" cy="60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굴림체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굴림체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굴림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굴림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80880"/>
            <a:ext cx="3200400" cy="457200"/>
          </a:xfrm>
          <a:prstGeom prst="rect">
            <a:avLst/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한국건설산업연구원 세미나 자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360" y="1752480"/>
            <a:ext cx="81532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굴림"/>
              </a:rPr>
              <a:t>공사할부채권 및 미분양분 유동화 방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5334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신그래픽"/>
                <a:ea typeface="굴림체"/>
              </a:rPr>
              <a:t>알투코리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352680" y="5410080"/>
            <a:ext cx="914400" cy="527040"/>
            <a:chOff x="3352680" y="5410080"/>
            <a:chExt cx="914400" cy="527040"/>
          </a:xfrm>
        </p:grpSpPr>
        <p:pic>
          <p:nvPicPr>
            <p:cNvPr id="48" name="r2로고%20복사본" descr=""/>
            <p:cNvPicPr/>
            <p:nvPr/>
          </p:nvPicPr>
          <p:blipFill>
            <a:blip r:embed="rId1"/>
            <a:stretch/>
          </p:blipFill>
          <p:spPr>
            <a:xfrm>
              <a:off x="3352680" y="5410080"/>
              <a:ext cx="9144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08560" y="5852160"/>
              <a:ext cx="624240" cy="5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444840" y="5775480"/>
            <a:ext cx="73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219320"/>
            <a:ext cx="883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②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투자자금의 조달 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리모델링 소요 비용은 충당금 또는 여유자금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53.1%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금융기관 차입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5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순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금융기관 차입에 관심을 상대적으로 높게 두는 빌딩은 준공된지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하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16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상된 빌딩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04920" y="2590920"/>
          <a:ext cx="2895480" cy="341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289548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" name=""/>
          <p:cNvGrpSpPr/>
          <p:nvPr/>
        </p:nvGrpSpPr>
        <p:grpSpPr>
          <a:xfrm>
            <a:off x="3378240" y="2641680"/>
            <a:ext cx="2651040" cy="3317760"/>
            <a:chOff x="3378240" y="2641680"/>
            <a:chExt cx="2651040" cy="3317760"/>
          </a:xfrm>
        </p:grpSpPr>
        <p:sp>
          <p:nvSpPr>
            <p:cNvPr id="382" name=""/>
            <p:cNvSpPr/>
            <p:nvPr/>
          </p:nvSpPr>
          <p:spPr>
            <a:xfrm>
              <a:off x="3378240" y="2641680"/>
              <a:ext cx="2651040" cy="3317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29120" y="3506760"/>
              <a:ext cx="241200" cy="1832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24560" y="4586400"/>
              <a:ext cx="236520" cy="75240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16400" y="3363840"/>
              <a:ext cx="241560" cy="19749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51280" y="3191040"/>
              <a:ext cx="19080" cy="21477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51280" y="5126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51280" y="49118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51280" y="469728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1280" y="44845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51280" y="42703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51280" y="40464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1280" y="38322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51280" y="36194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51280" y="34052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51280" y="3191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51280" y="5338800"/>
              <a:ext cx="178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85128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4672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038560" y="52992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63580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0120" y="275436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금융기관 차입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25160" y="3313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7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24280" y="43927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14240" y="3170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8.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54080" y="5278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54080" y="50641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54080" y="48499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54080" y="46371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54080" y="44226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91440" y="42084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91440" y="39844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91440" y="37720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91440" y="35575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91440" y="33433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91440" y="31305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75200" y="5460840"/>
              <a:ext cx="45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남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서초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05760" y="5460840"/>
              <a:ext cx="53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마포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영등포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41520" y="5460840"/>
              <a:ext cx="45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종로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중구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45080" y="56754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권역별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11440" y="285588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78240" y="2641680"/>
              <a:ext cx="2651040" cy="331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00400" y="2641680"/>
            <a:ext cx="2971440" cy="3317760"/>
            <a:chOff x="3200400" y="2641680"/>
            <a:chExt cx="2971440" cy="3317760"/>
          </a:xfrm>
        </p:grpSpPr>
        <p:sp>
          <p:nvSpPr>
            <p:cNvPr id="424" name=""/>
            <p:cNvSpPr/>
            <p:nvPr/>
          </p:nvSpPr>
          <p:spPr>
            <a:xfrm>
              <a:off x="3200400" y="2641680"/>
              <a:ext cx="2971440" cy="3317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29760" y="3506760"/>
              <a:ext cx="270360" cy="1832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97200" y="4586400"/>
              <a:ext cx="264960" cy="75240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0680" y="3363840"/>
              <a:ext cx="270720" cy="19749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0320" y="3191040"/>
              <a:ext cx="21240" cy="21477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0320" y="512604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0320" y="491184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30320" y="4697280"/>
              <a:ext cx="2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30320" y="4484520"/>
              <a:ext cx="2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30320" y="4270320"/>
              <a:ext cx="2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0320" y="4046400"/>
              <a:ext cx="2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30320" y="383220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0320" y="3619440"/>
              <a:ext cx="2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30320" y="340524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30320" y="319104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30320" y="5338800"/>
              <a:ext cx="200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73032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9812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61240" y="52992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730840" y="52992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14480" y="275436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금융기관 차입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78360" y="3313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7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6640" y="43927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12520" y="3170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8.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20160" y="5278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0160" y="50641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20160" y="48499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0160" y="46371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0160" y="44226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69760" y="42084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69760" y="39844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69760" y="37720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69760" y="35575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69760" y="33433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760" y="31305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49920" y="546084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남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서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00080" y="5460840"/>
              <a:ext cx="39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마포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영등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86240" y="546084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종로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중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98000" y="56754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권역별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64280" y="285588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00400" y="2641680"/>
              <a:ext cx="2971440" cy="331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248520" y="2627280"/>
            <a:ext cx="2742840" cy="3316320"/>
            <a:chOff x="6248520" y="2627280"/>
            <a:chExt cx="2742840" cy="3316320"/>
          </a:xfrm>
        </p:grpSpPr>
        <p:sp>
          <p:nvSpPr>
            <p:cNvPr id="466" name=""/>
            <p:cNvSpPr/>
            <p:nvPr/>
          </p:nvSpPr>
          <p:spPr>
            <a:xfrm>
              <a:off x="6248520" y="2627280"/>
              <a:ext cx="2742840" cy="3316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11360"/>
              <a:ext cx="188280" cy="19112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0040" y="4560840"/>
              <a:ext cx="183240" cy="7617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99040" y="4641840"/>
              <a:ext cx="188280" cy="6807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63080" y="3878280"/>
              <a:ext cx="183240" cy="14443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38840" y="3176640"/>
              <a:ext cx="19800" cy="21459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38840" y="4967280"/>
              <a:ext cx="19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38840" y="4611600"/>
              <a:ext cx="19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38840" y="4254480"/>
              <a:ext cx="19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38840" y="3889440"/>
              <a:ext cx="19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38840" y="3531960"/>
              <a:ext cx="19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38840" y="3176640"/>
              <a:ext cx="19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38840" y="5322600"/>
              <a:ext cx="18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738840" y="528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202880" y="528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662240" y="528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125920" y="528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583840" y="528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67560" y="2739960"/>
              <a:ext cx="54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금융기관 차입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92920" y="32176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6.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1920" y="4367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.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2240" y="44481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9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79280" y="3686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.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36240" y="52624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36240" y="49068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89800" y="45496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89800" y="41940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89800" y="38275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89800" y="34718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9800" y="31161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88240" y="5445000"/>
              <a:ext cx="26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이하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19880" y="5445000"/>
              <a:ext cx="31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~10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58360" y="5445000"/>
              <a:ext cx="3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~1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44360" y="544500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 이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9480" y="565920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건물년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88360" y="288108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1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48520" y="2627280"/>
              <a:ext cx="2742840" cy="3316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7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066680"/>
            <a:ext cx="8839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③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공사대금 할부제도에 대한 의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ⓐ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건물주 또는 건물관리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적극 고려 또는 상환기간이나 조건에 따라 검토하겠다는 의견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66.2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차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종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중구 지역의 빌딩이 적극적이고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하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상된 빌딩들의 관심이 높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04920" y="2666880"/>
          <a:ext cx="28191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2819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3124080" y="2708280"/>
            <a:ext cx="2895480" cy="3540240"/>
            <a:chOff x="3124080" y="2708280"/>
            <a:chExt cx="2895480" cy="3540240"/>
          </a:xfrm>
        </p:grpSpPr>
        <p:sp>
          <p:nvSpPr>
            <p:cNvPr id="509" name=""/>
            <p:cNvSpPr/>
            <p:nvPr/>
          </p:nvSpPr>
          <p:spPr>
            <a:xfrm>
              <a:off x="3124080" y="2708280"/>
              <a:ext cx="2895480" cy="354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5080" y="4033800"/>
              <a:ext cx="263160" cy="15512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86680" y="3751200"/>
              <a:ext cx="258120" cy="18338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880" y="3500640"/>
              <a:ext cx="263160" cy="208440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0320" y="3294000"/>
              <a:ext cx="21960" cy="229104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40320" y="52596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40320" y="493416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40320" y="46087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40320" y="42721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40320" y="394668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40320" y="36212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40320" y="32940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0320" y="5585040"/>
              <a:ext cx="194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64032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29156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93776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58900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23240" y="2827440"/>
              <a:ext cx="863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상환기간이나 조건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따라 검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89080" y="382752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47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39240" y="354492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6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85440" y="329400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2680" y="55198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86240" y="5194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86240" y="4869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86240" y="45435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6240" y="42069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86240" y="3881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86240" y="35560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86240" y="3229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54880" y="571680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남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서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90640" y="5716800"/>
              <a:ext cx="39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마포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영등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59160" y="571680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종로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중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93240" y="594360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권역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37640" y="2979720"/>
              <a:ext cx="43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4080" y="2708280"/>
              <a:ext cx="2895480" cy="3540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086520" y="2708280"/>
            <a:ext cx="2828520" cy="3540240"/>
            <a:chOff x="6086520" y="2708280"/>
            <a:chExt cx="2828520" cy="3540240"/>
          </a:xfrm>
        </p:grpSpPr>
        <p:sp>
          <p:nvSpPr>
            <p:cNvPr id="545" name=""/>
            <p:cNvSpPr/>
            <p:nvPr/>
          </p:nvSpPr>
          <p:spPr>
            <a:xfrm>
              <a:off x="6086520" y="2708280"/>
              <a:ext cx="2828520" cy="354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33440" y="3675240"/>
              <a:ext cx="193680" cy="190980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11880" y="3957840"/>
              <a:ext cx="188640" cy="162720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85280" y="4532400"/>
              <a:ext cx="193680" cy="1052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63720" y="3892680"/>
              <a:ext cx="188640" cy="16923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90160" y="3294000"/>
              <a:ext cx="21600" cy="229104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90160" y="530388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90160" y="501012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90160" y="472752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90160" y="444528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90160" y="415296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90160" y="387036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90160" y="357660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90160" y="329400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90160" y="5585040"/>
              <a:ext cx="19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59016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070040" y="554184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54380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022240" y="554184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8495640" y="554184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65520" y="2827440"/>
              <a:ext cx="863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상환기간이나 조건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 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따라 검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3960" y="34689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6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55800" y="3751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06880" y="432612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84240" y="368640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6480" y="55198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40400" y="5238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40400" y="4945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40400" y="4662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40400" y="43801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40400" y="4087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0400" y="3805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40400" y="3511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40400" y="3229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45320" y="5716800"/>
              <a:ext cx="26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이하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90280" y="5716800"/>
              <a:ext cx="31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~10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42440" y="5716800"/>
              <a:ext cx="3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~1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42120" y="571680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 이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17160" y="59436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건물년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72000" y="2979720"/>
              <a:ext cx="43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86520" y="2708280"/>
              <a:ext cx="2828520" cy="3540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8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1219320"/>
            <a:ext cx="822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ⓑ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건설업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물주와 시공사 모두에게 도움이 된다는 의견과 건물주에게만 유리하다는 의견이 팽팽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현재와 같은 수주경쟁하에서는 금리의 일부를 시공사가 부담할지 모른다는 우려를 지니고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828800" y="2438280"/>
          <a:ext cx="550548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550548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9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1143000"/>
            <a:ext cx="883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④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공사할부 조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ⓐ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건물주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건물관리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리금 균등분할 상환을 선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상환기간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을 선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금리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7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준을 적정한 것으로 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80880" y="2438280"/>
          <a:ext cx="266724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26672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3048120" y="2438280"/>
          <a:ext cx="3124080" cy="3810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438280"/>
                    <a:ext cx="31240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6203880" y="2492280"/>
            <a:ext cx="2747880" cy="370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07080" y="3402000"/>
            <a:ext cx="130320" cy="2381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39000" y="5079960"/>
            <a:ext cx="129960" cy="7034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70920" y="5415120"/>
            <a:ext cx="128520" cy="3682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01040" y="5576760"/>
            <a:ext cx="136440" cy="2066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39080" y="5684760"/>
            <a:ext cx="130320" cy="986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71000" y="5729400"/>
            <a:ext cx="129960" cy="540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601120" y="5089680"/>
            <a:ext cx="129960" cy="6937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10240" y="3076560"/>
            <a:ext cx="25560" cy="2706840"/>
          </a:xfrm>
          <a:custGeom>
            <a:avLst/>
            <a:gdLst/>
            <a:ahLst/>
            <a:rect l="l" t="t" r="r" b="b"/>
            <a:pathLst>
              <a:path w="4" h="250">
                <a:moveTo>
                  <a:pt x="0" y="0"/>
                </a:moveTo>
                <a:lnTo>
                  <a:pt x="0" y="250"/>
                </a:lnTo>
                <a:lnTo>
                  <a:pt x="4" y="2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10240" y="532764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510240" y="488484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10240" y="44308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10240" y="397512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10240" y="353232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10240" y="307656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10240" y="5783400"/>
            <a:ext cx="232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510240" y="5740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840360" y="5740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172280" y="5740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504200" y="5740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7842240" y="5740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8172360" y="5740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8504280" y="5740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8836200" y="5740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93320" y="261144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이자율 수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538680" y="319572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5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75280" y="48736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6440" y="52084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8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84480" y="53722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922520" y="54799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247960" y="552276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38840" y="48848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1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87840" y="57182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15120" y="52642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15120" y="48196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15120" y="43657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15120" y="3909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15120" y="34671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15120" y="301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15360" y="591336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47280" y="591336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78840" y="591336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74040" y="591336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905960" y="591336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237520" y="591336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619120" y="5913360"/>
            <a:ext cx="15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무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59040" y="2611440"/>
            <a:ext cx="43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단위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(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03880" y="2492280"/>
            <a:ext cx="2747880" cy="3702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0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920" y="1295280"/>
            <a:ext cx="883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ⓑ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건설업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리금 균등분할 상환 선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상환기간은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수준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7-10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준이 적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52280" y="2286000"/>
          <a:ext cx="28958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2895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3124080" y="2286000"/>
          <a:ext cx="274320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286000"/>
                    <a:ext cx="2743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5943600" y="2286000"/>
          <a:ext cx="2971800" cy="3962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86000"/>
                    <a:ext cx="2971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4920" y="1295280"/>
            <a:ext cx="883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①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리모델링 이후의 임대료 변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ⓐ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투자대안별 초년도 기준 임대료 선정 기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990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리모델링 공사 경제성 시뮬레이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990720" y="2057400"/>
          <a:ext cx="7314840" cy="1600200"/>
        </p:xfrm>
        <a:graphic>
          <a:graphicData uri="http://schemas.openxmlformats.org/drawingml/2006/table">
            <a:tbl>
              <a:tblPr/>
              <a:tblGrid>
                <a:gridCol w="1709640"/>
                <a:gridCol w="1401480"/>
                <a:gridCol w="1400760"/>
                <a:gridCol w="1401480"/>
                <a:gridCol w="1401480"/>
              </a:tblGrid>
              <a:tr h="32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강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마포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여의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2.0~10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2.0~10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2.0~10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2.0~10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2.0~1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2.0~1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2.0~12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2.0~12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6.0~13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6.0~14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6.0~1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6.0~14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990720" y="3962520"/>
          <a:ext cx="7315200" cy="1958760"/>
        </p:xfrm>
        <a:graphic>
          <a:graphicData uri="http://schemas.openxmlformats.org/drawingml/2006/table">
            <a:tbl>
              <a:tblPr/>
              <a:tblGrid>
                <a:gridCol w="914400"/>
                <a:gridCol w="3985920"/>
                <a:gridCol w="241488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의 목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사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물의 기능유지 및 재임대를 위한 최소한의 투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무실 유지보수 수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노후시설교체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노후화 개선으로 임대율과 임대가 상승 및 매각 시 유리하게 작용 기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계설비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최신의 근무환경조성으로 임대시장에서 신축건물과 견줄 수 있는 경쟁력 확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최신의 기계설비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내장 및 외장 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전체 성능의 개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2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920" y="114300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②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대안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시 후의 기본 가정 변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5800" y="1523880"/>
          <a:ext cx="8077320" cy="2822760"/>
        </p:xfrm>
        <a:graphic>
          <a:graphicData uri="http://schemas.openxmlformats.org/drawingml/2006/table">
            <a:tbl>
              <a:tblPr/>
              <a:tblGrid>
                <a:gridCol w="631800"/>
                <a:gridCol w="1263600"/>
                <a:gridCol w="1068480"/>
                <a:gridCol w="1184400"/>
                <a:gridCol w="1019160"/>
                <a:gridCol w="982440"/>
                <a:gridCol w="192744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초년도 임대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유기간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임대가 변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실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경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유 후 매각가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 임대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물가상승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물가상승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9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임대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+0.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 공실률의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+0.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9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임대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3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+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 공실률의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+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9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임대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0%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 +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존 공실률의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80%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.0% +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유기간 다음해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순영업이익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2514600" y="3413160"/>
            <a:ext cx="1143000" cy="70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4768920"/>
            <a:ext cx="3124080" cy="14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보유기간중 물가상승률 정도를 반영하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 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임대료 및 관리비를 조정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5071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리모델링 투자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(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대안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1)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로 기존 유지시보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 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수익력이 상승할 것을 반영하여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0.8%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 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더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438280" y="4157280"/>
            <a:ext cx="53352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016160"/>
            <a:ext cx="2286000" cy="63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3160"/>
            <a:ext cx="1143000" cy="70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3413160"/>
            <a:ext cx="1143000" cy="70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67280" y="1800360"/>
            <a:ext cx="2667240" cy="5619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리모델링  투자안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3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의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경비율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5%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하락 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34320" y="3489480"/>
            <a:ext cx="1752480" cy="70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14800" y="4908600"/>
            <a:ext cx="4648320" cy="1263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c50719"/>
              </a:buClr>
              <a:buFont typeface="굴림체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11.0% =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할인율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+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보유 후 매각에 따른 위험프레미엄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(</a:t>
            </a: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           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위험프레미엄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(</a:t>
            </a: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B) = 0.5%~1.0%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사이에서 결정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50719"/>
              </a:buClr>
              <a:buFont typeface="굴림체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할인율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=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국공채수익률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+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부동산 보유에 따른 위험프레미엄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(</a:t>
            </a: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           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위험프레미엄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(</a:t>
            </a:r>
            <a:r>
              <a:rPr b="1" lang="en-US" sz="1200" spc="-1" strike="noStrike">
                <a:solidFill>
                  <a:srgbClr val="c50719"/>
                </a:solidFill>
                <a:latin typeface="굴림"/>
              </a:rPr>
              <a:t>A) = 0.5%~2.5%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</a:rPr>
              <a:t>사이에서 결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8001000" y="4309560"/>
            <a:ext cx="144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1952640"/>
            <a:ext cx="4572000" cy="5619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투자대안별 초년도 기준 임대료 선정 기준에 의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범위내에서 선정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(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도심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26.0%~41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3413160"/>
            <a:ext cx="1143000" cy="70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057400" y="2581200"/>
            <a:ext cx="914400" cy="77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477120" y="2440080"/>
            <a:ext cx="76176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3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920" y="99072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대안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의 리모델링 투자비용 산출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25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억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백만원으로 추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대안별투자비용산정결과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8960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095880" y="3276720"/>
            <a:ext cx="1143000" cy="266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038480"/>
            <a:ext cx="36576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대안별 리모델링 투자비용 추정 결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19720" y="43434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4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10666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④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CF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법에 의한 빌딩가치 추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대안3-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96200" cy="46864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200400" y="2895480"/>
            <a:ext cx="1143000" cy="152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57600" y="1752480"/>
            <a:ext cx="4191120" cy="685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임대수입과 관리비수입 변화의 기본가정 적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4648320"/>
            <a:ext cx="114300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52880" y="3886200"/>
            <a:ext cx="2286000" cy="685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리모델링 투자비용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공사손실액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(6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개월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)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반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343400" y="2438280"/>
            <a:ext cx="1447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038480" y="43434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24080" y="5410080"/>
            <a:ext cx="11430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57800" y="4952880"/>
            <a:ext cx="327672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투자대안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3 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시행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현금흐름할인법에 의해 추정된 빌딩가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267080" y="5181480"/>
            <a:ext cx="9907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5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920" y="10666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⑤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업성의 평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경제성판단기준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46861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429000" y="3316320"/>
            <a:ext cx="1143000" cy="1103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0080" y="3316320"/>
            <a:ext cx="1143000" cy="1103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15200" y="3316320"/>
            <a:ext cx="1143000" cy="1103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2803680"/>
            <a:ext cx="1143000" cy="47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4840200"/>
            <a:ext cx="3276360" cy="11034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투자대안별 사업평 평가 결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(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투자안 채택 혹은 기각 여부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)</a:t>
            </a: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자동으로 표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4419360" y="4246200"/>
            <a:ext cx="1600200" cy="63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019920" y="4403880"/>
            <a:ext cx="1440" cy="47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019920" y="4325400"/>
            <a:ext cx="1523880" cy="55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2185920"/>
            <a:ext cx="2286000" cy="709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투자안의 자본비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50719"/>
                </a:solidFill>
                <a:latin typeface="굴림"/>
                <a:ea typeface="돋움체"/>
              </a:rPr>
              <a:t>혹은 투자자의 요구수익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3505320" y="2498760"/>
            <a:ext cx="1752480" cy="47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6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44792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05740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09800" y="15843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목     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3120" y="1584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146320"/>
            <a:ext cx="52578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 Ⅰ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건설관련 자산유동화의 필요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 Ⅱ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건설 방식별 유동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 Ⅲ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공사할부채권 유동화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Ⅳ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.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미분양분 유동화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.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향후과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117880"/>
            <a:ext cx="15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81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952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952880"/>
            <a:ext cx="716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8360" y="631440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59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10666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⑥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공사할부채권 유동화의 구조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066680" y="1676520"/>
          <a:ext cx="7315200" cy="1280880"/>
        </p:xfrm>
        <a:graphic>
          <a:graphicData uri="http://schemas.openxmlformats.org/drawingml/2006/table">
            <a:tbl>
              <a:tblPr/>
              <a:tblGrid>
                <a:gridCol w="1709640"/>
                <a:gridCol w="1401840"/>
                <a:gridCol w="1401840"/>
                <a:gridCol w="1400040"/>
                <a:gridCol w="1401840"/>
              </a:tblGrid>
              <a:tr h="32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리모델링 비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2,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간 손실비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1,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증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>
            <a:off x="7162920" y="1371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단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2120" y="3124080"/>
            <a:ext cx="883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리모델링 사업성과 담보 제공 여건에 따라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8-11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준 금리로  채권을 구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리금 균등 상환을 기준으로 하되 제반 지출 상황을 감안하여 원금 부분 상환 방식으로 구조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상환기간은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 정도로 하되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은 넘지 않도록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066680" y="4267080"/>
          <a:ext cx="7391520" cy="1820880"/>
        </p:xfrm>
        <a:graphic>
          <a:graphicData uri="http://schemas.openxmlformats.org/drawingml/2006/table">
            <a:tbl>
              <a:tblPr/>
              <a:tblGrid>
                <a:gridCol w="1392480"/>
                <a:gridCol w="782640"/>
                <a:gridCol w="955440"/>
                <a:gridCol w="957240"/>
                <a:gridCol w="1652760"/>
                <a:gridCol w="16509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출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백만원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 정 한  대 출 조 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LT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DS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이자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환기간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년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상환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,7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원리균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4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원리균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4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원리균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4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원리균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4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7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1295280"/>
            <a:ext cx="88390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유동화의 구조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신용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발주자의 신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발주자의 부동산 담보 제공 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래의 부동산 임대수입에 대한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crow Account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개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사의 신용 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위험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 중단에 따른 위험 노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발주자와 시공사의 파산위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③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경제성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래 부동산에서 발생하는 현금흐름이 채권의 원리금 을 상환할 수 있는지 분석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t service coverage ratio = 1.3-1.5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990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8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1235160"/>
            <a:ext cx="88390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제도적 측면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산보유자 자격요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설업체의 대부분은 자산보유자 자격에 미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건설업체는 자산보유자에게 자산을 양도한 후에 유동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설관련 보증기관들에게도 자산보유자 기능을 부여할 필요가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⑤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신용보강 및 공사이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가 순조롭게 완공될 경우 위험 요인이 크게 줄어듦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 승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완공보증 등이 확실히 되어야 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현금흐름의 불일치나 신용등급을 향상시키는 신용보강 조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설사업에 익숙한 건설보증기관들이 전부 또는 일부에 대한 신용보증을 제공할 필요가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79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22096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할부채권  유동화의  구조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31" idx="3"/>
            <a:endCxn id="731" idx="3"/>
          </p:cNvCxnSpPr>
          <p:nvPr/>
        </p:nvCxnSpPr>
        <p:spPr>
          <a:xfrm>
            <a:off x="2338200" y="347292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732" name=""/>
          <p:cNvSpPr/>
          <p:nvPr/>
        </p:nvSpPr>
        <p:spPr>
          <a:xfrm>
            <a:off x="3200400" y="44956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"/>
          <p:cNvCxnSpPr/>
          <p:nvPr/>
        </p:nvCxnSpPr>
        <p:spPr>
          <a:xfrm rot="10800000">
            <a:off x="-990360" y="5028480"/>
            <a:ext cx="762840" cy="2293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grpSp>
        <p:nvGrpSpPr>
          <p:cNvPr id="734" name=""/>
          <p:cNvGrpSpPr/>
          <p:nvPr/>
        </p:nvGrpSpPr>
        <p:grpSpPr>
          <a:xfrm>
            <a:off x="1219320" y="2514600"/>
            <a:ext cx="6505560" cy="3705480"/>
            <a:chOff x="1219320" y="2514600"/>
            <a:chExt cx="6505560" cy="3705480"/>
          </a:xfrm>
        </p:grpSpPr>
        <p:grpSp>
          <p:nvGrpSpPr>
            <p:cNvPr id="735" name=""/>
            <p:cNvGrpSpPr/>
            <p:nvPr/>
          </p:nvGrpSpPr>
          <p:grpSpPr>
            <a:xfrm>
              <a:off x="4343400" y="3962520"/>
              <a:ext cx="1730520" cy="1228680"/>
              <a:chOff x="4343400" y="3962520"/>
              <a:chExt cx="1730520" cy="122868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4343400" y="3962520"/>
                <a:ext cx="1730520" cy="1228680"/>
                <a:chOff x="4343400" y="3962520"/>
                <a:chExt cx="1730520" cy="12286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343400" y="3962520"/>
                  <a:ext cx="1730520" cy="122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343400" y="4371840"/>
                  <a:ext cx="17305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154480" y="4371840"/>
                  <a:ext cx="0" cy="8190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5657760" y="4803120"/>
                <a:ext cx="408960" cy="386640"/>
              </a:xfrm>
              <a:custGeom>
                <a:avLst/>
                <a:gdLst/>
                <a:ahLst/>
                <a:rect l="l" t="t" r="r" b="b"/>
                <a:pathLst>
                  <a:path w="363" h="408">
                    <a:moveTo>
                      <a:pt x="363" y="0"/>
                    </a:moveTo>
                    <a:cubicBezTo>
                      <a:pt x="336" y="19"/>
                      <a:pt x="314" y="25"/>
                      <a:pt x="283" y="35"/>
                    </a:cubicBezTo>
                    <a:cubicBezTo>
                      <a:pt x="181" y="104"/>
                      <a:pt x="94" y="186"/>
                      <a:pt x="44" y="301"/>
                    </a:cubicBezTo>
                    <a:cubicBezTo>
                      <a:pt x="28" y="338"/>
                      <a:pt x="0" y="366"/>
                      <a:pt x="0" y="408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4349880" y="5649840"/>
              <a:ext cx="17301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은행 부동산투자신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1280" y="41911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86200" y="49528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4038480" y="4876560"/>
              <a:ext cx="3319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27440" y="4059360"/>
              <a:ext cx="13478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SPC (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한회사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43400" y="4648320"/>
              <a:ext cx="10904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동화자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34120" y="4495680"/>
              <a:ext cx="853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A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3280" y="4424400"/>
              <a:ext cx="102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3280" y="4713120"/>
              <a:ext cx="102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72200" y="420696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72200" y="44956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38880" y="3733920"/>
              <a:ext cx="4860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71600" y="4495680"/>
              <a:ext cx="9907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건설업체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47920" y="3200400"/>
              <a:ext cx="89064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발주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68320" y="3733920"/>
              <a:ext cx="7920" cy="7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149560" y="3733920"/>
              <a:ext cx="7920" cy="7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19320" y="3886200"/>
              <a:ext cx="8539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공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할부채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43080" y="3962520"/>
              <a:ext cx="3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시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38480" y="4572000"/>
              <a:ext cx="33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71800" y="4495680"/>
              <a:ext cx="97956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산보유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건설보증기관</a:t>
              </a: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86000" y="42670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14600" y="49528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2514600" y="4876560"/>
              <a:ext cx="3319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68600" y="4648320"/>
              <a:ext cx="33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556272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익증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48520" y="585144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72200" y="5791320"/>
              <a:ext cx="102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172200" y="6095880"/>
              <a:ext cx="102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91120" y="54100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9" name=""/>
            <p:cNvCxnSpPr>
              <a:stCxn id="759" idx="2"/>
              <a:endCxn id="741" idx="1"/>
            </p:cNvCxnSpPr>
            <p:nvPr/>
          </p:nvCxnSpPr>
          <p:spPr>
            <a:xfrm flipH="1" rot="16200000">
              <a:off x="3436200" y="4989240"/>
              <a:ext cx="938880" cy="888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048120" y="556272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 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1" name=""/>
            <p:cNvCxnSpPr>
              <a:stCxn id="731" idx="3"/>
              <a:endCxn id="759" idx="0"/>
            </p:cNvCxnSpPr>
            <p:nvPr/>
          </p:nvCxnSpPr>
          <p:spPr>
            <a:xfrm>
              <a:off x="2338560" y="3473280"/>
              <a:ext cx="1124640" cy="102312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 flipV="1">
              <a:off x="2362320" y="35049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0400" y="31240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시공보증계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/>
            <p:nvPr/>
          </p:nvCxnSpPr>
          <p:spPr>
            <a:xfrm flipV="1" rot="16200000">
              <a:off x="4241880" y="2995920"/>
              <a:ext cx="229320" cy="170388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  <p:sp>
          <p:nvSpPr>
            <p:cNvPr id="775" name=""/>
            <p:cNvSpPr/>
            <p:nvPr/>
          </p:nvSpPr>
          <p:spPr>
            <a:xfrm>
              <a:off x="4343400" y="327672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전부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일부보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43200" y="2514600"/>
              <a:ext cx="2133720" cy="243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48120" y="59436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전부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일부보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762120" y="914400"/>
            <a:ext cx="81532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선결과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설보증기관의  역할 재정립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산보유자 기능 부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이행제도의 개선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소액 공사할부채권 수집 기능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신용보강 기능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사업에 대한 종합관리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권리확보 장치 개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0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28600" y="380880"/>
            <a:ext cx="3124080" cy="4572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Ⅳ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분양분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990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부동산 개발사업의 유동화 대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72400" y="350532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료시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66680" y="270972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066680" y="1676520"/>
            <a:ext cx="685800" cy="10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76552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분양시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111400"/>
            <a:ext cx="85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토지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인허가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3200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행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공사지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" y="276552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착수시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81480" y="2819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292896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00400" y="3146400"/>
            <a:ext cx="2590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유동화 대상자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분양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정매출채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미분양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미확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43600" y="30909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24480" y="3254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34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3152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3745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14800" y="2873520"/>
            <a:ext cx="533520" cy="2174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676520" y="2819520"/>
            <a:ext cx="2971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52480" y="4114800"/>
            <a:ext cx="6248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3720" y="5181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52480" y="4800600"/>
            <a:ext cx="6858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52480" y="1676520"/>
            <a:ext cx="67057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343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한미은행 사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3720" y="4952880"/>
            <a:ext cx="1523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미분양분 유동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미확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4191120"/>
            <a:ext cx="236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분양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정매출채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행자 지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공사 지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449568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내외 분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43800" y="487692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20120" y="55627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미분양아파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유동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586728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520" y="457200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23880" y="58672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토지할부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공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여금 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1600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누적현금흐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28600" y="380880"/>
            <a:ext cx="3124080" cy="4572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Ⅳ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분양분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" y="990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분양분의 유동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3720" y="5181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1295280"/>
            <a:ext cx="88390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현금흐름의 특징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계약에 따라 미분양 현금흐름의 지분이 시공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행사로 나누어짐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일이 경과할수록  담보가치는 증가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입주 이전에 미분양분이 소화될 경우 자금회수가 매우 용이해짐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입주시까지 미분양될 경우 시행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사가 일시 상환하거나 최악의 경우 미분양 물건으로 변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완공시 근저당권 설정확약서 징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부동산신탁사에 처분신탁 의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각종 보강장치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아파트 분양대금 계좌를 별도 개설후 근질권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완공시 미분양분에 대한 근저당권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금 사무관리 위탁계약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기성에 따른 시공비의 지급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사의 공사 완공보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사 파산시에 공사 이행보증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의 완공 여부에 따라 미분양분의 위험이 크게 달라지게 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공사이행 보증업무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행하는 건설보증기관의 역할이 중요해짐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2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228600" y="380880"/>
            <a:ext cx="3124080" cy="4572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Ⅳ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분양분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5181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90920" y="2184480"/>
            <a:ext cx="173016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시행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2895480"/>
            <a:ext cx="85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담보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약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62320" y="4648320"/>
            <a:ext cx="838080" cy="8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보증기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1219320"/>
            <a:ext cx="89064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부동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신탁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52880" y="2184480"/>
            <a:ext cx="1730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시공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9880" y="3490920"/>
            <a:ext cx="1730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은행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4703760"/>
            <a:ext cx="1730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P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43400" y="4049640"/>
            <a:ext cx="792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876920" y="4049640"/>
            <a:ext cx="792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05320" y="411480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양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48320" y="414324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246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3400" y="2278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27672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029200" y="2744280"/>
            <a:ext cx="609480" cy="74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4120" y="2971800"/>
            <a:ext cx="137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양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후순위매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여금상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255744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공계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81000" y="128412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③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유동화 구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429000" y="1676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105520" y="1599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90920" y="1600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처분신탁의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57800" y="1600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처분신탁의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48520" y="3505320"/>
            <a:ext cx="173016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은행 부동산투자신탁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5715000" y="3886200"/>
            <a:ext cx="331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715000" y="3581280"/>
            <a:ext cx="331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38680" y="327672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양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638680" y="403848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48520" y="4724280"/>
            <a:ext cx="173016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투자자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248520" y="426708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수익증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86600" y="426708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81680" y="4038480"/>
            <a:ext cx="792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315200" y="4038120"/>
            <a:ext cx="792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86200" y="5943600"/>
            <a:ext cx="1730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투자자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7600" y="5334120"/>
            <a:ext cx="85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선순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증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48640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19720" y="5257800"/>
            <a:ext cx="792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952880" y="5257800"/>
            <a:ext cx="792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76720" y="457200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보증계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27432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48120" y="2819520"/>
            <a:ext cx="85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담보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약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733920" y="2895480"/>
            <a:ext cx="137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양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후순위매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75200" y="6369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3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28600" y="380880"/>
            <a:ext cx="3124080" cy="4572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향후 과제와 기대 효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3520" y="12193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향후 과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이행보증제도의 정비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33720" y="5181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920" y="1752480"/>
            <a:ext cx="8839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할부채권은 공사가 이행되었을 때 원리금 회수가 용이해짐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공사이행여부가  중요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그러나 현행 건설보증제도는 미흡한 상태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시공사의 부도로 공사가 중단될 경우 즉각 공사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타절하여 승계시공하거나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00%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행보증을 할 수 있도록 제도를 개선해야 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3520" y="3124080"/>
            <a:ext cx="53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관리의 강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53800" y="3581280"/>
            <a:ext cx="54439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의 일정관리 및 기성관리 등이 합리적으로 이루어질 수 있도록 전문가들의 공사관리의 필요성 증대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기성에 따라 각종 자금이 집행되고 공사가 중단될 경우에도 각종 권리 확보가 용이할 경우 미래의 현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흐름의 유동화가 쉬워짐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47242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업추진 이전에 시공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행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금융기관간 합의의 중요성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23920" y="5181480"/>
            <a:ext cx="5078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 착수나 분양 이전에 프로젝트와 관계한 이해관계자들이 상호 리스크를 분담할 필요가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일정 수준 이상의 분양이 이루어질 경우에  프로젝트가 순조롭게 진행될 수 있도록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현금흐름 계획이 있어야 할 것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4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228600" y="380880"/>
            <a:ext cx="3124080" cy="4572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향후 과제와 기대 효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" y="838080"/>
            <a:ext cx="5334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대 효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5181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4920" y="1905120"/>
            <a:ext cx="883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시공 비용 에 대한 자금 부담을 완화시키는 효과가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민간 발주자의 자금부족으로 인한 공사 중단 가능성을 줄일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다소의 금융 비용을 부담 할 가능성이 있음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80880" y="28195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행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79920" y="3124080"/>
            <a:ext cx="478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본격적인 사업 시행 이전에 자금조달 계획을 세울 수 있어 사업 위험을 크게 줄일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해관계자들과 사업의 부가가치를 나누게 되어 수익률이 떨어질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4920" y="38098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금융기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05320" y="4114800"/>
            <a:ext cx="402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상대적으로 안정적이면서도 높은 수익을 받을 수 있는 상품 개발이 가능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사업에 대한 안정장치가 미비할 경우 어려움에 처할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39160" y="5257800"/>
            <a:ext cx="420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보증기관으로서의 역할을 재정립하고 새로운 수익원을 모색할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관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위험관리에 대한 노하우 부족으로  수행에 어려움이 있을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920" y="4800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보증기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85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3352680" cy="53352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건설관련 자산유동화의 필요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3880"/>
            <a:ext cx="8381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설업체의 부동산 개발자금 조달 수단의 붕괴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식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권 시장 및 간접자본 시장 경색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유동화 필요성의 증대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따라서 미래 현금흐름의 유동화 추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89548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공사채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유동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3280" y="3041280"/>
            <a:ext cx="534960" cy="10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76160" y="3958200"/>
            <a:ext cx="533160" cy="8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1295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자본시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신용경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733920"/>
            <a:ext cx="1295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간접금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조달 어려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03520" y="3041280"/>
            <a:ext cx="534960" cy="10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0666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산 유동화의 필요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685800" cy="3124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0f0f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05320" y="3958200"/>
            <a:ext cx="534960" cy="10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514600"/>
            <a:ext cx="685800" cy="3124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0f0f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514600"/>
            <a:ext cx="685800" cy="3124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0f0f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514600"/>
            <a:ext cx="685800" cy="3124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0f0f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개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사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추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어려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가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733920"/>
            <a:ext cx="380880" cy="457200"/>
          </a:xfrm>
          <a:custGeom>
            <a:avLst/>
            <a:gdLst>
              <a:gd name="textAreaLeft" fmla="*/ 47520 w 380880"/>
              <a:gd name="textAreaRight" fmla="*/ 333360 w 380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733920"/>
            <a:ext cx="380880" cy="457200"/>
          </a:xfrm>
          <a:custGeom>
            <a:avLst/>
            <a:gdLst>
              <a:gd name="textAreaLeft" fmla="*/ 47520 w 380880"/>
              <a:gd name="textAreaRight" fmla="*/ 333360 w 380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03848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분양 현금흐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유동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733920"/>
            <a:ext cx="381240" cy="457200"/>
          </a:xfrm>
          <a:custGeom>
            <a:avLst/>
            <a:gdLst>
              <a:gd name="textAreaLeft" fmla="*/ 47520 w 381240"/>
              <a:gd name="textAreaRight" fmla="*/ 333720 w 381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0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80880"/>
            <a:ext cx="3352680" cy="53352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건설관련 자산유동화의 필요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057400"/>
            <a:ext cx="838188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부동산 개발사업의 사업구조를 분석하고 그에 적합한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ructured loan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의 확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은행 부동산 투자신탁의 확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t Financing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방식의 대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다양한 원리금 회수 장치의 설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토지대금 지원 중심이며 분양대금에서 원리금을 조기 회수하는 형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은행 부동산 투자신탁의 영업 범위의 확대 추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래의 확정 분양 매출채권의 유동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한미은행 굿뱅크 부동산투자신탁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도권 주거용 개발사업에서 중소형 오피스텔 사업으로 확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오피스 빌딩 등을 매입하여 임대수입을 배당하는 형태로 확대 경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952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 자산유동화의 최근 동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8088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 방식별 유동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2819520"/>
            <a:ext cx="228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할부채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909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수주사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267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개발사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0666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유동화 대상 자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2666880"/>
            <a:ext cx="838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은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부동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투자신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자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담보부 사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419720"/>
            <a:ext cx="380880" cy="457200"/>
          </a:xfrm>
          <a:custGeom>
            <a:avLst/>
            <a:gdLst>
              <a:gd name="textAreaLeft" fmla="*/ 47520 w 380880"/>
              <a:gd name="textAreaRight" fmla="*/ 333360 w 380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819520"/>
            <a:ext cx="380880" cy="457200"/>
          </a:xfrm>
          <a:custGeom>
            <a:avLst/>
            <a:gdLst>
              <a:gd name="textAreaLeft" fmla="*/ 47520 w 380880"/>
              <a:gd name="textAreaRight" fmla="*/ 333360 w 380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429000"/>
            <a:ext cx="457200" cy="914400"/>
          </a:xfrm>
          <a:custGeom>
            <a:avLst/>
            <a:gdLst>
              <a:gd name="textAreaLeft" fmla="*/ 56880 w 457200"/>
              <a:gd name="textAreaRight" fmla="*/ 400320 w 4572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403848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분양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확정매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57200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분양분 채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18148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완공된 미분양 아파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579132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토지담보 대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23880"/>
            <a:ext cx="883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민간사업방식은  수주와 개발사업으로 나눌 수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 때 유동화 대상자산으로 공사채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분양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분양분 채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완공된 미분양 아파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토지 등이 있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2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8088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 방식별 유동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9907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유동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88390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①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BS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방식의 유동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산유동화에 관한 법류에 의거해 유동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e sale,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산보유자 요건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선후순위채권 구조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신용보강    ■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CP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방식의 발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고정 또는 변동금리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S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옵션형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익참가부 등 다양한 조건의 증권 발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3352680"/>
            <a:ext cx="6505560" cy="3106800"/>
            <a:chOff x="914400" y="3352680"/>
            <a:chExt cx="6505560" cy="3106800"/>
          </a:xfrm>
        </p:grpSpPr>
        <p:grpSp>
          <p:nvGrpSpPr>
            <p:cNvPr id="104" name=""/>
            <p:cNvGrpSpPr/>
            <p:nvPr/>
          </p:nvGrpSpPr>
          <p:grpSpPr>
            <a:xfrm>
              <a:off x="4049640" y="4267080"/>
              <a:ext cx="1730520" cy="1228680"/>
              <a:chOff x="4049640" y="4267080"/>
              <a:chExt cx="1730520" cy="12286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4049640" y="4267080"/>
                <a:ext cx="1730520" cy="1228680"/>
                <a:chOff x="4049640" y="4267080"/>
                <a:chExt cx="1730520" cy="1228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049640" y="4267080"/>
                  <a:ext cx="1730520" cy="122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049640" y="4676400"/>
                  <a:ext cx="17305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860720" y="4676400"/>
                  <a:ext cx="0" cy="8190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5364000" y="5107680"/>
                <a:ext cx="408960" cy="386640"/>
              </a:xfrm>
              <a:custGeom>
                <a:avLst/>
                <a:gdLst/>
                <a:ahLst/>
                <a:rect l="l" t="t" r="r" b="b"/>
                <a:pathLst>
                  <a:path w="363" h="408">
                    <a:moveTo>
                      <a:pt x="363" y="0"/>
                    </a:moveTo>
                    <a:cubicBezTo>
                      <a:pt x="336" y="19"/>
                      <a:pt x="314" y="25"/>
                      <a:pt x="283" y="35"/>
                    </a:cubicBezTo>
                    <a:cubicBezTo>
                      <a:pt x="181" y="104"/>
                      <a:pt x="94" y="186"/>
                      <a:pt x="44" y="301"/>
                    </a:cubicBezTo>
                    <a:cubicBezTo>
                      <a:pt x="28" y="338"/>
                      <a:pt x="0" y="366"/>
                      <a:pt x="0" y="408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44960" y="5954760"/>
              <a:ext cx="17305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자산관리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44956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4080" y="51814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84320" y="5181480"/>
              <a:ext cx="3315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22880" y="4363920"/>
              <a:ext cx="13478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SPC(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한회사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4952880"/>
              <a:ext cx="1090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동화자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4800600"/>
              <a:ext cx="853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A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8360" y="4728960"/>
              <a:ext cx="102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778000" y="5018040"/>
              <a:ext cx="102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7280" y="45115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48006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9400" y="55926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관리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처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5562360"/>
              <a:ext cx="5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44960" y="3352680"/>
              <a:ext cx="17305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신용보강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5486400"/>
              <a:ext cx="79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81480" y="5486400"/>
              <a:ext cx="79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380988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57800" y="380952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2560" y="388764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신용제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29200" y="38862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수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4320" y="4038480"/>
              <a:ext cx="485640" cy="180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4800600"/>
              <a:ext cx="990720" cy="5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건설업체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3504960"/>
              <a:ext cx="89064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발주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63760" y="4038480"/>
              <a:ext cx="792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844640" y="4038120"/>
              <a:ext cx="792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190760"/>
              <a:ext cx="8539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공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할부채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8160" y="4267080"/>
              <a:ext cx="34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시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1600" y="4876560"/>
              <a:ext cx="33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54360" y="4800600"/>
              <a:ext cx="97956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산보유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45720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6160" y="52578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336760" y="5257440"/>
              <a:ext cx="3319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3680" y="4952880"/>
              <a:ext cx="33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436560" y="629388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3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38088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 방식별 유동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066680"/>
            <a:ext cx="88390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②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은행부동산 투자신탁 방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신용등급이 높은 건설회사의 완공보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높은 초기 분양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60-70%)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예상 사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아파트 분양대금 입금계좌의 근질권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유동화 대금으로 토지 비용  등을 충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3352680"/>
            <a:ext cx="7086600" cy="2719440"/>
            <a:chOff x="990720" y="3352680"/>
            <a:chExt cx="7086600" cy="2719440"/>
          </a:xfrm>
        </p:grpSpPr>
        <p:sp>
          <p:nvSpPr>
            <p:cNvPr id="147" name=""/>
            <p:cNvSpPr/>
            <p:nvPr/>
          </p:nvSpPr>
          <p:spPr>
            <a:xfrm>
              <a:off x="2590920" y="3581280"/>
              <a:ext cx="173016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시행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411480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67080" y="411444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419112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원리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41911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8880" y="3581280"/>
              <a:ext cx="838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계약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3581280"/>
              <a:ext cx="890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토지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2880" y="3581280"/>
              <a:ext cx="17305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시공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4648320"/>
              <a:ext cx="17305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은행 부동산 투자신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9880" y="5638680"/>
              <a:ext cx="17305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투자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5105520"/>
              <a:ext cx="79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876920" y="5105520"/>
              <a:ext cx="79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518148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익증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51814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3809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340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3400" y="365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34290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토지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28800" y="3886200"/>
              <a:ext cx="85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029200" y="40384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42670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협약체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335268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38862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시공계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4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9907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371600"/>
            <a:ext cx="883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민간 발주자로부터 공사시공 대가로 받을 공사대금을 할부형태로 만든 채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할부채권은 주로 민간개발사업 중에서 건설회사가 자금을 제공하여 수주하는 사업에서 발생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할부채권을 건설사로부터 자산보유자가 인수하고 이를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C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나 은행 부동산 투자신탁 등에 양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3200400"/>
            <a:ext cx="8001000" cy="3124080"/>
            <a:chOff x="914400" y="3200400"/>
            <a:chExt cx="8001000" cy="3124080"/>
          </a:xfrm>
        </p:grpSpPr>
        <p:grpSp>
          <p:nvGrpSpPr>
            <p:cNvPr id="176" name=""/>
            <p:cNvGrpSpPr/>
            <p:nvPr/>
          </p:nvGrpSpPr>
          <p:grpSpPr>
            <a:xfrm>
              <a:off x="4038480" y="4114800"/>
              <a:ext cx="1730520" cy="1228680"/>
              <a:chOff x="4038480" y="4114800"/>
              <a:chExt cx="1730520" cy="1228680"/>
            </a:xfrm>
          </p:grpSpPr>
          <p:sp>
            <p:nvSpPr>
              <p:cNvPr id="177" name=""/>
              <p:cNvSpPr/>
              <p:nvPr/>
            </p:nvSpPr>
            <p:spPr>
              <a:xfrm>
                <a:off x="4038480" y="4114800"/>
                <a:ext cx="1730520" cy="122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8480" y="4524120"/>
                <a:ext cx="1730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49560" y="4524120"/>
                <a:ext cx="0" cy="819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353200" y="4956120"/>
              <a:ext cx="409320" cy="38592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0"/>
                  </a:moveTo>
                  <a:cubicBezTo>
                    <a:pt x="336" y="19"/>
                    <a:pt x="314" y="25"/>
                    <a:pt x="283" y="35"/>
                  </a:cubicBezTo>
                  <a:cubicBezTo>
                    <a:pt x="181" y="104"/>
                    <a:pt x="94" y="186"/>
                    <a:pt x="44" y="301"/>
                  </a:cubicBezTo>
                  <a:cubicBezTo>
                    <a:pt x="28" y="338"/>
                    <a:pt x="0" y="366"/>
                    <a:pt x="0" y="40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44960" y="5802480"/>
              <a:ext cx="17305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은행 부동산투자신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43434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1280" y="51055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3733560" y="5029200"/>
              <a:ext cx="3315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22880" y="4211640"/>
              <a:ext cx="13478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SPC(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한회사</a:t>
              </a: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480" y="4800600"/>
              <a:ext cx="1090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굴림"/>
                </a:rPr>
                <a:t>유동화자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4648320"/>
              <a:ext cx="853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굴림"/>
                </a:rPr>
                <a:t>A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8360" y="4576680"/>
              <a:ext cx="102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778000" y="4865760"/>
              <a:ext cx="102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435924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7280" y="46483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44960" y="3200400"/>
              <a:ext cx="17305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신용보강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24280" y="365760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57800" y="3657240"/>
              <a:ext cx="792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2560" y="373536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신용제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9200" y="373392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수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34320" y="3886200"/>
              <a:ext cx="48564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6680" y="4648320"/>
              <a:ext cx="990720" cy="5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건설업체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3352680"/>
              <a:ext cx="89064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민간 발주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3760" y="3886200"/>
              <a:ext cx="792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844640" y="3885840"/>
              <a:ext cx="792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4038480"/>
              <a:ext cx="8539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공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할부채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8160" y="4114800"/>
              <a:ext cx="34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시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11600" y="4724280"/>
              <a:ext cx="33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4648320"/>
              <a:ext cx="97956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Times New Roman"/>
                </a:rPr>
                <a:t>자산보유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43434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510552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09680" y="5029200"/>
              <a:ext cx="3319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3680" y="4800600"/>
              <a:ext cx="33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3600" y="57150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수익증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3600" y="600408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5943600"/>
              <a:ext cx="102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866920" y="6248520"/>
              <a:ext cx="102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55627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05" idx="2"/>
              <a:endCxn id="181" idx="1"/>
            </p:cNvCxnSpPr>
            <p:nvPr/>
          </p:nvCxnSpPr>
          <p:spPr>
            <a:xfrm flipH="1" rot="16200000">
              <a:off x="3131280" y="5141880"/>
              <a:ext cx="938880" cy="888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2743200" y="5715000"/>
              <a:ext cx="8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양도 대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13760" y="2362320"/>
            <a:ext cx="47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사대금 중에서 상대적으로 안정적인 리모델링 공사할부채권에 대해서 분석을 수행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5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38088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4" y="0"/>
                </a:lnTo>
                <a:lnTo>
                  <a:pt x="21600" y="10800"/>
                </a:lnTo>
                <a:lnTo>
                  <a:pt x="202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사할부채권 유동화 방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990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리모델링 공사할부채권제도에 관한 설문조사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371600"/>
            <a:ext cx="8839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조사대상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서울지역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304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개 빌딩 소유주 또는 빌딩 관리책임자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18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개 건설업체 리모델링 담당자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리모델링 시행시 애로사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경제적 효과에 대한 확신 부족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50.4%)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금조달의 어려움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23.6%)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■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종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중구 지역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8.8%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로 가장 높음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금조달의 어려움은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하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16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년 이상된 빌딩의 경우에 심함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3200400"/>
          <a:ext cx="2895840" cy="29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0400"/>
                    <a:ext cx="28958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3452760" y="3262320"/>
            <a:ext cx="2541600" cy="2862360"/>
            <a:chOff x="3452760" y="3262320"/>
            <a:chExt cx="2541600" cy="2862360"/>
          </a:xfrm>
        </p:grpSpPr>
        <p:sp>
          <p:nvSpPr>
            <p:cNvPr id="225" name=""/>
            <p:cNvSpPr/>
            <p:nvPr/>
          </p:nvSpPr>
          <p:spPr>
            <a:xfrm>
              <a:off x="3452760" y="3262320"/>
              <a:ext cx="2541600" cy="286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6640" y="4456080"/>
              <a:ext cx="231840" cy="1133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8320" y="4386240"/>
              <a:ext cx="226800" cy="12034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4960" y="4060800"/>
              <a:ext cx="231840" cy="15289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6720" y="3735360"/>
              <a:ext cx="19080" cy="18543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53262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06720" y="50626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06720" y="4799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6720" y="45259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06720" y="42624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06720" y="399888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06720" y="3735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06720" y="5589720"/>
              <a:ext cx="171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906720" y="555300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478400" y="555300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45040" y="555300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16720" y="555300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20800" y="335916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자금조달의 어려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82400" y="428940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54080" y="42195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2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0720" y="389412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8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3480" y="55357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3480" y="52722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55520" y="5008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5520" y="4746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55520" y="4473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55520" y="42102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5520" y="3946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55520" y="3683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16960" y="5694480"/>
              <a:ext cx="41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남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서초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3120" y="5694480"/>
              <a:ext cx="489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마포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영등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42960" y="5694480"/>
              <a:ext cx="41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종로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중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3440" y="587844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권역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27720" y="3490920"/>
              <a:ext cx="36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2760" y="3262320"/>
              <a:ext cx="2541600" cy="286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18200" y="3244680"/>
            <a:ext cx="2535120" cy="2862360"/>
            <a:chOff x="6118200" y="3244680"/>
            <a:chExt cx="2535120" cy="2862360"/>
          </a:xfrm>
        </p:grpSpPr>
        <p:sp>
          <p:nvSpPr>
            <p:cNvPr id="261" name=""/>
            <p:cNvSpPr/>
            <p:nvPr/>
          </p:nvSpPr>
          <p:spPr>
            <a:xfrm>
              <a:off x="6118200" y="3244680"/>
              <a:ext cx="2535120" cy="286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97800" y="3807000"/>
              <a:ext cx="174600" cy="1763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26200" y="4552920"/>
              <a:ext cx="169920" cy="10177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50280" y="4851360"/>
              <a:ext cx="174600" cy="7192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78680" y="3981600"/>
              <a:ext cx="169920" cy="1589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70720" y="3718080"/>
              <a:ext cx="19080" cy="18525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0720" y="530856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70720" y="50450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70720" y="47815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70720" y="450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70720" y="42451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70720" y="39816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70720" y="3718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70720" y="5570640"/>
              <a:ext cx="170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57072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999120" y="5535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42320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851600" y="5535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27568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2280" y="334152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자금조달의 어려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74760" y="36399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3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98480" y="43862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9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27240" y="468468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3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8560" y="3814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78200" y="5518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8200" y="5254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20960" y="4991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20960" y="4727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20960" y="44560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0960" y="41925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0960" y="3929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20960" y="3665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26600" y="5676840"/>
              <a:ext cx="33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이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30080" y="567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~10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2120" y="567684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~15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65280" y="5676840"/>
              <a:ext cx="43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 이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92600" y="58611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건물년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52560" y="3402000"/>
              <a:ext cx="36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8200" y="3244680"/>
              <a:ext cx="2535120" cy="286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276720" y="3262320"/>
            <a:ext cx="2717280" cy="2862360"/>
            <a:chOff x="3276720" y="3262320"/>
            <a:chExt cx="2717280" cy="2862360"/>
          </a:xfrm>
        </p:grpSpPr>
        <p:sp>
          <p:nvSpPr>
            <p:cNvPr id="301" name=""/>
            <p:cNvSpPr/>
            <p:nvPr/>
          </p:nvSpPr>
          <p:spPr>
            <a:xfrm>
              <a:off x="3276720" y="3262320"/>
              <a:ext cx="2717280" cy="286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43800" y="4456080"/>
              <a:ext cx="247680" cy="1133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4720" y="4386240"/>
              <a:ext cx="242280" cy="12034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60600" y="4060800"/>
              <a:ext cx="247680" cy="15289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62000" y="3735360"/>
              <a:ext cx="20160" cy="18543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62000" y="5326200"/>
              <a:ext cx="2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62000" y="5062680"/>
              <a:ext cx="2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62000" y="4799160"/>
              <a:ext cx="2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2000" y="4525920"/>
              <a:ext cx="2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62000" y="4262400"/>
              <a:ext cx="2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62000" y="3998880"/>
              <a:ext cx="2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62000" y="3735360"/>
              <a:ext cx="2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62000" y="5589720"/>
              <a:ext cx="1828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762000" y="555300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373280" y="555300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979160" y="555300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590440" y="555300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0040" y="335916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자금조달의 어려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5640" y="428940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6560" y="42195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2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2440" y="389412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8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61560" y="55357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61560" y="52722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16920" y="5008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16920" y="4746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16920" y="4473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16920" y="42102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16920" y="3946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16920" y="3683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7200" y="569448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남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서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2280" y="5694480"/>
              <a:ext cx="39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마포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영등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9400" y="5694480"/>
              <a:ext cx="33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종로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/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중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6160" y="587844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권역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64360" y="3490920"/>
              <a:ext cx="36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76720" y="3262320"/>
              <a:ext cx="2717280" cy="286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019920" y="3244680"/>
            <a:ext cx="2895120" cy="2862360"/>
            <a:chOff x="6019920" y="3244680"/>
            <a:chExt cx="2895120" cy="2862360"/>
          </a:xfrm>
        </p:grpSpPr>
        <p:sp>
          <p:nvSpPr>
            <p:cNvPr id="337" name=""/>
            <p:cNvSpPr/>
            <p:nvPr/>
          </p:nvSpPr>
          <p:spPr>
            <a:xfrm>
              <a:off x="6019920" y="3244680"/>
              <a:ext cx="2895120" cy="286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81600" y="3807000"/>
              <a:ext cx="199080" cy="1763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70840" y="4552920"/>
              <a:ext cx="194040" cy="10177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55400" y="4851360"/>
              <a:ext cx="199080" cy="7192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44640" y="3981600"/>
              <a:ext cx="194040" cy="1589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36520" y="3718080"/>
              <a:ext cx="21600" cy="1852560"/>
            </a:xfrm>
            <a:custGeom>
              <a:avLst/>
              <a:gdLst/>
              <a:ahLst/>
              <a:rect l="l" t="t" r="r" b="b"/>
              <a:pathLst>
                <a:path w="4" h="211">
                  <a:moveTo>
                    <a:pt x="0" y="0"/>
                  </a:moveTo>
                  <a:lnTo>
                    <a:pt x="0" y="211"/>
                  </a:lnTo>
                  <a:lnTo>
                    <a:pt x="4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6520" y="530856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36520" y="504504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36520" y="478152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36520" y="450864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36520" y="424512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36520" y="398160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36520" y="371808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36520" y="5570640"/>
              <a:ext cx="194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53652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025760" y="5535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51032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999560" y="5535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483760" y="5535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62360" y="334152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자금조달의 어려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3920" y="36399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3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87760" y="43862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9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77720" y="468468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3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95760" y="3814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30320" y="5518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30320" y="5254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82800" y="4991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82800" y="4727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82800" y="44560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82800" y="41925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2800" y="3929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2800" y="3665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92400" y="5676840"/>
              <a:ext cx="26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이하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48160" y="5676840"/>
              <a:ext cx="31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6~10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12560" y="5676840"/>
              <a:ext cx="3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0~15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22680" y="567684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16</a:t>
              </a:r>
              <a:r>
                <a:rPr b="0" lang="ko-KR" sz="8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년 이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60640" y="58611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건물년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2160" y="3402000"/>
              <a:ext cx="36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단위</a:t>
              </a:r>
              <a:r>
                <a:rPr b="0" lang="ko-KR" sz="10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(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920" y="3244680"/>
              <a:ext cx="2895120" cy="286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- 66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0:35:12Z</dcterms:created>
  <dc:creator>E.M.Lee</dc:creator>
  <dc:description/>
  <dc:language>en-US</dc:language>
  <cp:lastModifiedBy>심형석</cp:lastModifiedBy>
  <cp:lastPrinted>2001-07-20T11:38:14Z</cp:lastPrinted>
  <dcterms:modified xsi:type="dcterms:W3CDTF">2001-07-20T11:44:30Z</dcterms:modified>
  <cp:revision>222</cp:revision>
  <dc:subject/>
  <dc:title>PowerPoint 프레젠테이션</dc:title>
</cp:coreProperties>
</file>