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AC7-60CD-4441-BC0F-8547DC07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668-4146-42AF-9609-26F97D7E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83F-B615-490C-9466-C5DD4C77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33F-53CE-4DF9-A327-F6A3D116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4ADE-8396-4457-AE0B-C5246E7C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88F2-9265-40C5-ADEF-81C0894A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F3C6-D10E-481C-B863-E7883497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5AA9-5917-466A-92D9-6BB56642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D77C-DECC-4925-B092-9265C77E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AEE2-4F18-4450-93A5-2E48917A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ED7A-539A-45C0-BA2B-A48FC30D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55A-466A-4F55-B15E-9A636444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4290-6B14-4653-9A20-09B491F2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703C-9A20-411F-80BC-E98A6782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9A90-94BA-450C-8C5A-C869E000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9846-71EB-4CCB-9047-3B28B5E8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7DB2-BA0C-448A-B0AE-FD1BDE31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FDB-9AC3-40F8-875A-59B775B4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201-A2C3-4904-BC42-C7CDACE9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C85-5297-4584-A986-C0439864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EF7-6809-42FF-A744-B5A0A693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290-2AD3-447D-A6BF-A40DEA70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01E-86DF-40EF-BFEA-034A8CA9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1D5-A6C5-4253-BD91-847085B5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990720"/>
            <a:ext cx="845820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50000">
                <a:srgbClr val="0066cc"/>
              </a:gs>
              <a:gs pos="100000">
                <a:srgbClr val="000f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304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629400"/>
            <a:ext cx="350496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79F4-030A-461C-A4FE-77AF36FE22C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12680" y="304920"/>
            <a:ext cx="1501920" cy="228600"/>
          </a:xfrm>
          <a:prstGeom prst="rect">
            <a:avLst/>
          </a:prstGeom>
          <a:ln w="0">
            <a:noFill/>
          </a:ln>
        </p:spPr>
      </p:pic>
      <p:pic>
        <p:nvPicPr>
          <p:cNvPr id="7" name="index_03" descr=""/>
          <p:cNvPicPr/>
          <p:nvPr/>
        </p:nvPicPr>
        <p:blipFill>
          <a:blip r:embed="rId3"/>
          <a:stretch/>
        </p:blipFill>
        <p:spPr>
          <a:xfrm>
            <a:off x="7391520" y="244440"/>
            <a:ext cx="137160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304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687240" y="1143000"/>
            <a:ext cx="8456760" cy="198108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50000">
                <a:srgbClr val="0066cc"/>
              </a:gs>
              <a:gs pos="100000">
                <a:srgbClr val="000f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E7DE-2F39-4EB8-B917-5A5B5278111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m4i.org.uk/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www.thehousingforum.org.uk/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lgtf.org.uk/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건설산업의 효율성 및 생산성 향상 전략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- </a:t>
            </a:r>
            <a:r>
              <a:rPr b="0" lang="zh-CN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국 건설산업 혁신운동의 벤치마킹 결과를 중심으로 </a:t>
            </a:r>
            <a:r>
              <a:rPr b="0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-</a:t>
            </a:r>
            <a:endParaRPr b="0" lang="en-US" sz="2000" spc="-1" strike="noStrike">
              <a:solidFill>
                <a:srgbClr val="cbcbcb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276720"/>
            <a:ext cx="1981080" cy="3421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6267600"/>
            <a:ext cx="108000" cy="13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6267600"/>
            <a:ext cx="108000" cy="13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6267600"/>
            <a:ext cx="108000" cy="13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6267600"/>
            <a:ext cx="108000" cy="13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267600"/>
            <a:ext cx="108000" cy="13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6267600"/>
            <a:ext cx="108000" cy="13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6267600"/>
            <a:ext cx="108000" cy="13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6089760"/>
            <a:ext cx="108000" cy="129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6089760"/>
            <a:ext cx="108000" cy="129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6089760"/>
            <a:ext cx="108000" cy="129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6089760"/>
            <a:ext cx="108000" cy="129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6089760"/>
            <a:ext cx="108000" cy="129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6089760"/>
            <a:ext cx="108000" cy="129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6089760"/>
            <a:ext cx="108000" cy="129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6267600"/>
            <a:ext cx="108000" cy="13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6267600"/>
            <a:ext cx="108000" cy="13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4876920"/>
          <a:ext cx="106668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876920"/>
                    <a:ext cx="10666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446120" y="3575160"/>
          <a:ext cx="106848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6120" y="3575160"/>
                    <a:ext cx="10684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971800" y="4114800"/>
            <a:ext cx="579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휴먼엑스포"/>
                <a:ea typeface="휴먼엑스포"/>
              </a:rPr>
              <a:t>세종대학교 건축공학과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휴먼엑스포"/>
                <a:ea typeface="휴먼엑스포"/>
              </a:rPr>
              <a:t>CM R&amp;D Group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휴먼엑스포"/>
                <a:ea typeface="휴먼엑스포"/>
              </a:rPr>
              <a:t>김 한수 </a:t>
            </a:r>
            <a:r>
              <a:rPr b="0" lang="en-US" sz="2400" spc="-1" strike="noStrike">
                <a:solidFill>
                  <a:srgbClr val="000099"/>
                </a:solidFill>
                <a:latin typeface="휴먼엑스포"/>
                <a:ea typeface="휴먼엑스포"/>
              </a:rPr>
              <a:t>PhD PMP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914400" y="533520"/>
            <a:ext cx="1752480" cy="380880"/>
          </a:xfrm>
          <a:prstGeom prst="rect">
            <a:avLst/>
          </a:prstGeom>
          <a:ln w="0">
            <a:noFill/>
          </a:ln>
        </p:spPr>
      </p:pic>
      <p:pic>
        <p:nvPicPr>
          <p:cNvPr id="111" name="index_03" descr=""/>
          <p:cNvPicPr/>
          <p:nvPr/>
        </p:nvPicPr>
        <p:blipFill>
          <a:blip r:embed="rId6"/>
          <a:stretch/>
        </p:blipFill>
        <p:spPr>
          <a:xfrm>
            <a:off x="7238880" y="533520"/>
            <a:ext cx="16002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482D-E3BE-431D-95A0-1DAB82B9BE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 </a:t>
            </a: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대 추진 분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905120"/>
          <a:ext cx="6629400" cy="4548240"/>
        </p:xfrm>
        <a:graphic>
          <a:graphicData uri="http://schemas.openxmlformats.org/drawingml/2006/table">
            <a:tbl>
              <a:tblPr/>
              <a:tblGrid>
                <a:gridCol w="533160"/>
                <a:gridCol w="3353040"/>
                <a:gridCol w="2743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Brief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사업초기단계 기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Value Manag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가치 매니지먼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Risk Manag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리스크 매니지먼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Benchmar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벤치마킹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성과측정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Information Technolo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정보통신기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Whole Life Cost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생애주기비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Culture and Peop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건설산업 문화 및 인적자원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Lean Constr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린 건설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Health &amp; Safe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건설 보건 및 안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Procur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조달 시스템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Integrating Design &amp; Constr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설계 및 시공 통합화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Sustainable Constr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환경친화적 건설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Supply Chain Manag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공급연쇄 매니지먼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Partnering and Team Develop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파트너링 및 팀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Standardization and Pre-assemb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표준화 및 선조립화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F48-0F2B-4A6E-AE32-F327962212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 추진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828800"/>
            <a:ext cx="5181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Best Practice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지식경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산학연관 공동 포럼 운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Working Groups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운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Best Practice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커뮤니티 운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시범사업 운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성과측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성공사례 축적 및 발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952880" y="2286000"/>
            <a:ext cx="3810240" cy="3733920"/>
            <a:chOff x="4952880" y="2286000"/>
            <a:chExt cx="3810240" cy="3733920"/>
          </a:xfrm>
        </p:grpSpPr>
        <p:sp>
          <p:nvSpPr>
            <p:cNvPr id="161" name=""/>
            <p:cNvSpPr/>
            <p:nvPr/>
          </p:nvSpPr>
          <p:spPr>
            <a:xfrm rot="5400000">
              <a:off x="3314520" y="3924360"/>
              <a:ext cx="3733920" cy="457200"/>
            </a:xfrm>
            <a:custGeom>
              <a:avLst/>
              <a:gdLst>
                <a:gd name="textAreaLeft" fmla="*/ 0 w 3733920"/>
                <a:gd name="textAreaRight" fmla="*/ 3734280 w 37339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62720" y="3260880"/>
              <a:ext cx="320040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3300"/>
                  </a:solidFill>
                  <a:latin typeface="휴먼모음T"/>
                  <a:ea typeface="휴먼모음T"/>
                </a:rPr>
                <a:t>파트너십</a:t>
              </a:r>
              <a:r>
                <a:rPr b="1" lang="ko-KR" sz="2000" spc="-1" strike="noStrike">
                  <a:solidFill>
                    <a:srgbClr val="ff3300"/>
                  </a:solidFill>
                  <a:latin typeface="휴먼모음T"/>
                  <a:ea typeface="휴먼모음T"/>
                </a:rPr>
                <a:t>: </a:t>
              </a:r>
              <a:r>
                <a:rPr b="1" lang="ko-KR" sz="2000" spc="-1" strike="noStrike">
                  <a:solidFill>
                    <a:srgbClr val="ff3300"/>
                  </a:solidFill>
                  <a:latin typeface="휴먼모음T"/>
                  <a:ea typeface="휴먼모음T"/>
                </a:rPr>
                <a:t>산학연관 협력체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3300"/>
                  </a:solidFill>
                  <a:latin typeface="휴먼모음T"/>
                  <a:ea typeface="휴먼모음T"/>
                </a:rPr>
                <a:t>Best Practice </a:t>
              </a:r>
              <a:r>
                <a:rPr b="1" lang="ko-KR" sz="2000" spc="-1" strike="noStrike">
                  <a:solidFill>
                    <a:srgbClr val="ff3300"/>
                  </a:solidFill>
                  <a:latin typeface="휴먼모음T"/>
                  <a:ea typeface="휴먼모음T"/>
                </a:rPr>
                <a:t>발굴 및 실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908-F4C1-4A54-B092-D53E6511AA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 추진 기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1143000" cy="993960"/>
          </a:xfrm>
          <a:prstGeom prst="rect">
            <a:avLst/>
          </a:prstGeom>
          <a:ln w="0">
            <a:noFill/>
          </a:ln>
        </p:spPr>
      </p:pic>
      <p:pic>
        <p:nvPicPr>
          <p:cNvPr id="165" name="M4ilogo" descr="Movement for Innovation M4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3581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HousingForum" descr="Housing Foru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00200" y="5181480"/>
            <a:ext cx="1676520" cy="1067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29000" y="2133720"/>
            <a:ext cx="5105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½Å¸íÁ¶"/>
                <a:ea typeface="신명조"/>
              </a:rPr>
              <a:t>Construction Best Practice Progra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½Å¸íÁ¶"/>
                <a:ea typeface="신명조"/>
              </a:rPr>
              <a:t>Best Practice </a:t>
            </a:r>
            <a:r>
              <a:rPr b="1" lang="ko-KR" sz="1800" spc="-1" strike="noStrike">
                <a:solidFill>
                  <a:srgbClr val="000066"/>
                </a:solidFill>
                <a:latin typeface="½Å¸íÁ¶"/>
                <a:ea typeface="신명조"/>
              </a:rPr>
              <a:t>지식경영센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Movement for Innova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비주택부문 </a:t>
            </a:r>
            <a:r>
              <a:rPr b="1" lang="ko-KR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Best Practice </a:t>
            </a:r>
            <a:r>
              <a:rPr b="1" lang="ko-KR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실천 추진기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산학연관 공동 참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Housing Foru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주택부문 </a:t>
            </a:r>
            <a:r>
              <a:rPr b="1" lang="ko-KR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Best Practice </a:t>
            </a:r>
            <a:r>
              <a:rPr b="1" lang="ko-KR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실천 추진기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산학연관 공동 참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7FA-A0EA-42C3-8CD9-AA595E7D24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 추진 기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205740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lgtflogo2" descr="Local Government Task Forc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3657600"/>
            <a:ext cx="2133720" cy="99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76720" y="21337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½Å¸íÁ¶"/>
                <a:ea typeface="신명조"/>
              </a:rPr>
              <a:t>Central Government Task Forc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½Å¸íÁ¶"/>
                <a:ea typeface="신명조"/>
              </a:rPr>
              <a:t>중앙정부 발주기관 </a:t>
            </a:r>
            <a:r>
              <a:rPr b="1" lang="en-US" sz="1800" spc="-1" strike="noStrike">
                <a:solidFill>
                  <a:srgbClr val="000066"/>
                </a:solidFill>
                <a:latin typeface="½Å¸íÁ¶"/>
                <a:ea typeface="신명조"/>
              </a:rPr>
              <a:t>Best Practice </a:t>
            </a:r>
            <a:r>
              <a:rPr b="1" lang="zh-CN" sz="1800" spc="-1" strike="noStrike">
                <a:solidFill>
                  <a:srgbClr val="000066"/>
                </a:solidFill>
                <a:latin typeface="½Å¸íÁ¶"/>
                <a:ea typeface="신명조"/>
              </a:rPr>
              <a:t>실천 협의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Local Government Task Forc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지방자치단체 발주기관 </a:t>
            </a:r>
            <a:r>
              <a:rPr b="1" lang="en-US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Best Practice </a:t>
            </a:r>
            <a:r>
              <a:rPr b="1" lang="zh-CN" sz="1800" spc="-1" strike="noStrike">
                <a:solidFill>
                  <a:srgbClr val="000066"/>
                </a:solidFill>
                <a:latin typeface="신명조"/>
                <a:ea typeface="신명조"/>
              </a:rPr>
              <a:t>실천 협의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029200"/>
            <a:ext cx="7391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정부</a:t>
            </a:r>
            <a:r>
              <a:rPr b="1" lang="en-US" sz="20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/</a:t>
            </a:r>
            <a:r>
              <a:rPr b="1" lang="zh-CN" sz="20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민간 공동 주도형 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Best Practice </a:t>
            </a:r>
            <a:r>
              <a:rPr b="1" lang="zh-CN" sz="20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실천의 추진을 위한 다양한 형태의 기관</a:t>
            </a:r>
            <a:r>
              <a:rPr b="1" lang="en-US" sz="20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/</a:t>
            </a:r>
            <a:r>
              <a:rPr b="1" lang="zh-CN" sz="20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협의체 운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산학연관 파트너십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EEC-F4E4-445D-AC32-001D23C6C5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의 주요 성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1828800"/>
            <a:ext cx="7467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정성적인 성과 및 정량적인 성과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31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가시적이고 대중적인 설득력 측면에서는 정량적 성과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31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Rethinking Construction </a:t>
            </a: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운동의 성과와 영국 건설산업의   변화를 가능하게 한 것은 정성적인 성과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5F0-ED91-4B69-823A-383D3064E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의 정성적 성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8288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5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정부 및 발주자의 인식 변화 및 참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5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시범 사업 및 성공 사례 증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5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Best Practice </a:t>
            </a: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지식의 축적 및 공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5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정부</a:t>
            </a:r>
            <a:r>
              <a:rPr b="1" lang="en-US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발주자 및 건설산업계의 파트너십 구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5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National Audit Office(</a:t>
            </a: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감사원</a:t>
            </a:r>
            <a:r>
              <a:rPr b="1" lang="en-US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)</a:t>
            </a: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의 </a:t>
            </a:r>
            <a:r>
              <a:rPr b="1" lang="en-US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2001</a:t>
            </a: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년 평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7A3-7482-4394-9E7F-DEA9634E46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정부 및 발주자의 인식 변화 및 참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8288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Latham/Egan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보고서 이전의 개혁보고서들이 실패한 이유는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건설산업 </a:t>
            </a:r>
            <a:r>
              <a:rPr b="1" lang="ko-KR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 건설산업계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(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공급자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건설산업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=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정부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+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발주자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+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건설산업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정부 및 발주자도 건설생산 과정의 주요 참여자임을 인식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AB1-F10B-42A9-838F-2183E3A834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082520" y="1828800"/>
            <a:ext cx="4757400" cy="3885840"/>
            <a:chOff x="1082520" y="1828800"/>
            <a:chExt cx="4757400" cy="3885840"/>
          </a:xfrm>
        </p:grpSpPr>
        <p:grpSp>
          <p:nvGrpSpPr>
            <p:cNvPr id="180" name=""/>
            <p:cNvGrpSpPr/>
            <p:nvPr/>
          </p:nvGrpSpPr>
          <p:grpSpPr>
            <a:xfrm>
              <a:off x="1082520" y="2514600"/>
              <a:ext cx="3337200" cy="3200040"/>
              <a:chOff x="1082520" y="2514600"/>
              <a:chExt cx="3337200" cy="3200040"/>
            </a:xfrm>
          </p:grpSpPr>
          <p:sp>
            <p:nvSpPr>
              <p:cNvPr id="181" name=""/>
              <p:cNvSpPr/>
              <p:nvPr/>
            </p:nvSpPr>
            <p:spPr>
              <a:xfrm>
                <a:off x="1082520" y="2514600"/>
                <a:ext cx="3337200" cy="320004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82520" y="2514600"/>
                <a:ext cx="3337200" cy="336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66"/>
                    </a:solidFill>
                    <a:latin typeface="굴림"/>
                  </a:rPr>
                  <a:t>새로운 패러다임</a:t>
                </a:r>
                <a:endParaRPr b="0" lang="en-US" sz="14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276360" y="1828800"/>
              <a:ext cx="2563560" cy="838080"/>
              <a:chOff x="3276360" y="1828800"/>
              <a:chExt cx="2563560" cy="838080"/>
            </a:xfrm>
          </p:grpSpPr>
          <p:sp>
            <p:nvSpPr>
              <p:cNvPr id="184" name=""/>
              <p:cNvSpPr/>
              <p:nvPr/>
            </p:nvSpPr>
            <p:spPr>
              <a:xfrm flipH="1">
                <a:off x="3276000" y="2438280"/>
                <a:ext cx="2563560" cy="228600"/>
              </a:xfrm>
              <a:custGeom>
                <a:avLst/>
                <a:gdLst>
                  <a:gd name="textAreaLeft" fmla="*/ 448560 w 2563560"/>
                  <a:gd name="textAreaRight" fmla="*/ 1858680 w 2563560"/>
                  <a:gd name="textAreaTop" fmla="*/ 30600 h 228600"/>
                  <a:gd name="textAreaBottom" fmla="*/ 19800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3733920" y="1828800"/>
                <a:ext cx="2047680" cy="53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555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cap="sq"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돋움"/>
                  </a:rPr>
                  <a:t>Pardigm Shift</a:t>
                </a:r>
                <a:endPara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돋움"/>
                  <a:ea typeface="돋움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4968720" y="2514600"/>
            <a:ext cx="3794400" cy="3200040"/>
            <a:chOff x="4968720" y="2514600"/>
            <a:chExt cx="3794400" cy="3200040"/>
          </a:xfrm>
        </p:grpSpPr>
        <p:sp>
          <p:nvSpPr>
            <p:cNvPr id="187" name=""/>
            <p:cNvSpPr/>
            <p:nvPr/>
          </p:nvSpPr>
          <p:spPr>
            <a:xfrm>
              <a:off x="4968720" y="2514600"/>
              <a:ext cx="3794400" cy="32000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68720" y="2514600"/>
              <a:ext cx="3794400" cy="336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기존 패러다임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패러다임 전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447920" y="3754440"/>
            <a:ext cx="6781680" cy="673920"/>
            <a:chOff x="1447920" y="3754440"/>
            <a:chExt cx="6781680" cy="673920"/>
          </a:xfrm>
        </p:grpSpPr>
        <p:sp>
          <p:nvSpPr>
            <p:cNvPr id="191" name=""/>
            <p:cNvSpPr/>
            <p:nvPr/>
          </p:nvSpPr>
          <p:spPr>
            <a:xfrm>
              <a:off x="3967200" y="3754440"/>
              <a:ext cx="1778040" cy="673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건설생산과정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굴림"/>
                </a:rPr>
                <a:t>(Black Box)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51560" y="3941640"/>
              <a:ext cx="1778040" cy="328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굴림"/>
                </a:rPr>
                <a:t>Output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7920" y="3886200"/>
              <a:ext cx="1778040" cy="328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굴림"/>
                </a:rPr>
                <a:t>Input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90760" y="3962520"/>
              <a:ext cx="601920" cy="258480"/>
            </a:xfrm>
            <a:custGeom>
              <a:avLst/>
              <a:gdLst>
                <a:gd name="textAreaLeft" fmla="*/ 93960 w 601920"/>
                <a:gd name="textAreaRight" fmla="*/ 526680 w 601920"/>
                <a:gd name="textAreaTop" fmla="*/ 64440 h 258480"/>
                <a:gd name="textAreaBottom" fmla="*/ 194040 h 25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9240" y="3962520"/>
              <a:ext cx="601560" cy="258480"/>
            </a:xfrm>
            <a:custGeom>
              <a:avLst/>
              <a:gdLst>
                <a:gd name="textAreaLeft" fmla="*/ 93960 w 601560"/>
                <a:gd name="textAreaRight" fmla="*/ 526680 w 601560"/>
                <a:gd name="textAreaTop" fmla="*/ 64440 h 258480"/>
                <a:gd name="textAreaBottom" fmla="*/ 194040 h 25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542960" y="4495680"/>
            <a:ext cx="7143840" cy="1081800"/>
            <a:chOff x="1542960" y="4495680"/>
            <a:chExt cx="7143840" cy="1081800"/>
          </a:xfrm>
        </p:grpSpPr>
        <p:sp>
          <p:nvSpPr>
            <p:cNvPr id="197" name=""/>
            <p:cNvSpPr/>
            <p:nvPr/>
          </p:nvSpPr>
          <p:spPr>
            <a:xfrm>
              <a:off x="1542960" y="4775040"/>
              <a:ext cx="1657440" cy="77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정부 및 발주자의          역량 및 인식 수준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13040" y="4759200"/>
              <a:ext cx="2154240" cy="45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건설산업계 역량 및     인식 수준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4759200"/>
              <a:ext cx="2666880" cy="81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algn="ctr">
                <a:lnSpc>
                  <a:spcPct val="1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66"/>
                  </a:solidFill>
                  <a:latin typeface="굴림"/>
                </a:rPr>
                <a:t>건설사업의 성과                   건설산업의 효율성 및  생산성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2226240" y="4507560"/>
              <a:ext cx="228600" cy="2048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4607280" y="4507560"/>
              <a:ext cx="228600" cy="2048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7042680" y="4507560"/>
              <a:ext cx="228600" cy="2048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313000" y="3124080"/>
            <a:ext cx="2563920" cy="533520"/>
            <a:chOff x="2313000" y="3124080"/>
            <a:chExt cx="2563920" cy="533520"/>
          </a:xfrm>
        </p:grpSpPr>
        <p:sp>
          <p:nvSpPr>
            <p:cNvPr id="204" name=""/>
            <p:cNvSpPr/>
            <p:nvPr/>
          </p:nvSpPr>
          <p:spPr>
            <a:xfrm>
              <a:off x="2313000" y="3429000"/>
              <a:ext cx="2563920" cy="228600"/>
            </a:xfrm>
            <a:custGeom>
              <a:avLst/>
              <a:gdLst>
                <a:gd name="textAreaLeft" fmla="*/ 448560 w 2563920"/>
                <a:gd name="textAreaRight" fmla="*/ 1859040 w 25639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76680" y="312408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굴림"/>
                </a:rPr>
                <a:t>‘</a:t>
              </a: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품질’ 결정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800600" y="3124080"/>
            <a:ext cx="2563920" cy="533520"/>
            <a:chOff x="4800600" y="3124080"/>
            <a:chExt cx="2563920" cy="533520"/>
          </a:xfrm>
        </p:grpSpPr>
        <p:sp>
          <p:nvSpPr>
            <p:cNvPr id="207" name=""/>
            <p:cNvSpPr/>
            <p:nvPr/>
          </p:nvSpPr>
          <p:spPr>
            <a:xfrm>
              <a:off x="4800600" y="3429000"/>
              <a:ext cx="2563920" cy="228600"/>
            </a:xfrm>
            <a:custGeom>
              <a:avLst/>
              <a:gdLst>
                <a:gd name="textAreaLeft" fmla="*/ 448560 w 2563920"/>
                <a:gd name="textAreaRight" fmla="*/ 1859040 w 25639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2408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굴림"/>
                </a:rPr>
                <a:t>‘</a:t>
              </a: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품질’ 결정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066680" y="5943600"/>
            <a:ext cx="7696440" cy="45972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파트너십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68C-7345-409D-85E1-41CEEAE4D5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패러다임 전환의 증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90720" y="1828800"/>
            <a:ext cx="7696080" cy="4648320"/>
            <a:chOff x="990720" y="1828800"/>
            <a:chExt cx="7696080" cy="4648320"/>
          </a:xfrm>
        </p:grpSpPr>
        <p:sp>
          <p:nvSpPr>
            <p:cNvPr id="212" name=""/>
            <p:cNvSpPr/>
            <p:nvPr/>
          </p:nvSpPr>
          <p:spPr>
            <a:xfrm>
              <a:off x="990720" y="1828800"/>
              <a:ext cx="76960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60000"/>
                </a:lnSpc>
                <a:spcBef>
                  <a:spcPts val="499"/>
                </a:spcBef>
                <a:buClr>
                  <a:srgbClr val="ff33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½Å¸íÁ¶"/>
                  <a:ea typeface="신명조"/>
                </a:rPr>
                <a:t>“</a:t>
              </a:r>
              <a:r>
                <a:rPr b="1" lang="zh-CN" sz="2000" spc="-1" strike="noStrike">
                  <a:solidFill>
                    <a:srgbClr val="000066"/>
                  </a:solidFill>
                  <a:latin typeface="½Å¸íÁ¶"/>
                  <a:ea typeface="신명조"/>
                </a:rPr>
                <a:t>건설산업계의 부정적인 행태는 발주자의 부정적인 행태의 반영이다”</a:t>
              </a:r>
              <a:r>
                <a:rPr b="1" lang="en-US" sz="2000" spc="-1" strike="noStrike">
                  <a:solidFill>
                    <a:srgbClr val="000066"/>
                  </a:solidFill>
                  <a:latin typeface="½Å¸íÁ¶"/>
                  <a:ea typeface="신명조"/>
                </a:rPr>
                <a:t>: </a:t>
              </a:r>
              <a:r>
                <a:rPr b="1" lang="zh-CN" sz="2000" spc="-1" strike="noStrike">
                  <a:solidFill>
                    <a:srgbClr val="000066"/>
                  </a:solidFill>
                  <a:latin typeface="½Å¸íÁ¶"/>
                  <a:ea typeface="신명조"/>
                </a:rPr>
                <a:t>공공 조달시스템 개혁 보고서 中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60000"/>
                </a:lnSpc>
                <a:spcBef>
                  <a:spcPts val="499"/>
                </a:spcBef>
                <a:buClr>
                  <a:srgbClr val="ff33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½Å¸íÁ¶"/>
                  <a:ea typeface="신명조"/>
                </a:rPr>
                <a:t>Better Public Buildings – 2000</a:t>
              </a:r>
              <a:r>
                <a:rPr b="1" lang="zh-CN" sz="2000" spc="-1" strike="noStrike">
                  <a:solidFill>
                    <a:srgbClr val="000066"/>
                  </a:solidFill>
                  <a:latin typeface="½Å¸íÁ¶"/>
                  <a:ea typeface="신명조"/>
                </a:rPr>
                <a:t>년 </a:t>
              </a:r>
              <a:r>
                <a:rPr b="1" lang="en-US" sz="2000" spc="-1" strike="noStrike">
                  <a:solidFill>
                    <a:srgbClr val="000066"/>
                  </a:solidFill>
                  <a:latin typeface="½Å¸íÁ¶"/>
                  <a:ea typeface="신명조"/>
                </a:rPr>
                <a:t>10</a:t>
              </a:r>
              <a:r>
                <a:rPr b="1" lang="zh-CN" sz="2000" spc="-1" strike="noStrike">
                  <a:solidFill>
                    <a:srgbClr val="000066"/>
                  </a:solidFill>
                  <a:latin typeface="½Å¸íÁ¶"/>
                  <a:ea typeface="신명조"/>
                </a:rPr>
                <a:t>월 발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523880" y="3657600"/>
              <a:ext cx="4343400" cy="2819520"/>
              <a:chOff x="1523880" y="3657600"/>
              <a:chExt cx="4343400" cy="28195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1523880" y="3657600"/>
                <a:ext cx="4338720" cy="2819520"/>
                <a:chOff x="1523880" y="3657600"/>
                <a:chExt cx="4338720" cy="2819520"/>
              </a:xfrm>
            </p:grpSpPr>
            <p:pic>
              <p:nvPicPr>
                <p:cNvPr id="21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23880" y="3657600"/>
                  <a:ext cx="2001960" cy="281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86200" y="3657600"/>
                  <a:ext cx="1976400" cy="281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7" name=""/>
              <p:cNvSpPr/>
              <p:nvPr/>
            </p:nvSpPr>
            <p:spPr>
              <a:xfrm>
                <a:off x="1523880" y="3657600"/>
                <a:ext cx="1981440" cy="281952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86200" y="3657600"/>
                <a:ext cx="1981080" cy="281952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5943600" y="3687840"/>
            <a:ext cx="30481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영국 건설산업의 효율성 및  생산성 향상을 위해서는 정부 및 발주자가 솔선수범 하여 </a:t>
            </a:r>
            <a:r>
              <a:rPr b="0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Best Practice</a:t>
            </a:r>
            <a:r>
              <a:rPr b="0" lang="zh-CN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를 실천하는   주체가 되어야 한다</a:t>
            </a:r>
            <a:r>
              <a:rPr b="0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AD5-FDFB-418B-B2AF-E31A62F3E3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시범 사업 및 성공 사례 증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Rethinking Construction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동 착수 후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3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년이 경과한 현재   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500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여 개의 시범 사업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(Demonstration Projects)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2000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년도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11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월에는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170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여 개 시범 사업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8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조원 규모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(M4I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170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여 개의 성공 사례 발굴 및 공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시범 사업 및 성공 사례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공공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민간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축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토목 등 다양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Best Practice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실천에 대한 관심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참여 및 용기 증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9AF-C8AE-4CEB-9E1A-D1F0F53F02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9907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표 순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8288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주요 선진국 건설산업 혁신의 바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영국 건설산업 혁신운동 개요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: Rethinking Construction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Rethinking Construction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동의 주요 성과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Rethinking Construction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동의 주요 성공 요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Rethinking Construction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동의 교훈 및 시사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국내 건설산업의 효율성 및 생산성 향상 전략의 기본 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F7E-4816-4EF1-B0ED-629BE8298C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Best Practice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식의 축적 및 공유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90720" y="1828800"/>
            <a:ext cx="7619760" cy="4495680"/>
            <a:chOff x="990720" y="1828800"/>
            <a:chExt cx="7619760" cy="4495680"/>
          </a:xfrm>
        </p:grpSpPr>
        <p:sp>
          <p:nvSpPr>
            <p:cNvPr id="224" name=""/>
            <p:cNvSpPr/>
            <p:nvPr/>
          </p:nvSpPr>
          <p:spPr>
            <a:xfrm>
              <a:off x="990720" y="1828800"/>
              <a:ext cx="76197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80000"/>
                </a:lnSpc>
                <a:spcBef>
                  <a:spcPts val="499"/>
                </a:spcBef>
                <a:buClr>
                  <a:srgbClr val="ff33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굴림"/>
                </a:rPr>
                <a:t>Best Practice </a:t>
              </a:r>
              <a:r>
                <a:rPr b="1" lang="zh-CN" sz="2000" spc="-1" strike="noStrike">
                  <a:solidFill>
                    <a:srgbClr val="000066"/>
                  </a:solidFill>
                  <a:latin typeface="굴림"/>
                </a:rPr>
                <a:t>관련 자료</a:t>
              </a:r>
              <a:r>
                <a:rPr b="1" lang="en-US" sz="2000" spc="-1" strike="noStrike">
                  <a:solidFill>
                    <a:srgbClr val="000066"/>
                  </a:solidFill>
                  <a:latin typeface="굴림"/>
                </a:rPr>
                <a:t>, </a:t>
              </a:r>
              <a:r>
                <a:rPr b="1" lang="zh-CN" sz="2000" spc="-1" strike="noStrike">
                  <a:solidFill>
                    <a:srgbClr val="000066"/>
                  </a:solidFill>
                  <a:latin typeface="굴림"/>
                </a:rPr>
                <a:t>지침서</a:t>
              </a:r>
              <a:r>
                <a:rPr b="1" lang="en-US" sz="2000" spc="-1" strike="noStrike">
                  <a:solidFill>
                    <a:srgbClr val="000066"/>
                  </a:solidFill>
                  <a:latin typeface="굴림"/>
                </a:rPr>
                <a:t>, </a:t>
              </a:r>
              <a:r>
                <a:rPr b="1" lang="zh-CN" sz="2000" spc="-1" strike="noStrike">
                  <a:solidFill>
                    <a:srgbClr val="000066"/>
                  </a:solidFill>
                  <a:latin typeface="굴림"/>
                </a:rPr>
                <a:t>보고서</a:t>
              </a:r>
              <a:r>
                <a:rPr b="1" lang="en-US" sz="2000" spc="-1" strike="noStrike">
                  <a:solidFill>
                    <a:srgbClr val="000066"/>
                  </a:solidFill>
                  <a:latin typeface="굴림"/>
                </a:rPr>
                <a:t>, </a:t>
              </a:r>
              <a:r>
                <a:rPr b="1" lang="zh-CN" sz="2000" spc="-1" strike="noStrike">
                  <a:solidFill>
                    <a:srgbClr val="000066"/>
                  </a:solidFill>
                  <a:latin typeface="굴림"/>
                </a:rPr>
                <a:t>성공 사례</a:t>
              </a:r>
              <a:r>
                <a:rPr b="1" lang="en-US" sz="2000" spc="-1" strike="noStrike">
                  <a:solidFill>
                    <a:srgbClr val="000066"/>
                  </a:solidFill>
                  <a:latin typeface="굴림"/>
                </a:rPr>
                <a:t>, </a:t>
              </a:r>
              <a:r>
                <a:rPr b="1" lang="zh-CN" sz="2000" spc="-1" strike="noStrike">
                  <a:solidFill>
                    <a:srgbClr val="000066"/>
                  </a:solidFill>
                  <a:latin typeface="굴림"/>
                </a:rPr>
                <a:t>도구 등 다양하고 막대한 지식</a:t>
              </a:r>
              <a:r>
                <a:rPr b="1" lang="en-US" sz="2000" spc="-1" strike="noStrike">
                  <a:solidFill>
                    <a:srgbClr val="000066"/>
                  </a:solidFill>
                  <a:latin typeface="굴림"/>
                </a:rPr>
                <a:t>/</a:t>
              </a:r>
              <a:r>
                <a:rPr b="1" lang="zh-CN" sz="2000" spc="-1" strike="noStrike">
                  <a:solidFill>
                    <a:srgbClr val="000066"/>
                  </a:solidFill>
                  <a:latin typeface="굴림"/>
                </a:rPr>
                <a:t>실무 자료 축적 및 무료 공유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1905120" y="3276720"/>
              <a:ext cx="5790960" cy="30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19F-B1B8-43B2-BF12-C2DBA2095A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정부</a:t>
            </a: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주자 및 건설산업계의 파트너십 구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82880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정부 부처간 파트너십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건설교통부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재경부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감사원 등 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(CGT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지방자치단체간 파트너십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: LGTF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산학연관 파트너십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: Movement for Innovation, Housing Forum, 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주제별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/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현안별  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Working Groups, </a:t>
            </a: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시범사업 등에 산학연관 공동 운영 및 참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굴림"/>
              </a:rPr>
              <a:t>일회적이고 이벤트성이 아닌 지속적인 교류 및 활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034-DF4C-4A56-863D-E9B9A52794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National Audit Office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의 </a:t>
            </a: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82880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Rethinking Construction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동에 대한 긍정적인 평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NAO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의 건설산업 효율성 및 생산성 향상을 위한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9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대 기본조건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낭비 및 비효율성 요인의 제거를 위한 기획</a:t>
            </a:r>
            <a:r>
              <a:rPr b="1" lang="en-US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설계</a:t>
            </a:r>
            <a:r>
              <a:rPr b="1" lang="en-US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시공 등    건설생산 전</a:t>
            </a:r>
            <a:r>
              <a:rPr b="1" lang="en-US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(</a:t>
            </a: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全</a:t>
            </a:r>
            <a:r>
              <a:rPr b="1" lang="en-US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) </a:t>
            </a: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과정의 통합성</a:t>
            </a:r>
            <a:r>
              <a:rPr b="1" lang="en-US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(integration) </a:t>
            </a:r>
            <a:r>
              <a:rPr b="1" lang="zh-CN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향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설계 및 시공단계에서 최종 수요자에 대한 보다 신중한 고려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발주자와 건설산업계간의 적대적인 관계 및 접근방식 개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12E-48CF-4BF0-B4FA-BB26397461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National Audit Office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의 </a:t>
            </a: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1828800"/>
            <a:ext cx="7829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최저가 위주의 낙찰을 지양하고 </a:t>
            </a:r>
            <a:r>
              <a:rPr b="1" lang="ko-KR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VFM(Value for Money)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중심의 사업자 선정 및 생애주기비용에 대한 고려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발주자 및 건설사업자간의 파트너링 구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발주자 및 건설사업자간의 장기적인 협력관계 구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건설 보건 및 안전에 대한 의식 향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건설 조직 및 프로젝트에서의 학습 문화</a:t>
            </a:r>
            <a:r>
              <a:rPr b="1" lang="ko-KR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(learning culture)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고양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공급연쇄관리</a:t>
            </a:r>
            <a:r>
              <a:rPr b="1" lang="ko-KR" sz="2000" spc="-1" strike="noStrike">
                <a:solidFill>
                  <a:srgbClr val="000066"/>
                </a:solidFill>
                <a:latin typeface="½Å¸íÁ¶"/>
                <a:ea typeface="신명조"/>
              </a:rPr>
              <a:t>(Supply Chain Management) </a:t>
            </a:r>
            <a:r>
              <a:rPr b="1" lang="ko-KR" sz="2000" spc="-1" strike="noStrike">
                <a:solidFill>
                  <a:srgbClr val="000066"/>
                </a:solidFill>
                <a:latin typeface="신명조"/>
                <a:ea typeface="신명조"/>
              </a:rPr>
              <a:t>향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FCD-7297-4C2F-B434-B3EFD368A0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의 정량적 성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82880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가시적이고 대중적인 설득력 확보를 위해 정략적 성과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Best Practice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를 실천하는 건설사업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(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시범사업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)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이 일반적인   건설사업 보다 우수한 성과를 보이고 있다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영국 건설산업 평균으로는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Egan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목표를 달성하고 있지 못하지만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Best Practice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를 실천하는 사업은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Egan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목표를 달성하고  있다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설산업의 효율성 및 생산성 향상은 우연히 주어지는 기회가 아니라 선택과 용기의 문제이다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BE5-E5DD-4803-926D-FBAF8F45ED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PI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를 통한 정량적인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Key Performance Indicators: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주요 성과측정 지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설사업의 성과측정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(Performance Measurement)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기법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/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방법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다양한 유형의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KPI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가 있지만 건설사업의 성과측정을 위한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12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개 주요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(Headline) KPI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를 중심으로 발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설사업의 성과측정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KPI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총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38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12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개 주요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KPI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는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Egan 7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대 목표의 확장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영국 건설업 통계연보에 수록되기 시작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7EC-6288-499C-AFF1-7A0DCD4133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Egan 7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대 목표와 </a:t>
            </a: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PI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비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95280" y="1981080"/>
          <a:ext cx="6858000" cy="4496040"/>
        </p:xfrm>
        <a:graphic>
          <a:graphicData uri="http://schemas.openxmlformats.org/drawingml/2006/table">
            <a:tbl>
              <a:tblPr/>
              <a:tblGrid>
                <a:gridCol w="2109960"/>
                <a:gridCol w="2868480"/>
                <a:gridCol w="187956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Egan 7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대목표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Headline KP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건설공사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건설공사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0% 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절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건설공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건설공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0% 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단축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예측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설계비 예측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20% 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향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공사비 예측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20% 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향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설계공기 예측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20% 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향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시공공기 예측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20% 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향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하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하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20% 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감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안전사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안전사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20% 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감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생산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생산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0% 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향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이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이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0% 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증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고객만족도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생산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신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고객만족도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서비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신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55F-CDCA-434D-9741-211DD8BA1D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의 </a:t>
            </a:r>
            <a:r>
              <a:rPr b="0" lang="en-US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대 주요 성공 요인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8288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26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설산업 현안 및 문제점에 대한 공동 발굴 및 공감대 형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6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혁신적인 개혁에 대한 의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6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정부 및 공공 발주자의 솔선수범 및 리더십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6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명확한 추진 전략 및 비전 모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6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정부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발주자 및 건설산업계의 파트너십 구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3F4-3D36-4974-8E4A-14E6AAEF55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의 </a:t>
            </a:r>
            <a:r>
              <a:rPr b="0" lang="en-US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대 주요 성공 요인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26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Best Practice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실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6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Best Practice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실천을 위한 시범사업 운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6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Best Practice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지식경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6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Best Practice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커뮤니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457200" indent="-457200">
              <a:lnSpc>
                <a:spcPct val="26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성과측정을 통한 벤치마킹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파트너십 </a:t>
            </a:r>
            <a:r>
              <a:rPr b="1" lang="en-US" sz="24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&amp; Best Practic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377-7090-4ED5-AF23-7FDC758622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국내 건설산업의 효율성 및 생산성 향상 전략 기본 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0" y="3227400"/>
            <a:ext cx="5638680" cy="1812600"/>
            <a:chOff x="2286000" y="3227400"/>
            <a:chExt cx="5638680" cy="1812600"/>
          </a:xfrm>
        </p:grpSpPr>
        <p:sp>
          <p:nvSpPr>
            <p:cNvPr id="245" name=""/>
            <p:cNvSpPr/>
            <p:nvPr/>
          </p:nvSpPr>
          <p:spPr>
            <a:xfrm>
              <a:off x="2286000" y="3227400"/>
              <a:ext cx="1066680" cy="17013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정부 및  공공      발주자   솔선수범 및  리더십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9000" y="3227400"/>
              <a:ext cx="1066680" cy="17013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굴림"/>
                </a:rPr>
                <a:t>Best Practice </a:t>
              </a: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실천을   위한      시범사업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3227400"/>
              <a:ext cx="1066680" cy="181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굴림"/>
                </a:rPr>
                <a:t>Best Practice </a:t>
              </a: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지식경영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15000" y="3227400"/>
              <a:ext cx="1066680" cy="181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굴림"/>
                </a:rPr>
                <a:t>Best Practice </a:t>
              </a: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커뮤니티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0" y="3227400"/>
              <a:ext cx="1066680" cy="1578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성과측정을 통한  벤치마킹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09680" y="2742120"/>
            <a:ext cx="5791320" cy="377280"/>
            <a:chOff x="2209680" y="2742120"/>
            <a:chExt cx="5791320" cy="377280"/>
          </a:xfrm>
        </p:grpSpPr>
        <p:sp>
          <p:nvSpPr>
            <p:cNvPr id="251" name=""/>
            <p:cNvSpPr/>
            <p:nvPr/>
          </p:nvSpPr>
          <p:spPr>
            <a:xfrm>
              <a:off x="2209680" y="2742120"/>
              <a:ext cx="2895840" cy="370800"/>
            </a:xfrm>
            <a:prstGeom prst="rect">
              <a:avLst/>
            </a:prstGeom>
            <a:solidFill>
              <a:srgbClr val="d9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만족한  건설고객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57800" y="2748600"/>
              <a:ext cx="2743200" cy="370800"/>
            </a:xfrm>
            <a:prstGeom prst="rect">
              <a:avLst/>
            </a:prstGeom>
            <a:solidFill>
              <a:srgbClr val="d9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이윤을 창출하는 건설산업계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286000" y="2039760"/>
            <a:ext cx="5638680" cy="699840"/>
            <a:chOff x="2286000" y="2039760"/>
            <a:chExt cx="5638680" cy="699840"/>
          </a:xfrm>
        </p:grpSpPr>
        <p:sp>
          <p:nvSpPr>
            <p:cNvPr id="254" name=""/>
            <p:cNvSpPr/>
            <p:nvPr/>
          </p:nvSpPr>
          <p:spPr>
            <a:xfrm>
              <a:off x="2286000" y="2039760"/>
              <a:ext cx="5638680" cy="699840"/>
            </a:xfrm>
            <a:prstGeom prst="triangle">
              <a:avLst>
                <a:gd name="adj" fmla="val 50000"/>
              </a:avLst>
            </a:prstGeom>
            <a:solidFill>
              <a:srgbClr val="de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45080" y="2344320"/>
              <a:ext cx="2655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효율적이고 생산적인 건설산업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752480" y="4947120"/>
            <a:ext cx="6858000" cy="1513800"/>
            <a:chOff x="1752480" y="4947120"/>
            <a:chExt cx="6858000" cy="1513800"/>
          </a:xfrm>
        </p:grpSpPr>
        <p:sp>
          <p:nvSpPr>
            <p:cNvPr id="257" name=""/>
            <p:cNvSpPr/>
            <p:nvPr/>
          </p:nvSpPr>
          <p:spPr>
            <a:xfrm>
              <a:off x="1752480" y="6090120"/>
              <a:ext cx="6858000" cy="3708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건설산업의 현안 및 문제점 공동 발굴 및 공감대 형성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5120" y="5709240"/>
              <a:ext cx="6494400" cy="3708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혁신적인 변화에 대한 의지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33720" y="5328000"/>
              <a:ext cx="6045120" cy="3708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굴림"/>
                </a:rPr>
                <a:t>명확한 비전 모델 및 추진 전략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86000" y="4947120"/>
              <a:ext cx="5686560" cy="3708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3300"/>
                  </a:solidFill>
                  <a:latin typeface="굴림"/>
                </a:rPr>
                <a:t>정부</a:t>
              </a:r>
              <a:r>
                <a:rPr b="1" lang="en-US" sz="1400" spc="-1" strike="noStrike">
                  <a:solidFill>
                    <a:srgbClr val="ff3300"/>
                  </a:solidFill>
                  <a:latin typeface="굴림"/>
                </a:rPr>
                <a:t>, </a:t>
              </a:r>
              <a:r>
                <a:rPr b="1" lang="zh-CN" sz="1400" spc="-1" strike="noStrike">
                  <a:solidFill>
                    <a:srgbClr val="ff3300"/>
                  </a:solidFill>
                  <a:latin typeface="굴림"/>
                </a:rPr>
                <a:t>발주자 및 건설산업계 파트너십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286000" y="3107520"/>
            <a:ext cx="5638680" cy="392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굴림"/>
              </a:rPr>
              <a:t>Best Practice </a:t>
            </a:r>
            <a:r>
              <a:rPr b="1" lang="zh-CN" sz="1400" spc="-1" strike="noStrike">
                <a:solidFill>
                  <a:srgbClr val="ff3300"/>
                </a:solidFill>
                <a:latin typeface="굴림"/>
              </a:rPr>
              <a:t>실천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BFB-F3A2-4BF4-ACC4-B3F27D9B17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변화의 바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8288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1990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년도 중반 이후 주요 선진국 건설산업의 혁신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영국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:</a:t>
            </a:r>
            <a:r>
              <a:rPr b="1" lang="en-US" sz="2000" spc="-1" strike="noStrike">
                <a:solidFill>
                  <a:srgbClr val="ff3300"/>
                </a:solidFill>
                <a:latin typeface="굴림"/>
              </a:rPr>
              <a:t> Rethinking Construction </a:t>
            </a:r>
            <a:r>
              <a:rPr b="1" lang="zh-CN" sz="2000" spc="-1" strike="noStrike">
                <a:solidFill>
                  <a:srgbClr val="ff3300"/>
                </a:solidFill>
                <a:latin typeface="굴림"/>
              </a:rPr>
              <a:t>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미국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: National Construction Goals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호주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: Building for Growth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동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싱가포르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: Construction 21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6BF-0959-461A-A478-C2AB91FC18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국내 건설산업의 효율성 및 생산성 향상 전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“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설산업의 효율성 및 생산성 향상 전략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영국 건설산업의 혁신운동 및 벤치마킹 결과를 중심으로” –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2002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년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3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월 발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Rethinking Construction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동의 주요 성공요인을 중심으로   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10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개 부문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60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여 개의 실천 사항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(Action Items)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권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향후 각 실천 사항에 대한 구체적인 실행 방안이 산학연관의   광범위한 참여를 통해 지속적으로 구체화 되어야 함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03C-302E-4EE7-B467-8F5D867AEF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기 실천 사항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산학연관의 영향력 있는 핵심 인사가 참여하는 오피니언 리더 그룹을 결성하고 국내 건설산업의 혁신운동을 선도하라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산학연관의 전문가로 구성된 실무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Task Force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를 구성하여 국내 건설 산업의 비효율성 및 비생산성의 원인과 현안을 발굴하고  비용효과성 향상을 위한 비전모델과 추진전략을 개발하라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Best Practice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실천의 중요성 및 필요성을 정부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발주자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건설산업계에게 적극적으로 교육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홍보하여 광범위한 지지를 획득하고 인식의 전환을 유도하라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552-A12E-4DB0-A9E1-BB7757578A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표를 마치며…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4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파트너십 구축과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Best Practice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실천 중 어느 것 하나 쉬운 것이 없다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4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우리 앞에 두 가지의 선택이 놓여져 있다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4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쉽지 않기 때문에 그 길을 선택하지 않을 것인지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4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쉽지 않지만 용기를 내어 그 길을 선택할 것인지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4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한 국가 건설산업 성공의 원칙은 정해져 있다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4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성공의 원칙이 정해져 있다면 돌아가는 길은 없다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DE2-7E4C-4D4C-8C4C-9B2EF0BC69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미래 비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981080"/>
            <a:ext cx="8001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기존의 인식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생산방식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제도 및 시스템 등의 부분적인 개선을 통한 향상은  한계점에 도달하였으며 지금 우리에게는 주어진 도전은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"Rethinking"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이다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한 국가 건설산업의 효율성과 생산성 향상은 우연히 주어지는 기회가 아니다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정부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발주자 및 건설산업계의 파트너십 구축과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Best Practice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실천에 대한 선택과 용기의 문제인 것이다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그 열매는 만족한 건설고객과 이윤을 창출하는 건설산업계 즉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상생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相生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이며 이것이 우리 건설산업의 미래 비전이어야 한다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A8D-5836-4E40-9F09-64B884EDEE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주요 선진국 건설산업 혁신운동의 배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8288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현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(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現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)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설산업에 대한 위기 의식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설산업의 효율성 및 생산성 향상 필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세계 건설시장에서의 경쟁력 유지 및 향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7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비용효과적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(Cost Effective)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이며 건설 고객에게 신뢰 받을 수   있는 건설산업으로 변모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53120" y="2895480"/>
            <a:ext cx="2533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굴림"/>
              </a:rPr>
              <a:t>그들만의 상황인가</a:t>
            </a:r>
            <a:r>
              <a:rPr b="1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굴림"/>
              </a:rPr>
              <a:t>?</a:t>
            </a:r>
            <a:endParaRPr b="1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굴림"/>
              <a:ea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E4C-BADE-49A8-B613-E69334A5CC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 개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8288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설을 다시 생각하자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! –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설 재인식 및 혁신 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설 문화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인식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생산 방식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생산 시스템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제도 등 총체적 범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영국 건설산업의 효율성 및 생산성 향상을 위한 혁신운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비용효과성 향상 운동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원가절감을 포함한 공기단축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품질향상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안전사고 감소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고객 만족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이윤 향상 등을 총체적으로 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D5E-7CA1-4651-AB6B-F4FE10D4D3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의 </a:t>
            </a: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대 목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2133720"/>
          <a:ext cx="3733920" cy="4064040"/>
        </p:xfrm>
        <a:graphic>
          <a:graphicData uri="http://schemas.openxmlformats.org/drawingml/2006/table">
            <a:tbl>
              <a:tblPr/>
              <a:tblGrid>
                <a:gridCol w="1752480"/>
                <a:gridCol w="19814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목표 부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년간 목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fed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건설공사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0% </a:t>
                      </a: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절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건설공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0% </a:t>
                      </a: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단축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예측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20% </a:t>
                      </a: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향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하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20% </a:t>
                      </a: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감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안전사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20% </a:t>
                      </a: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감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생산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0% </a:t>
                      </a: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향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이윤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10% </a:t>
                      </a: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굴림"/>
                        </a:rPr>
                        <a:t>증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f9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800600" y="190512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Egan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의 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7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대 목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비용효과성 향상 목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건설산업의 생존 및 발전 목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이렇게 도전적이고 상충되는 목표의 동시 달성이 그것도   매년 가능한가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비현실적인 목표가 아닌가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ABB-AB29-4A1C-ACB4-DBA43C605A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의 정체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8288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Rethinking Construction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동은 ‘비현실적인’ 운동이다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한 국가의 건설산업에서 이러한 도전적인 목표를 달성하기 위해서는 </a:t>
            </a:r>
            <a:r>
              <a:rPr b="1" lang="zh-CN" sz="2000" spc="-1" strike="noStrike">
                <a:solidFill>
                  <a:srgbClr val="ff3300"/>
                </a:solidFill>
                <a:latin typeface="굴림"/>
              </a:rPr>
              <a:t>기존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의 건설생산 체계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방식 및 관행 등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즉 </a:t>
            </a:r>
            <a:r>
              <a:rPr b="1" lang="zh-CN" sz="2000" spc="-1" strike="noStrike">
                <a:solidFill>
                  <a:srgbClr val="ff3300"/>
                </a:solidFill>
                <a:latin typeface="굴림"/>
              </a:rPr>
              <a:t>현실로부터의 탈피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가 전제되지 않고서는 불가능하다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‘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Rethinking’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이 요구되는 것이다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Rethinking Construction </a:t>
            </a:r>
            <a:r>
              <a:rPr b="1" lang="zh-CN" sz="2000" spc="-1" strike="noStrike">
                <a:solidFill>
                  <a:srgbClr val="000066"/>
                </a:solidFill>
                <a:latin typeface="굴림"/>
              </a:rPr>
              <a:t>운동은 이러한 도전적인 목표의 달성이 가능하다는 것을 실증적으로 증명하고 있다</a:t>
            </a:r>
            <a:r>
              <a:rPr b="1" lang="en-US" sz="2000" spc="-1" strike="noStrike">
                <a:solidFill>
                  <a:srgbClr val="000066"/>
                </a:solidFill>
                <a:latin typeface="굴림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A8E-91B7-4BF8-9E2E-F0A8548D5D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Rethinking Construction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운동의 추진 현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092320"/>
            <a:ext cx="2232000" cy="95580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1994</a:t>
            </a:r>
            <a:r>
              <a:rPr b="1" lang="zh-CN" sz="1400" spc="-1" strike="noStrike">
                <a:solidFill>
                  <a:srgbClr val="000066"/>
                </a:solidFill>
                <a:latin typeface="굴림"/>
              </a:rPr>
              <a:t>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Latham </a:t>
            </a:r>
            <a:r>
              <a:rPr b="1" lang="zh-CN" sz="1400" spc="-1" strike="noStrike">
                <a:solidFill>
                  <a:srgbClr val="000066"/>
                </a:solidFill>
                <a:latin typeface="굴림"/>
              </a:rPr>
              <a:t>보고서 발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Constructing the Team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300400" y="3235320"/>
            <a:ext cx="2230200" cy="1168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1998</a:t>
            </a:r>
            <a:r>
              <a:rPr b="1" lang="zh-CN" sz="1400" spc="-1" strike="noStrike">
                <a:solidFill>
                  <a:srgbClr val="000066"/>
                </a:solidFill>
                <a:latin typeface="굴림"/>
              </a:rPr>
              <a:t>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Egan </a:t>
            </a:r>
            <a:r>
              <a:rPr b="1" lang="zh-CN" sz="1400" spc="-1" strike="noStrike">
                <a:solidFill>
                  <a:srgbClr val="000066"/>
                </a:solidFill>
                <a:latin typeface="굴림"/>
              </a:rPr>
              <a:t>보고서 발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Rethinking Construction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3838680" y="4378320"/>
            <a:ext cx="2232000" cy="1168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1998</a:t>
            </a:r>
            <a:r>
              <a:rPr b="1" lang="zh-CN" sz="1400" spc="-1" strike="noStrike">
                <a:solidFill>
                  <a:srgbClr val="000066"/>
                </a:solidFill>
                <a:latin typeface="굴림"/>
              </a:rPr>
              <a:t>년 </a:t>
            </a: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&amp; 1999</a:t>
            </a:r>
            <a:r>
              <a:rPr b="1" lang="zh-CN" sz="1400" spc="-1" strike="noStrike">
                <a:solidFill>
                  <a:srgbClr val="000066"/>
                </a:solidFill>
                <a:latin typeface="굴림"/>
              </a:rPr>
              <a:t>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Rethinking Construction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굴림"/>
              </a:rPr>
              <a:t>추진기관 결성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5376960" y="5521320"/>
            <a:ext cx="2232000" cy="95580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2001</a:t>
            </a:r>
            <a:r>
              <a:rPr b="1" lang="zh-CN" sz="1400" spc="-1" strike="noStrike">
                <a:solidFill>
                  <a:srgbClr val="000066"/>
                </a:solidFill>
                <a:latin typeface="굴림"/>
              </a:rPr>
              <a:t>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NAO(</a:t>
            </a:r>
            <a:r>
              <a:rPr b="1" lang="zh-CN" sz="1400" spc="-1" strike="noStrike">
                <a:solidFill>
                  <a:srgbClr val="000066"/>
                </a:solidFill>
                <a:latin typeface="굴림"/>
              </a:rPr>
              <a:t>감사원</a:t>
            </a:r>
            <a:r>
              <a:rPr b="1" lang="en-US" sz="1400" spc="-1" strike="noStrike">
                <a:solidFill>
                  <a:srgbClr val="000066"/>
                </a:solidFill>
                <a:latin typeface="굴림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굴림"/>
              </a:rPr>
              <a:t>평가보고서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362320"/>
            <a:ext cx="52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굴림"/>
              </a:rPr>
              <a:t>건설산업 개혁의 필요성 및 문제 제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5053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굴림"/>
              </a:rPr>
              <a:t>5-4-7 </a:t>
            </a:r>
            <a:r>
              <a:rPr b="1" lang="zh-CN" sz="2000" spc="-1" strike="noStrike">
                <a:solidFill>
                  <a:srgbClr val="ff3300"/>
                </a:solidFill>
                <a:latin typeface="굴림"/>
              </a:rPr>
              <a:t>전략 모델</a:t>
            </a:r>
            <a:r>
              <a:rPr b="1" lang="en-US" sz="2000" spc="-1" strike="noStrike">
                <a:solidFill>
                  <a:srgbClr val="ff3300"/>
                </a:solidFill>
                <a:latin typeface="굴림"/>
              </a:rPr>
              <a:t>; RC </a:t>
            </a:r>
            <a:r>
              <a:rPr b="1" lang="zh-CN" sz="2000" spc="-1" strike="noStrike">
                <a:solidFill>
                  <a:srgbClr val="ff3300"/>
                </a:solidFill>
                <a:latin typeface="굴림"/>
              </a:rPr>
              <a:t>운동 착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46483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굴림"/>
              </a:rPr>
              <a:t>추진기관 활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495080" y="3389400"/>
            <a:ext cx="609480" cy="384120"/>
          </a:xfrm>
          <a:custGeom>
            <a:avLst/>
            <a:gdLst>
              <a:gd name="textAreaLeft" fmla="*/ 203040 w 609480"/>
              <a:gd name="textAreaRight" fmla="*/ 522000 w 609480"/>
              <a:gd name="textAreaTop" fmla="*/ 221400 h 384120"/>
              <a:gd name="textAreaBottom" fmla="*/ 3290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572720" y="5750640"/>
            <a:ext cx="609840" cy="385920"/>
          </a:xfrm>
          <a:custGeom>
            <a:avLst/>
            <a:gdLst>
              <a:gd name="textAreaLeft" fmla="*/ 203400 w 609840"/>
              <a:gd name="textAreaRight" fmla="*/ 522360 w 609840"/>
              <a:gd name="textAreaTop" fmla="*/ 222120 h 385920"/>
              <a:gd name="textAreaBottom" fmla="*/ 330840 h 3859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3033000" y="4608360"/>
            <a:ext cx="609840" cy="384120"/>
          </a:xfrm>
          <a:custGeom>
            <a:avLst/>
            <a:gdLst>
              <a:gd name="textAreaLeft" fmla="*/ 203400 w 609840"/>
              <a:gd name="textAreaRight" fmla="*/ 522360 w 609840"/>
              <a:gd name="textAreaTop" fmla="*/ 221400 h 384120"/>
              <a:gd name="textAreaBottom" fmla="*/ 3290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7763040" y="57913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99"/>
                </a:solidFill>
                <a:latin typeface="굴림"/>
              </a:rPr>
              <a:t>진행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203-EEE9-4741-B111-DA1E0F3022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295280" y="2438280"/>
            <a:ext cx="7010640" cy="2667240"/>
            <a:chOff x="1295280" y="2438280"/>
            <a:chExt cx="7010640" cy="2667240"/>
          </a:xfrm>
        </p:grpSpPr>
        <p:grpSp>
          <p:nvGrpSpPr>
            <p:cNvPr id="139" name=""/>
            <p:cNvGrpSpPr/>
            <p:nvPr/>
          </p:nvGrpSpPr>
          <p:grpSpPr>
            <a:xfrm>
              <a:off x="1295280" y="2438280"/>
              <a:ext cx="6858000" cy="2667240"/>
              <a:chOff x="1295280" y="2438280"/>
              <a:chExt cx="6858000" cy="2667240"/>
            </a:xfrm>
          </p:grpSpPr>
          <p:pic>
            <p:nvPicPr>
              <p:cNvPr id="1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438280"/>
                <a:ext cx="6400800" cy="266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43800" y="2804400"/>
                <a:ext cx="609480" cy="214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" name=""/>
            <p:cNvSpPr/>
            <p:nvPr/>
          </p:nvSpPr>
          <p:spPr>
            <a:xfrm>
              <a:off x="1371600" y="2514600"/>
              <a:ext cx="6934320" cy="259092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62120" y="990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-4-7 </a:t>
            </a:r>
            <a:r>
              <a:rPr b="0" lang="zh-CN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71600" y="5181480"/>
            <a:ext cx="6934320" cy="609840"/>
            <a:chOff x="1371600" y="5181480"/>
            <a:chExt cx="6934320" cy="609840"/>
          </a:xfrm>
        </p:grpSpPr>
        <p:sp>
          <p:nvSpPr>
            <p:cNvPr id="145" name=""/>
            <p:cNvSpPr/>
            <p:nvPr/>
          </p:nvSpPr>
          <p:spPr>
            <a:xfrm>
              <a:off x="1371600" y="5181480"/>
              <a:ext cx="6934320" cy="609840"/>
            </a:xfrm>
            <a:custGeom>
              <a:avLst/>
              <a:gdLst>
                <a:gd name="textAreaLeft" fmla="*/ 0 w 6934320"/>
                <a:gd name="textAreaRight" fmla="*/ 6934680 w 69343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5334120"/>
              <a:ext cx="60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대 추진분야의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Best Practice </a:t>
              </a: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실천을 통한 년간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대 목표 달성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57400" y="3429000"/>
            <a:ext cx="5105520" cy="1000080"/>
            <a:chOff x="2057400" y="3429000"/>
            <a:chExt cx="5105520" cy="1000080"/>
          </a:xfrm>
        </p:grpSpPr>
        <p:sp>
          <p:nvSpPr>
            <p:cNvPr id="148" name=""/>
            <p:cNvSpPr txBox="1"/>
            <p:nvPr/>
          </p:nvSpPr>
          <p:spPr>
            <a:xfrm>
              <a:off x="2057400" y="3429000"/>
              <a:ext cx="533520" cy="1000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굴림"/>
                </a:rPr>
                <a:t>5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굴림"/>
                <a:ea typeface="굴림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4343400" y="3429000"/>
              <a:ext cx="533520" cy="1000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굴림"/>
                </a:rPr>
                <a:t>4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굴림"/>
                <a:ea typeface="굴림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6629400" y="3429000"/>
              <a:ext cx="533520" cy="1000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굴림"/>
                </a:rPr>
                <a:t>7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굴림"/>
                <a:ea typeface="굴림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295280" y="1981080"/>
            <a:ext cx="7010640" cy="4361400"/>
            <a:chOff x="1295280" y="1981080"/>
            <a:chExt cx="7010640" cy="4361400"/>
          </a:xfrm>
        </p:grpSpPr>
        <p:grpSp>
          <p:nvGrpSpPr>
            <p:cNvPr id="152" name=""/>
            <p:cNvGrpSpPr/>
            <p:nvPr/>
          </p:nvGrpSpPr>
          <p:grpSpPr>
            <a:xfrm>
              <a:off x="1371600" y="1981080"/>
              <a:ext cx="6934320" cy="398880"/>
              <a:chOff x="1371600" y="1981080"/>
              <a:chExt cx="6934320" cy="398880"/>
            </a:xfrm>
          </p:grpSpPr>
          <p:sp>
            <p:nvSpPr>
              <p:cNvPr id="153" name=""/>
              <p:cNvSpPr/>
              <p:nvPr/>
            </p:nvSpPr>
            <p:spPr>
              <a:xfrm>
                <a:off x="1371600" y="1981080"/>
                <a:ext cx="4419720" cy="3988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est Practice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실천분야</a:t>
                </a:r>
                <a:endParaRPr b="0" lang="en-US" sz="20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67280" y="1981080"/>
                <a:ext cx="2438640" cy="39888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달성목표</a:t>
                </a:r>
                <a:endParaRPr b="0" lang="en-US" sz="20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295280" y="5943600"/>
              <a:ext cx="685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굴림"/>
                </a:rPr>
                <a:t>* Best Practice: </a:t>
              </a:r>
              <a:r>
                <a:rPr b="1" lang="zh-CN" sz="2000" spc="-1" strike="noStrike">
                  <a:solidFill>
                    <a:srgbClr val="000066"/>
                  </a:solidFill>
                  <a:latin typeface="굴림"/>
                </a:rPr>
                <a:t>일류</a:t>
              </a:r>
              <a:r>
                <a:rPr b="1" lang="en-US" sz="2000" spc="-1" strike="noStrike">
                  <a:solidFill>
                    <a:srgbClr val="000066"/>
                  </a:solidFill>
                  <a:latin typeface="굴림"/>
                </a:rPr>
                <a:t>/</a:t>
              </a:r>
              <a:r>
                <a:rPr b="1" lang="zh-CN" sz="2000" spc="-1" strike="noStrike">
                  <a:solidFill>
                    <a:srgbClr val="000066"/>
                  </a:solidFill>
                  <a:latin typeface="굴림"/>
                </a:rPr>
                <a:t>최고의 업무 수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B6D-60AB-4D6B-91CA-559EEC543E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1:57:28Z</dcterms:created>
  <dc:creator>김한수</dc:creator>
  <dc:description/>
  <dc:language>en-US</dc:language>
  <cp:lastModifiedBy>kchwang</cp:lastModifiedBy>
  <dcterms:modified xsi:type="dcterms:W3CDTF">2002-04-10T07:50:44Z</dcterms:modified>
  <cp:revision>64</cp:revision>
  <dc:subject/>
  <dc:title>PowerPoint 프레젠테이션</dc:title>
</cp:coreProperties>
</file>