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2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9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.jpeg" ContentType="image/jpeg"/>
  <Override PartName="/ppt/media/image2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55520" y="1512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F501-AA66-49EC-941D-20152A888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2133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23.png"/><Relationship Id="rId14" Type="http://schemas.openxmlformats.org/officeDocument/2006/relationships/image" Target="../media/image2.jpeg"/><Relationship Id="rId15" Type="http://schemas.openxmlformats.org/officeDocument/2006/relationships/image" Target="../media/image3.jpe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019920"/>
            <a:ext cx="914400" cy="838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38242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002. 4. 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76320" y="6095880"/>
            <a:ext cx="1918800" cy="381240"/>
            <a:chOff x="976320" y="6095880"/>
            <a:chExt cx="1918800" cy="38124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976320" y="60958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545480" y="62060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19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447920"/>
            <a:ext cx="6400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00"/>
                </a:solidFill>
                <a:latin typeface="Times New Roman"/>
              </a:rPr>
              <a:t>영국건설산업의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Best Practice  </a:t>
            </a:r>
            <a:r>
              <a:rPr b="0" lang="zh-CN" sz="4400" spc="-1" strike="noStrike">
                <a:solidFill>
                  <a:srgbClr val="993300"/>
                </a:solidFill>
                <a:latin typeface="Times New Roman"/>
              </a:rPr>
              <a:t>성공 사례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96080" y="6095880"/>
            <a:ext cx="123696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45360" y="4846680"/>
            <a:ext cx="26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김민기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CM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장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/PE/P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미파슨스주식회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3049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 London Lin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노반 안정화 공사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993300"/>
                </a:solidFill>
                <a:latin typeface="Times New Roman"/>
              </a:rPr>
              <a:t>설계 및 시공 통합화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68580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04920" y="6400800"/>
            <a:ext cx="1918800" cy="380880"/>
            <a:chOff x="304920" y="6400800"/>
            <a:chExt cx="1918800" cy="38088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304920" y="6400800"/>
              <a:ext cx="5691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874080" y="651096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304920" y="62485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4876920"/>
            <a:ext cx="8077320" cy="1295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4572000"/>
            <a:ext cx="18288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45720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성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1219320"/>
            <a:ext cx="4876920" cy="1066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914400"/>
            <a:ext cx="22860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06480" y="95868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프로젝트 특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359000"/>
            <a:ext cx="48765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발주자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설계자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시공자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전문건설업체가 한 팀을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결성하여 철도 노반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(Railway Embankment)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설계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팀의 공동 연구를 통해 최적의 해결책 도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5087880"/>
            <a:ext cx="80010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원가 절감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:   5000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파운드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/m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에서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1700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파운드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/m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로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Egan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의 목표보다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10%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앞선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20%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달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Pile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의 경우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80%, Capping Beam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의 경우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30%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콘크리트 소모량 절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생산성 증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외관 향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2666880"/>
            <a:ext cx="487692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89548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362320"/>
            <a:ext cx="22860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06480" y="240660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관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2819520"/>
            <a:ext cx="464796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기초파일벽체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(Bored Pile Wall)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와 수목을 이용한 </a:t>
            </a:r>
            <a:br>
              <a:rPr sz="1400"/>
            </a:b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   경사면을 조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노반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(Embankment)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가까이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Capping Beam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설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- Precast Capping Beam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을 사용함으로써 열차 운행 </a:t>
            </a:r>
            <a:br>
              <a:rPr sz="1400"/>
            </a:b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   중 공사가 가능하게 하여 공기를 단축하고 사고 위험 </a:t>
            </a:r>
            <a:br>
              <a:rPr sz="1400"/>
            </a:b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   확률을 줄임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640480" y="1197000"/>
            <a:ext cx="3111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0880" y="304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en Elizabeth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병원 프로젝트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993300"/>
                </a:solidFill>
                <a:latin typeface="Times New Roman"/>
              </a:rPr>
              <a:t>건설안전보건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3352680"/>
            <a:ext cx="2743200" cy="2743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3124080"/>
            <a:ext cx="1828800" cy="38124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31240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성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295280"/>
            <a:ext cx="2743200" cy="1676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990720"/>
            <a:ext cx="22860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06480" y="103500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프로젝트 특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1434960"/>
            <a:ext cx="259056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- Kvaener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사에 의해 개발된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Site Safety Performance System(SSPS)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을 최초로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Queen Elizabeth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병원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Project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에 적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3892680"/>
            <a:ext cx="274320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사고 발생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50%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감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Cost/Benefit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비율이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0.25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로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나타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사고로 인한 시간 손실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42%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감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4114800"/>
            <a:ext cx="5257800" cy="1981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57600" y="434340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3809880"/>
            <a:ext cx="2286000" cy="38124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78280" y="385452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관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33920" y="4267080"/>
            <a:ext cx="5105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현장 내 개개인의 행동 관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현장 목적에 맞는 안전관리자를 두고 행동유형 관찰 및 측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현장 관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사고가능성이 있는 곳 확인 조치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명확한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Checklist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를 통한 검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Feed Back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권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지속적인 조언 및 문제 해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행위 개선을 위한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Observer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의 선택 및 교육 중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5181840" cy="248580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304920" y="6400800"/>
            <a:ext cx="1918800" cy="380880"/>
            <a:chOff x="304920" y="6400800"/>
            <a:chExt cx="1918800" cy="380880"/>
          </a:xfrm>
        </p:grpSpPr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304920" y="6400800"/>
              <a:ext cx="5691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4"/>
            <a:stretch/>
          </p:blipFill>
          <p:spPr>
            <a:xfrm>
              <a:off x="874080" y="651096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3049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ard Chancellor’s Department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가치매니지먼트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04920" y="6324480"/>
            <a:ext cx="1918800" cy="381240"/>
            <a:chOff x="304920" y="6324480"/>
            <a:chExt cx="1918800" cy="38124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304920" y="63244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874080" y="64346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1219320"/>
            <a:ext cx="3962160" cy="4952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990720"/>
            <a:ext cx="18288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990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성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1295280"/>
            <a:ext cx="3962520" cy="2057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52388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990720"/>
            <a:ext cx="22860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06480" y="103500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프로젝트 개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1676520"/>
            <a:ext cx="373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LCD :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사법시설 발주기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LCD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가 발주하는 시설물은 특수한 요구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사항이 많은 복잡한 특성을 지니고 있어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프로젝트의 요구사항을 명확하게 적시에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도출하기 위해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Valu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를 채택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활용하였음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1523880"/>
            <a:ext cx="40388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Value for Money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향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7~10%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원가 절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보다 향상된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Design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및 효과적인 건물</a:t>
            </a:r>
            <a:br>
              <a:rPr sz="1400"/>
            </a:b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사용자의 만족 증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프로젝트 초기 계획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사업수행제안서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(Project</a:t>
            </a:r>
            <a:br>
              <a:rPr sz="1400"/>
            </a:b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   Proposal),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성과품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(Project Outcome)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간의 </a:t>
            </a:r>
            <a:br>
              <a:rPr sz="1400"/>
            </a:b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   일치성 향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3886200"/>
            <a:ext cx="3962520" cy="2286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411480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3581280"/>
            <a:ext cx="2286000" cy="38124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06480" y="362592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주요 관리 현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4114800"/>
            <a:ext cx="3733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발주자의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VM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에 대한 적극적인 지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프로젝트 팀에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VM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과정에 대한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주인의식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(ownership)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부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VM Workshop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에서 효과적이며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객관적인 결과 고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Workshop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에서 도출되는 핵심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아이디어의 효과적인 조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고정관념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편견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기존 규칙 및 관행 지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942840"/>
            <a:ext cx="342900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 Best Practic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를 실천하는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건설사업이 일반적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건설사업과 비교하여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어떠한 성과를 보이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있는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영국 건설산업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g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보고서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대 목표를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달성하고 있는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Ega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대 목표는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매년 달성이 언제까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가능한 것인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hinking Constructi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운동의 주요 성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04920" y="6324480"/>
            <a:ext cx="1918800" cy="381240"/>
            <a:chOff x="304920" y="6324480"/>
            <a:chExt cx="1918800" cy="38124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304920" y="63244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74080" y="64346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3894120" y="609480"/>
          <a:ext cx="4869000" cy="4876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94120" y="609480"/>
                    <a:ext cx="4869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762120" y="53172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993300"/>
                </a:solidFill>
                <a:latin typeface="Times New Roman"/>
              </a:rPr>
              <a:t>Movement for Innovation(</a:t>
            </a:r>
            <a:r>
              <a:rPr b="1" lang="ko-KR" sz="2000" spc="-1" strike="noStrike">
                <a:solidFill>
                  <a:srgbClr val="993300"/>
                </a:solidFill>
                <a:latin typeface="Times New Roman"/>
              </a:rPr>
              <a:t>비주택부문 </a:t>
            </a:r>
            <a:r>
              <a:rPr b="1" lang="ko-KR" sz="2000" spc="-1" strike="noStrike">
                <a:solidFill>
                  <a:srgbClr val="993300"/>
                </a:solidFill>
                <a:latin typeface="Times New Roman"/>
              </a:rPr>
              <a:t>Best Practice </a:t>
            </a:r>
            <a:r>
              <a:rPr b="1" lang="ko-KR" sz="2000" spc="-1" strike="noStrike">
                <a:solidFill>
                  <a:srgbClr val="993300"/>
                </a:solidFill>
                <a:latin typeface="Times New Roman"/>
              </a:rPr>
              <a:t>실천 추진기관</a:t>
            </a:r>
            <a:r>
              <a:rPr b="1" lang="ko-KR" sz="2000" spc="-1" strike="noStrike">
                <a:solidFill>
                  <a:srgbClr val="993300"/>
                </a:solidFill>
                <a:latin typeface="Times New Roman"/>
              </a:rPr>
              <a:t>) </a:t>
            </a:r>
            <a:br>
              <a:rPr sz="2000"/>
            </a:br>
            <a:r>
              <a:rPr b="1" lang="ko-KR" sz="2000" spc="-1" strike="noStrike">
                <a:solidFill>
                  <a:srgbClr val="993300"/>
                </a:solidFill>
                <a:latin typeface="Times New Roman"/>
              </a:rPr>
              <a:t>시범사업과 건설산업 평균 성과를 대상으로 성과측정지수</a:t>
            </a:r>
            <a:r>
              <a:rPr b="1" lang="ko-KR" sz="2000" spc="-1" strike="noStrike">
                <a:solidFill>
                  <a:srgbClr val="993300"/>
                </a:solidFill>
                <a:latin typeface="Times New Roman"/>
              </a:rPr>
              <a:t>(KPI)</a:t>
            </a:r>
            <a:r>
              <a:rPr b="1" lang="ko-KR" sz="2000" spc="-1" strike="noStrike">
                <a:solidFill>
                  <a:srgbClr val="993300"/>
                </a:solidFill>
                <a:latin typeface="Times New Roman"/>
              </a:rPr>
              <a:t>에 의한 </a:t>
            </a:r>
            <a:br>
              <a:rPr sz="2000"/>
            </a:br>
            <a:r>
              <a:rPr b="1" lang="ko-KR" sz="2000" spc="-1" strike="noStrike">
                <a:solidFill>
                  <a:srgbClr val="993300"/>
                </a:solidFill>
                <a:latin typeface="Times New Roman"/>
              </a:rPr>
              <a:t>결과를 비교</a:t>
            </a:r>
            <a:r>
              <a:rPr b="1" lang="ko-KR" sz="20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993300"/>
                </a:solidFill>
                <a:latin typeface="Times New Roman"/>
              </a:rPr>
              <a:t>분석함으로써 파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1447920" y="1295280"/>
            <a:ext cx="6172200" cy="533160"/>
            <a:chOff x="1447920" y="1295280"/>
            <a:chExt cx="6172200" cy="533160"/>
          </a:xfrm>
        </p:grpSpPr>
        <p:sp>
          <p:nvSpPr>
            <p:cNvPr id="356" name=""/>
            <p:cNvSpPr/>
            <p:nvPr/>
          </p:nvSpPr>
          <p:spPr>
            <a:xfrm>
              <a:off x="1447920" y="1295280"/>
              <a:ext cx="5790960" cy="533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23880" y="1371240"/>
              <a:ext cx="609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vement for Innovation(M4I)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시범사업 성과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2000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년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858240" y="1981080"/>
            <a:ext cx="7523280" cy="4450680"/>
            <a:chOff x="858240" y="1981080"/>
            <a:chExt cx="7523280" cy="4450680"/>
          </a:xfrm>
        </p:grpSpPr>
        <p:sp>
          <p:nvSpPr>
            <p:cNvPr id="359" name=""/>
            <p:cNvSpPr/>
            <p:nvPr/>
          </p:nvSpPr>
          <p:spPr>
            <a:xfrm>
              <a:off x="1580400" y="2046960"/>
              <a:ext cx="555300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80400" y="4448520"/>
              <a:ext cx="5553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80400" y="4181040"/>
              <a:ext cx="55530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80400" y="3912840"/>
              <a:ext cx="55530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80400" y="3645000"/>
              <a:ext cx="5553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80400" y="3386160"/>
              <a:ext cx="5553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80400" y="3119760"/>
              <a:ext cx="5553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80400" y="2850480"/>
              <a:ext cx="5553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580400" y="2583000"/>
              <a:ext cx="55530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80400" y="2314800"/>
              <a:ext cx="55530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80400" y="2046960"/>
              <a:ext cx="5553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80400" y="2046960"/>
              <a:ext cx="5553000" cy="14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33760" y="2046960"/>
              <a:ext cx="1440" cy="2669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580040" y="4716720"/>
              <a:ext cx="5553000" cy="108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580400" y="2046600"/>
              <a:ext cx="1440" cy="2669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1"/>
            <a:stretch/>
          </p:blipFill>
          <p:spPr>
            <a:xfrm>
              <a:off x="1672200" y="3405600"/>
              <a:ext cx="133920" cy="131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678680" y="3411000"/>
              <a:ext cx="124200" cy="1300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2139120" y="3396600"/>
              <a:ext cx="133560" cy="13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2145240" y="3400920"/>
              <a:ext cx="124200" cy="1310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2594880" y="3405600"/>
              <a:ext cx="135360" cy="131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599560" y="3411000"/>
              <a:ext cx="126000" cy="1300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4"/>
            <a:stretch/>
          </p:blipFill>
          <p:spPr>
            <a:xfrm>
              <a:off x="3061800" y="3175920"/>
              <a:ext cx="133560" cy="15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066480" y="3180240"/>
              <a:ext cx="126000" cy="1531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5"/>
            <a:stretch/>
          </p:blipFill>
          <p:spPr>
            <a:xfrm>
              <a:off x="3528720" y="3233160"/>
              <a:ext cx="133560" cy="14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3533040" y="3238920"/>
              <a:ext cx="125640" cy="1472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" descr=""/>
            <p:cNvPicPr/>
            <p:nvPr/>
          </p:nvPicPr>
          <p:blipFill>
            <a:blip r:embed="rId6"/>
            <a:stretch/>
          </p:blipFill>
          <p:spPr>
            <a:xfrm>
              <a:off x="3984480" y="3424320"/>
              <a:ext cx="1335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989160" y="3430440"/>
              <a:ext cx="124200" cy="1281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7"/>
            <a:stretch/>
          </p:blipFill>
          <p:spPr>
            <a:xfrm>
              <a:off x="4451400" y="3625920"/>
              <a:ext cx="13356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455720" y="3630240"/>
              <a:ext cx="124200" cy="1081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" descr=""/>
            <p:cNvPicPr/>
            <p:nvPr/>
          </p:nvPicPr>
          <p:blipFill>
            <a:blip r:embed="rId8"/>
            <a:stretch/>
          </p:blipFill>
          <p:spPr>
            <a:xfrm>
              <a:off x="4916880" y="3443400"/>
              <a:ext cx="1335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921200" y="3449520"/>
              <a:ext cx="125640" cy="1262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9"/>
            <a:stretch/>
          </p:blipFill>
          <p:spPr>
            <a:xfrm>
              <a:off x="5372640" y="3330360"/>
              <a:ext cx="13356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377320" y="3334680"/>
              <a:ext cx="125640" cy="1377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10"/>
            <a:stretch/>
          </p:blipFill>
          <p:spPr>
            <a:xfrm>
              <a:off x="5837760" y="3156480"/>
              <a:ext cx="135360" cy="15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843880" y="3161160"/>
              <a:ext cx="124200" cy="1550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11"/>
            <a:stretch/>
          </p:blipFill>
          <p:spPr>
            <a:xfrm>
              <a:off x="6304320" y="3396600"/>
              <a:ext cx="133560" cy="13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309000" y="3400920"/>
              <a:ext cx="125640" cy="1310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2"/>
            <a:stretch/>
          </p:blipFill>
          <p:spPr>
            <a:xfrm>
              <a:off x="6760440" y="3386160"/>
              <a:ext cx="13536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764760" y="3390840"/>
              <a:ext cx="125640" cy="1320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12240" y="3296160"/>
              <a:ext cx="125640" cy="141552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79160" y="3209400"/>
              <a:ext cx="114840" cy="150228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34920" y="3449520"/>
              <a:ext cx="125640" cy="126216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01840" y="2759400"/>
              <a:ext cx="125640" cy="195228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68760" y="2300400"/>
              <a:ext cx="113400" cy="241128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23080" y="3238920"/>
              <a:ext cx="125640" cy="147276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90000" y="2950560"/>
              <a:ext cx="124200" cy="176112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56560" y="2854800"/>
              <a:ext cx="115200" cy="185688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12320" y="2941920"/>
              <a:ext cx="124200" cy="176976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77800" y="2702160"/>
              <a:ext cx="125640" cy="200952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44720" y="3018240"/>
              <a:ext cx="114840" cy="169344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00480" y="3113640"/>
              <a:ext cx="125640" cy="159804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80400" y="2046960"/>
              <a:ext cx="1440" cy="2669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80400" y="4716720"/>
              <a:ext cx="51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80400" y="4448520"/>
              <a:ext cx="51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80400" y="4181040"/>
              <a:ext cx="51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80400" y="3912840"/>
              <a:ext cx="51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80400" y="3645000"/>
              <a:ext cx="51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80400" y="3386160"/>
              <a:ext cx="51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80400" y="3119760"/>
              <a:ext cx="51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80400" y="2850480"/>
              <a:ext cx="51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80400" y="2583000"/>
              <a:ext cx="51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80400" y="2314800"/>
              <a:ext cx="51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80400" y="2046960"/>
              <a:ext cx="51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80400" y="4716720"/>
              <a:ext cx="5553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580400" y="4669560"/>
              <a:ext cx="144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045880" y="4669560"/>
              <a:ext cx="108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503080" y="4669560"/>
              <a:ext cx="108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2970000" y="4669560"/>
              <a:ext cx="108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35120" y="4669560"/>
              <a:ext cx="144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891240" y="4669560"/>
              <a:ext cx="108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4357800" y="4669560"/>
              <a:ext cx="144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823280" y="4669560"/>
              <a:ext cx="108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279040" y="4669560"/>
              <a:ext cx="108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745960" y="4669560"/>
              <a:ext cx="108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212880" y="4669560"/>
              <a:ext cx="108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666840" y="4669560"/>
              <a:ext cx="144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133760" y="4669560"/>
              <a:ext cx="1440" cy="4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74720" y="32436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40200" y="3233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95960" y="32436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31560" y="301536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98120" y="307152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85560" y="32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9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52480" y="34653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8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17600" y="32832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43120" y="316692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08240" y="29948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03600" y="3233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32360" y="322416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77320" y="312876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35600" y="30434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31320" y="32832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7640" y="259308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23400" y="21312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90320" y="307152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55800" y="27846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1560" y="268992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76680" y="27756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2160" y="253728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5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98640" y="285228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65560" y="294768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20840" y="46519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38760" y="43826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38760" y="41144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38760" y="38484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38760" y="3579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56680" y="332136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56680" y="305208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56680" y="27846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56680" y="25182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56680" y="224712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6680" y="198108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73720" y="4709880"/>
              <a:ext cx="18288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건설공사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25160" y="4726800"/>
              <a:ext cx="1828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건설공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26560" y="4671720"/>
              <a:ext cx="182880" cy="12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굴림"/>
                </a:rPr>
                <a:t>설계비예측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72960" y="4671720"/>
              <a:ext cx="182880" cy="12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공사비예측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66520" y="4644720"/>
              <a:ext cx="182880" cy="14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설계공기예측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12920" y="4644720"/>
              <a:ext cx="182880" cy="14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시공공기예측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01800" y="4781880"/>
              <a:ext cx="18288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하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41720" y="4726800"/>
              <a:ext cx="1828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안전사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88480" y="4754520"/>
              <a:ext cx="1828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생산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38120" y="4781880"/>
              <a:ext cx="18288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이윤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29880" y="4572360"/>
              <a:ext cx="182880" cy="18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고객만족도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생산품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79520" y="4572360"/>
              <a:ext cx="182880" cy="18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고객만족도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서비스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15520" y="5904000"/>
              <a:ext cx="248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굴림"/>
                </a:rPr>
                <a:t>Key Performance Indica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6140000">
              <a:off x="554400" y="330588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Perform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18000" y="4382640"/>
              <a:ext cx="1163520" cy="423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6" name="" descr=""/>
            <p:cNvPicPr/>
            <p:nvPr/>
          </p:nvPicPr>
          <p:blipFill>
            <a:blip r:embed="rId13"/>
            <a:stretch/>
          </p:blipFill>
          <p:spPr>
            <a:xfrm>
              <a:off x="7269120" y="4494240"/>
              <a:ext cx="71280" cy="6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273800" y="4494240"/>
              <a:ext cx="73080" cy="67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69720" y="4420440"/>
              <a:ext cx="58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건설산업 평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73800" y="4625280"/>
              <a:ext cx="73080" cy="6768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71160" y="4592880"/>
              <a:ext cx="58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굴림"/>
                </a:rPr>
                <a:t>시범사업 평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455840" y="3377520"/>
              <a:ext cx="6682680" cy="86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65600" y="2828520"/>
              <a:ext cx="642600" cy="494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999</a:t>
              </a:r>
              <a:r>
                <a:rPr b="0" lang="zh-CN" sz="1000" spc="-1" strike="noStrike">
                  <a:solidFill>
                    <a:srgbClr val="000000"/>
                  </a:solidFill>
                  <a:latin typeface="굴림"/>
                </a:rPr>
                <a:t>년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굴림"/>
                </a:rPr>
                <a:t>건설산업 평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(1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8088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를 실천하는 건설사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시범사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이 일반적인 건설사업과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비교하여 우수한 성과를 보이고  있는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920" y="106668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04920" y="6324480"/>
            <a:ext cx="1918800" cy="381240"/>
            <a:chOff x="304920" y="6324480"/>
            <a:chExt cx="1918800" cy="381240"/>
          </a:xfrm>
        </p:grpSpPr>
        <p:pic>
          <p:nvPicPr>
            <p:cNvPr id="496" name="" descr=""/>
            <p:cNvPicPr/>
            <p:nvPr/>
          </p:nvPicPr>
          <p:blipFill>
            <a:blip r:embed="rId14"/>
            <a:stretch/>
          </p:blipFill>
          <p:spPr>
            <a:xfrm>
              <a:off x="304920" y="63244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15"/>
            <a:stretch/>
          </p:blipFill>
          <p:spPr>
            <a:xfrm>
              <a:off x="874080" y="64346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6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1281240"/>
            <a:ext cx="342900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건설산업 평균의 경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개 분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전년도 대비 악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개 분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변동 없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개 분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향상된 성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건설공사비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건설공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하자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고객만족도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생산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서비스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등 건설 고객의 체감도가 높은 분야에서는 전년도와 비교하여 </a:t>
            </a:r>
            <a:br>
              <a:rPr sz="1800"/>
            </a:b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향상되지 않았거나 악화된</a:t>
            </a:r>
            <a:br>
              <a:rPr sz="1800"/>
            </a:b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결과를 보여 주고 있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088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를 실천하는 건설사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시범사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이 일반적인 건설사업과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비교하여 우수한 성과를 보이고  있는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106668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04920" y="6324480"/>
            <a:ext cx="1918800" cy="381240"/>
            <a:chOff x="304920" y="6324480"/>
            <a:chExt cx="1918800" cy="381240"/>
          </a:xfrm>
        </p:grpSpPr>
        <p:pic>
          <p:nvPicPr>
            <p:cNvPr id="504" name="" descr=""/>
            <p:cNvPicPr/>
            <p:nvPr/>
          </p:nvPicPr>
          <p:blipFill>
            <a:blip r:embed="rId1"/>
            <a:stretch/>
          </p:blipFill>
          <p:spPr>
            <a:xfrm>
              <a:off x="304920" y="63244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2"/>
            <a:stretch/>
          </p:blipFill>
          <p:spPr>
            <a:xfrm>
              <a:off x="874080" y="64346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6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5410080" y="1268280"/>
            <a:ext cx="34290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M4I </a:t>
            </a:r>
            <a:r>
              <a:rPr b="1" lang="zh-CN" sz="1800" spc="-1" strike="noStrike">
                <a:solidFill>
                  <a:srgbClr val="993300"/>
                </a:solidFill>
                <a:latin typeface="Times New Roman"/>
              </a:rPr>
              <a:t>시범사업의 경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993300"/>
                </a:solidFill>
                <a:latin typeface="Times New Roman"/>
              </a:rPr>
              <a:t>개 분야를 제외하고는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11</a:t>
            </a:r>
            <a:r>
              <a:rPr b="1" lang="zh-CN" sz="1800" spc="-1" strike="noStrike">
                <a:solidFill>
                  <a:srgbClr val="993300"/>
                </a:solidFill>
                <a:latin typeface="Times New Roman"/>
              </a:rPr>
              <a:t>개 분야에서 고르게 향상된 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   결과를 보여 주고 있음</a:t>
            </a: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Best Practice</a:t>
            </a:r>
            <a:r>
              <a:rPr b="1" i="1" lang="zh-CN" sz="1800" spc="-1" strike="noStrike">
                <a:solidFill>
                  <a:srgbClr val="993300"/>
                </a:solidFill>
                <a:latin typeface="Times New Roman"/>
              </a:rPr>
              <a:t>를 실천하는 사업과 일반적인 건설사업의 경우는 그 성과 측면에서 분명히 격차를 </a:t>
            </a:r>
            <a:br>
              <a:rPr sz="1800"/>
            </a:br>
            <a:r>
              <a:rPr b="1" i="1" lang="zh-CN" sz="1800" spc="-1" strike="noStrike">
                <a:solidFill>
                  <a:srgbClr val="993300"/>
                </a:solidFill>
                <a:latin typeface="Times New Roman"/>
              </a:rPr>
              <a:t>보이고 있으며</a:t>
            </a: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Best Practice</a:t>
            </a:r>
            <a:r>
              <a:rPr b="1" i="1" lang="zh-CN" sz="1800" spc="-1" strike="noStrike">
                <a:solidFill>
                  <a:srgbClr val="993300"/>
                </a:solidFill>
                <a:latin typeface="Times New Roman"/>
              </a:rPr>
              <a:t>를 실천하는 사업이 일반적인 건설사업에 비해 우수한 성과를 보이고 있음</a:t>
            </a: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3913200" y="4038480"/>
            <a:ext cx="14968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304920" y="6324480"/>
            <a:ext cx="1918800" cy="381240"/>
            <a:chOff x="304920" y="6324480"/>
            <a:chExt cx="1918800" cy="381240"/>
          </a:xfrm>
        </p:grpSpPr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304920" y="63244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2"/>
            <a:stretch/>
          </p:blipFill>
          <p:spPr>
            <a:xfrm>
              <a:off x="874080" y="64346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7696080" y="6410160"/>
            <a:ext cx="1236960" cy="3938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219320" y="5486400"/>
            <a:ext cx="6705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악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전년도 대비 성과가 악화된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향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전년도 대비 향상되었으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a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목표는 달성하지 못한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달성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전년도 대비 향상되었으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a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목표도 달성한 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914400" y="1600200"/>
            <a:ext cx="7619760" cy="3886200"/>
            <a:chOff x="914400" y="1600200"/>
            <a:chExt cx="7619760" cy="3886200"/>
          </a:xfrm>
        </p:grpSpPr>
        <p:graphicFrame>
          <p:nvGraphicFramePr>
            <p:cNvPr id="517" name=""/>
            <p:cNvGraphicFramePr/>
            <p:nvPr/>
          </p:nvGraphicFramePr>
          <p:xfrm>
            <a:off x="914400" y="1600200"/>
            <a:ext cx="7619760" cy="388620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51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914400" y="1600200"/>
                      <a:ext cx="761976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9" name=""/>
            <p:cNvSpPr/>
            <p:nvPr/>
          </p:nvSpPr>
          <p:spPr>
            <a:xfrm>
              <a:off x="2810880" y="1678320"/>
              <a:ext cx="941040" cy="337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gan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목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80880" y="304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영국 건설산업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g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대 목표를 달성하고 있는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33720" y="914400"/>
            <a:ext cx="4647600" cy="457200"/>
            <a:chOff x="2133720" y="914400"/>
            <a:chExt cx="4647600" cy="457200"/>
          </a:xfrm>
        </p:grpSpPr>
        <p:sp>
          <p:nvSpPr>
            <p:cNvPr id="523" name=""/>
            <p:cNvSpPr/>
            <p:nvPr/>
          </p:nvSpPr>
          <p:spPr>
            <a:xfrm>
              <a:off x="2133720" y="914400"/>
              <a:ext cx="436068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90600" y="979200"/>
              <a:ext cx="45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년도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gan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목표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4I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시범사업성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80880" y="304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영국 건설산업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g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대 목표를 달성하고 있는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04920" y="6324480"/>
            <a:ext cx="1918800" cy="381240"/>
            <a:chOff x="304920" y="6324480"/>
            <a:chExt cx="1918800" cy="381240"/>
          </a:xfrm>
        </p:grpSpPr>
        <p:pic>
          <p:nvPicPr>
            <p:cNvPr id="528" name="" descr=""/>
            <p:cNvPicPr/>
            <p:nvPr/>
          </p:nvPicPr>
          <p:blipFill>
            <a:blip r:embed="rId1"/>
            <a:stretch/>
          </p:blipFill>
          <p:spPr>
            <a:xfrm>
              <a:off x="304920" y="63244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874080" y="64346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7696080" y="6410160"/>
            <a:ext cx="1236960" cy="3938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304920" y="1143000"/>
            <a:ext cx="88390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건설산업 평균의 경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개 측정 분야 중 부분적으로 향상된 분야는 있지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an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목표를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달성한 분야는 없는 것으로 나타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4I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시범사업의 경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1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개 측정 분야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Times New Roman"/>
              </a:rPr>
              <a:t>개 분야에서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gan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Times New Roman"/>
              </a:rPr>
              <a:t>목표를 달성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하고 있는 것으로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나타나고 있으며 나머지 분야에서도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개 분야를 제외하고는 향상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4I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시범사업의 경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건설공사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건설공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하자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고객만족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생산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서비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등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Times New Roman"/>
              </a:rPr>
              <a:t>건설 고객의 체감도가 비교적 높은 분야에서 전년도와 비교하여 향상되었거나 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Times New Roman"/>
              </a:rPr>
              <a:t>Egan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Times New Roman"/>
              </a:rPr>
              <a:t>목표를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  달성한 결과를 보여 주고 있음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600" spc="-1" strike="noStrike">
                <a:solidFill>
                  <a:srgbClr val="993300"/>
                </a:solidFill>
                <a:latin typeface="Times New Roman"/>
              </a:rPr>
              <a:t>특히 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M4I </a:t>
            </a:r>
            <a:r>
              <a:rPr b="0" lang="zh-CN" sz="1600" spc="-1" strike="noStrike">
                <a:solidFill>
                  <a:srgbClr val="993300"/>
                </a:solidFill>
                <a:latin typeface="Times New Roman"/>
              </a:rPr>
              <a:t>시범사업의 경우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, `</a:t>
            </a:r>
            <a:r>
              <a:rPr b="0" lang="zh-CN" sz="1600" spc="-1" strike="noStrike">
                <a:solidFill>
                  <a:srgbClr val="993300"/>
                </a:solidFill>
                <a:latin typeface="Times New Roman"/>
              </a:rPr>
              <a:t>이윤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' </a:t>
            </a:r>
            <a:r>
              <a:rPr b="0" lang="zh-CN" sz="1600" spc="-1" strike="noStrike">
                <a:solidFill>
                  <a:srgbClr val="993300"/>
                </a:solidFill>
                <a:latin typeface="Times New Roman"/>
              </a:rPr>
              <a:t>분야와 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`</a:t>
            </a:r>
            <a:r>
              <a:rPr b="0" lang="zh-CN" sz="1600" spc="-1" strike="noStrike">
                <a:solidFill>
                  <a:srgbClr val="993300"/>
                </a:solidFill>
                <a:latin typeface="Times New Roman"/>
              </a:rPr>
              <a:t>고객 만족도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zh-CN" sz="1600" spc="-1" strike="noStrike">
                <a:solidFill>
                  <a:srgbClr val="993300"/>
                </a:solidFill>
                <a:latin typeface="Times New Roman"/>
              </a:rPr>
              <a:t>생산품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0" lang="zh-CN" sz="1600" spc="-1" strike="noStrike">
                <a:solidFill>
                  <a:srgbClr val="993300"/>
                </a:solidFill>
                <a:latin typeface="Times New Roman"/>
              </a:rPr>
              <a:t>서비스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)' </a:t>
            </a:r>
            <a:r>
              <a:rPr b="0" lang="zh-CN" sz="1600" spc="-1" strike="noStrike">
                <a:solidFill>
                  <a:srgbClr val="993300"/>
                </a:solidFill>
                <a:latin typeface="Times New Roman"/>
              </a:rPr>
              <a:t>분야가 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  동반 상승하여 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Best Practice </a:t>
            </a:r>
            <a:r>
              <a:rPr b="0" lang="zh-CN" sz="1600" spc="-1" strike="noStrike">
                <a:solidFill>
                  <a:srgbClr val="993300"/>
                </a:solidFill>
                <a:latin typeface="Times New Roman"/>
              </a:rPr>
              <a:t>실천이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Times New Roman"/>
              </a:rPr>
              <a:t>건설회사뿐만 아니라 건설 고객 모두에게 효과적임을 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Times New Roman"/>
              </a:rPr>
              <a:t>보여 주고 있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Times New Roman"/>
              </a:rPr>
              <a:t>공사비절감과 공기단축이라는 목표가 함께 달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Times New Roman"/>
              </a:rPr>
              <a:t>건설회사의 이윤과 고객만족도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Times New Roman"/>
              </a:rPr>
              <a:t>생산품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Times New Roman"/>
              </a:rPr>
              <a:t>서비스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Times New Roman"/>
              </a:rPr>
              <a:t>가 함께 향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3300"/>
                </a:solidFill>
                <a:latin typeface="Times New Roman"/>
              </a:rPr>
              <a:t>위의 결과를 총괄적으로 요약하면 </a:t>
            </a:r>
            <a:r>
              <a:rPr b="1" i="1" lang="en-US" sz="2000" spc="-1" strike="noStrike" u="sng">
                <a:solidFill>
                  <a:srgbClr val="993300"/>
                </a:solidFill>
                <a:uFillTx/>
                <a:latin typeface="Times New Roman"/>
              </a:rPr>
              <a:t>Best Practice</a:t>
            </a:r>
            <a:r>
              <a:rPr b="1" i="1" lang="zh-CN" sz="2000" spc="-1" strike="noStrike" u="sng">
                <a:solidFill>
                  <a:srgbClr val="993300"/>
                </a:solidFill>
                <a:uFillTx/>
                <a:latin typeface="Times New Roman"/>
              </a:rPr>
              <a:t>를 실천하는 시범사업의 </a:t>
            </a:r>
            <a:br>
              <a:rPr sz="2000"/>
            </a:br>
            <a:r>
              <a:rPr b="1" i="1" lang="zh-CN" sz="2000" spc="-1" strike="noStrike" u="sng">
                <a:solidFill>
                  <a:srgbClr val="993300"/>
                </a:solidFill>
                <a:uFillTx/>
                <a:latin typeface="Times New Roman"/>
              </a:rPr>
              <a:t>평균 성과가 일반적인 건설사업의 평균 성과보다 우수한 결과</a:t>
            </a:r>
            <a:r>
              <a:rPr b="0" lang="zh-CN" sz="2000" spc="-1" strike="noStrike">
                <a:solidFill>
                  <a:srgbClr val="993300"/>
                </a:solidFill>
                <a:latin typeface="Times New Roman"/>
              </a:rPr>
              <a:t>를 보이고 </a:t>
            </a:r>
            <a:br>
              <a:rPr sz="2000"/>
            </a:br>
            <a:r>
              <a:rPr b="0" lang="zh-CN" sz="2000" spc="-1" strike="noStrike">
                <a:solidFill>
                  <a:srgbClr val="993300"/>
                </a:solidFill>
                <a:latin typeface="Times New Roman"/>
              </a:rPr>
              <a:t>있음을 알 수 있음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504120" y="3898800"/>
            <a:ext cx="157320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80880" y="304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언제까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g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대 목표를 달성할 수 있는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04920" y="6324480"/>
            <a:ext cx="1918800" cy="381240"/>
            <a:chOff x="304920" y="6324480"/>
            <a:chExt cx="1918800" cy="381240"/>
          </a:xfrm>
        </p:grpSpPr>
        <p:pic>
          <p:nvPicPr>
            <p:cNvPr id="537" name="" descr=""/>
            <p:cNvPicPr/>
            <p:nvPr/>
          </p:nvPicPr>
          <p:blipFill>
            <a:blip r:embed="rId1"/>
            <a:stretch/>
          </p:blipFill>
          <p:spPr>
            <a:xfrm>
              <a:off x="304920" y="63244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2"/>
            <a:stretch/>
          </p:blipFill>
          <p:spPr>
            <a:xfrm>
              <a:off x="874080" y="64346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9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7696080" y="6410160"/>
            <a:ext cx="1236960" cy="3938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438280" y="1143000"/>
            <a:ext cx="655344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a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대 목표 달성이 장기적으로 지속될 것이라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간주하기는 어려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그러나 이러한 목표가 비록 단기적이라도 지속된다면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영국 건설산업의 효율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생산성 및 경쟁력은 향상되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변모된 모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현재는 시범사업을 중심으로 이러한 성과가 나타나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있지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러한 노력이 전 영국건설산업계로 확산되는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것에 주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만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-4-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전략이 한계에 도달한다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새로운 패러다임과 전략이 요구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858960" y="3200400"/>
            <a:ext cx="969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80880" y="3049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결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04920" y="6324480"/>
            <a:ext cx="1918800" cy="381240"/>
            <a:chOff x="304920" y="6324480"/>
            <a:chExt cx="1918800" cy="381240"/>
          </a:xfrm>
        </p:grpSpPr>
        <p:pic>
          <p:nvPicPr>
            <p:cNvPr id="546" name="" descr=""/>
            <p:cNvPicPr/>
            <p:nvPr/>
          </p:nvPicPr>
          <p:blipFill>
            <a:blip r:embed="rId1"/>
            <a:stretch/>
          </p:blipFill>
          <p:spPr>
            <a:xfrm>
              <a:off x="304920" y="63244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874080" y="64346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7696080" y="6410160"/>
            <a:ext cx="1236960" cy="39384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685800" y="990720"/>
            <a:ext cx="85345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Rethinking Construction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운동의 실천은 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공사비 절감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공기단축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,  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품질 향상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,</a:t>
            </a:r>
            <a:br>
              <a:rPr sz="1800"/>
            </a:b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재해율 감소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각 이해당사자간의 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Good Relationship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의 형성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고객과 건설회사가</a:t>
            </a:r>
            <a:br>
              <a:rPr sz="1800"/>
            </a:b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  동시에 만족하는 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Win-Win 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상황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등 프로젝트에 매우 긍정적으로 나타남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각 사례를 분석해 보면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est Practice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중심에는 프로젝트의 목적을 분명히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파악하고 있는 발주자가 있고 이를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충분히 이해하는 설계자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컨설턴트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시공자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용자 등 프로젝트 관련자들의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 파트너쉽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의한 것임을 알 수 있음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est Practic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례에서 보듯이 각 프로젝트의 특징 및  문제점을 파악하고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이를 해결하기 위해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E, LCC,  Risk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관리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계약방식의 선정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Supply Chain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구성 등  </a:t>
            </a:r>
            <a:r>
              <a:rPr b="1" lang="ko-KR" sz="1800" spc="-1" strike="noStrike">
                <a:solidFill>
                  <a:srgbClr val="993300"/>
                </a:solidFill>
                <a:latin typeface="Times New Roman"/>
              </a:rPr>
              <a:t>각 경우에 맞는 솔루션을  채택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하여 프로젝트를 성공적으로 수행함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5029200" y="2438280"/>
            <a:ext cx="35812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555480"/>
            <a:ext cx="243828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19920"/>
            <a:ext cx="914400" cy="838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76320" y="6172200"/>
            <a:ext cx="1918800" cy="380880"/>
            <a:chOff x="976320" y="6172200"/>
            <a:chExt cx="1918800" cy="3808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976320" y="6172200"/>
              <a:ext cx="5691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545480" y="628236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609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차  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1371600"/>
            <a:ext cx="6324480" cy="44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1) Best Practice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성공 사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-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개요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- BAA Pavement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프로젝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- Argent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프로젝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- Forton Lake Opening Bridge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프로젝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- 288 Bishopgate, City of Lo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- Cannons Health &amp; Safety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- Cambridge Regional Coll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- East London Line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노반 안정화 공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- Queen Elizabeth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병원 프로젝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- Loard Chancellor’s Depart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2) Rethinking Construction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운동의 주요 성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- M4I </a:t>
            </a:r>
            <a:r>
              <a:rPr b="1" lang="ko-KR" sz="1600" spc="-1" strike="noStrike">
                <a:solidFill>
                  <a:srgbClr val="ff9933"/>
                </a:solidFill>
                <a:latin typeface="Times New Roman"/>
              </a:rPr>
              <a:t>시범사업 성과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결론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696080" y="6172200"/>
            <a:ext cx="123696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80880" y="3049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결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04920" y="6324480"/>
            <a:ext cx="1918800" cy="381240"/>
            <a:chOff x="304920" y="6324480"/>
            <a:chExt cx="1918800" cy="381240"/>
          </a:xfrm>
        </p:grpSpPr>
        <p:pic>
          <p:nvPicPr>
            <p:cNvPr id="555" name="" descr=""/>
            <p:cNvPicPr/>
            <p:nvPr/>
          </p:nvPicPr>
          <p:blipFill>
            <a:blip r:embed="rId1"/>
            <a:stretch/>
          </p:blipFill>
          <p:spPr>
            <a:xfrm>
              <a:off x="304920" y="63244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2"/>
            <a:stretch/>
          </p:blipFill>
          <p:spPr>
            <a:xfrm>
              <a:off x="874080" y="64346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7696080" y="6410160"/>
            <a:ext cx="1236960" cy="3938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457200" y="3581280"/>
            <a:ext cx="8458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건설산업의 발전을 위해 또는 각 프로젝트의 성공적인 완성을 위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hin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Construction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추진 분야를 살펴보면 우리에게 알려지지 않은 해법은 없으며 문제는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건설산업을 이끌고 있는 각 당사자가 </a:t>
            </a:r>
            <a:r>
              <a:rPr b="1" lang="zh-CN" sz="1800" spc="-1" strike="noStrike">
                <a:solidFill>
                  <a:srgbClr val="993300"/>
                </a:solidFill>
                <a:latin typeface="Times New Roman"/>
              </a:rPr>
              <a:t>실천하고자 하는 의지가 있는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하는  것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앞으로 해외 선진국가의 건설산업 성공 사례 및 교훈을 중심으로 국내 건설산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정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발주자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건설산업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서도 </a:t>
            </a:r>
            <a:r>
              <a:rPr b="1" lang="zh-CN" sz="1800" spc="-1" strike="noStrike">
                <a:solidFill>
                  <a:srgbClr val="993300"/>
                </a:solidFill>
                <a:latin typeface="Times New Roman"/>
              </a:rPr>
              <a:t>건설산업 발전을 위한  관심과 의지를 갖고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Best Practice</a:t>
            </a:r>
            <a:r>
              <a:rPr b="1" lang="zh-CN" sz="1800" spc="-1" strike="noStrike">
                <a:solidFill>
                  <a:srgbClr val="993300"/>
                </a:solidFill>
                <a:latin typeface="Times New Roman"/>
              </a:rPr>
              <a:t>를 수집</a:t>
            </a: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993300"/>
                </a:solidFill>
                <a:latin typeface="Times New Roman"/>
              </a:rPr>
              <a:t>보급</a:t>
            </a: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993300"/>
                </a:solidFill>
                <a:latin typeface="Times New Roman"/>
              </a:rPr>
              <a:t>실천함으로써 건설산업의 효율성과 경쟁력을 강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해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나아가야 할 것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762120"/>
            <a:ext cx="3124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국내 건설산업의 경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최근 제도적으로 부분적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개선의지가 나타나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있으나 아직은 잘못된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건설관행과 비생산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비효율성을 유발시키는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건설생산시스템이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현존하고 있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3332160" y="914400"/>
          <a:ext cx="5506920" cy="2637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32160" y="914400"/>
                    <a:ext cx="550692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600200"/>
            <a:ext cx="380988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hinking Construction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운동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gan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보고서에서 제안하고 있는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-4-7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전략”을 기본 전략으로 채택하고 있으며 내용적으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대 추진 분야에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 Practic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를 실천하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대 목표를 달성하고자 하는 것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각 사례별로 프로젝트의 특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주요 추진 분야 및 주요 성과에 대해 알아보고자 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Practi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주요 사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4920" y="6324480"/>
            <a:ext cx="1918800" cy="381240"/>
            <a:chOff x="304920" y="6324480"/>
            <a:chExt cx="1918800" cy="38124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04920" y="63244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874080" y="64346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914400" y="990720"/>
            <a:ext cx="3428640" cy="457200"/>
            <a:chOff x="914400" y="990720"/>
            <a:chExt cx="3428640" cy="457200"/>
          </a:xfrm>
        </p:grpSpPr>
        <p:sp>
          <p:nvSpPr>
            <p:cNvPr id="104" name=""/>
            <p:cNvSpPr/>
            <p:nvPr/>
          </p:nvSpPr>
          <p:spPr>
            <a:xfrm>
              <a:off x="914400" y="990720"/>
              <a:ext cx="223884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84240" y="1036800"/>
              <a:ext cx="335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개   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4800600" y="1295280"/>
          <a:ext cx="4157640" cy="5069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295280"/>
                    <a:ext cx="415764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049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A Pav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프로젝트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(Partn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68580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6400800"/>
            <a:ext cx="1918800" cy="380880"/>
            <a:chOff x="304920" y="6400800"/>
            <a:chExt cx="1918800" cy="3808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04920" y="6400800"/>
              <a:ext cx="5691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874080" y="651096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304920" y="62485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4038480"/>
            <a:ext cx="3657600" cy="2057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733920"/>
            <a:ext cx="18288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3733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성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219320"/>
            <a:ext cx="4419720" cy="1295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914400"/>
            <a:ext cx="22860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6480" y="95868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프로젝트 특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35900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- BAA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는 연간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3500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만 파운드 정도를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Heathrow,</a:t>
            </a:r>
            <a:br>
              <a:rPr sz="1400"/>
            </a:b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   Gatwick, Stansted, Southamton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의 도로공사에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- AMEC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과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Partnership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으로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5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년간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1300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만 파운드</a:t>
            </a:r>
            <a:br>
              <a:rPr sz="1400"/>
            </a:b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   프로젝트 계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249800"/>
            <a:ext cx="365760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공사비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: 30%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절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공사기간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: 1998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년도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12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개월 소요되던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프로젝트가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8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개월로 단축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설계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1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개월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공사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3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개월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예측성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시공자에게 계약 내용 예측 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생산성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반복 효과로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2.5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배 향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재해율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: 0.36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기록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건설업 평균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1.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895480"/>
            <a:ext cx="4419720" cy="3200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12408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590920"/>
            <a:ext cx="22860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6480" y="263520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관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048120"/>
            <a:ext cx="434340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Pavement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팀은 하나의 통합된 조직으로 발주자인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BAA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주 시공자인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AMEC, 3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개의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upplier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회사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직원으로 구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BAA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는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Project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및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Commercial Management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기술을 제공하고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AMEC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는 시공자의 계획 및 운영과 관계된 전문성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발휘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개발에 대한 이익은 분배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BAA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의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General Manager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가 팀 리더가 되지만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팀 내에서는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AMEC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직원이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BAA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직원에게 작업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지시하기도 함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257800" y="1219320"/>
            <a:ext cx="3581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304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rge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젝트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파트너링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920" y="6400800"/>
            <a:ext cx="1918800" cy="380880"/>
            <a:chOff x="304920" y="6400800"/>
            <a:chExt cx="1918800" cy="380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304920" y="6400800"/>
              <a:ext cx="5691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74080" y="651096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952880"/>
            <a:ext cx="5486400" cy="12193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648320"/>
            <a:ext cx="18288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6483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성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295280"/>
            <a:ext cx="5562720" cy="10670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990720"/>
            <a:ext cx="22860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6480" y="103500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프로젝트 특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434960"/>
            <a:ext cx="556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지속적인 사업을 하는 발주자로서 협력업체와 지속적인 관계를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유지함으로써 계약발주단계의 비용 및 노력을 간소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설계단계 관리를 통해 품질 및 비용 효과 고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164200"/>
            <a:ext cx="42670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공사기간 엄수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업계 평균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18%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지연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임대 가능 면적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85%(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업계 평균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75~8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20%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하자 감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다년 계약 및 유보금 배제를 통한 협력업체 안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819520"/>
            <a:ext cx="5562720" cy="1676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0481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514600"/>
            <a:ext cx="22860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6480" y="255888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관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971800"/>
            <a:ext cx="54100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Partnering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을 통한 계약발주 단계 간소화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동일 협력업체 사용으로 내부기술 축적 및 안정성 증대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사업타당성 검토 및 설계단계 관리 집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프로젝트 전반에 걸친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Risk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분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비용 효과성을 고려하여 프로젝트를 통한 이윤 추구 극대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660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304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orton Lake Opening B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젝트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조달시스템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6400800"/>
            <a:ext cx="1918800" cy="380880"/>
            <a:chOff x="304920" y="6400800"/>
            <a:chExt cx="1918800" cy="38088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04920" y="6400800"/>
              <a:ext cx="5691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874080" y="651096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4038480"/>
            <a:ext cx="2971800" cy="19814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809880"/>
            <a:ext cx="1828800" cy="38124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8098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성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295280"/>
            <a:ext cx="3124440" cy="8384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990720"/>
            <a:ext cx="22860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06480" y="103500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프로젝트 개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34960"/>
            <a:ext cx="304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- Forton Lake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에 위치한 길이 </a:t>
            </a:r>
            <a:br>
              <a:rPr sz="1400"/>
            </a:b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170m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의 보행자 다리로서 중간에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18m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길이의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Lifting Span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있음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299120"/>
            <a:ext cx="3047760" cy="17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발주자의 프로젝트 목표 명확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초기에 예비 설계자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시공자에게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사업 목표 설명되어 추후 변경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요소 없어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품질 및 프로그램을 유지하면서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낙찰가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20%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하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514600"/>
            <a:ext cx="3124440" cy="1143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74320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2209680"/>
            <a:ext cx="2286000" cy="38124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6480" y="225432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관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666880"/>
            <a:ext cx="29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전략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최저 비용으로 최고 품질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추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설계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시공 통합으로 통한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새로운 사업 발주 방식 도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886200" y="1027080"/>
            <a:ext cx="5086440" cy="5210280"/>
            <a:chOff x="3886200" y="1027080"/>
            <a:chExt cx="5086440" cy="521028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3886200" y="1027080"/>
              <a:ext cx="5086440" cy="521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" name=""/>
            <p:cNvGrpSpPr/>
            <p:nvPr/>
          </p:nvGrpSpPr>
          <p:grpSpPr>
            <a:xfrm>
              <a:off x="5029200" y="1089000"/>
              <a:ext cx="1905120" cy="457200"/>
              <a:chOff x="5029200" y="1089000"/>
              <a:chExt cx="190512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5029200" y="1089000"/>
                <a:ext cx="1828800" cy="457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29200" y="1089000"/>
                <a:ext cx="1905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발주자의 프로젝트 목표 명확히 파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8229600" y="1131840"/>
              <a:ext cx="609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53280" y="114588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발주자 분석</a:t>
              </a:r>
              <a:br>
                <a:rPr sz="1200"/>
              </a:b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단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29600" y="3189240"/>
              <a:ext cx="609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3280" y="320292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입찰</a:t>
              </a:r>
              <a:br>
                <a:rPr sz="1200"/>
              </a:b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단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29600" y="4865760"/>
              <a:ext cx="609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53280" y="5322240"/>
              <a:ext cx="77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시공</a:t>
              </a:r>
              <a:br>
                <a:rPr sz="1200"/>
              </a:b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단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267080" y="1915200"/>
              <a:ext cx="3200040" cy="276480"/>
              <a:chOff x="4267080" y="1915200"/>
              <a:chExt cx="3200040" cy="276480"/>
            </a:xfrm>
          </p:grpSpPr>
          <p:sp>
            <p:nvSpPr>
              <p:cNvPr id="182" name=""/>
              <p:cNvSpPr/>
              <p:nvPr/>
            </p:nvSpPr>
            <p:spPr>
              <a:xfrm>
                <a:off x="4267080" y="1929960"/>
                <a:ext cx="320004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80520" y="1915200"/>
                <a:ext cx="197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질의 응답을 통한 설계자 시공자 사전 선정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822920" y="2274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4114800" y="2297160"/>
              <a:ext cx="1600200" cy="457200"/>
              <a:chOff x="4114800" y="2297160"/>
              <a:chExt cx="1600200" cy="457200"/>
            </a:xfrm>
          </p:grpSpPr>
          <p:sp>
            <p:nvSpPr>
              <p:cNvPr id="186" name=""/>
              <p:cNvSpPr/>
              <p:nvPr/>
            </p:nvSpPr>
            <p:spPr>
              <a:xfrm>
                <a:off x="4114800" y="2297160"/>
                <a:ext cx="1600200" cy="457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14120" y="2424960"/>
                <a:ext cx="677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설계자 지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114800" y="2884320"/>
              <a:ext cx="1600200" cy="457200"/>
              <a:chOff x="4114800" y="2884320"/>
              <a:chExt cx="1600200" cy="45720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2884320"/>
                <a:ext cx="1600200" cy="457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07400" y="3012120"/>
                <a:ext cx="12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계획설계 및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OQ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작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324480" y="2272320"/>
              <a:ext cx="1143000" cy="1101960"/>
              <a:chOff x="6324480" y="2272320"/>
              <a:chExt cx="1143000" cy="1101960"/>
            </a:xfrm>
          </p:grpSpPr>
          <p:sp>
            <p:nvSpPr>
              <p:cNvPr id="192" name=""/>
              <p:cNvSpPr/>
              <p:nvPr/>
            </p:nvSpPr>
            <p:spPr>
              <a:xfrm>
                <a:off x="6324480" y="2287440"/>
                <a:ext cx="1143000" cy="1067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94400" y="2272320"/>
                <a:ext cx="819000" cy="11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200" spc="-1" strike="noStrike">
                    <a:solidFill>
                      <a:srgbClr val="000000"/>
                    </a:solidFill>
                    <a:latin typeface="Times New Roman"/>
                  </a:rPr>
                  <a:t>계획설계 및 </a:t>
                </a:r>
                <a:br>
                  <a:rPr sz="1200"/>
                </a:br>
                <a:r>
                  <a:rPr b="0" lang="ko-KR" sz="1200" spc="-1" strike="noStrike">
                    <a:solidFill>
                      <a:srgbClr val="000000"/>
                    </a:solidFill>
                    <a:latin typeface="Times New Roman"/>
                  </a:rPr>
                  <a:t>BOQ</a:t>
                </a:r>
                <a:r>
                  <a:rPr b="0" lang="ko-KR" sz="1200" spc="-1" strike="noStrike">
                    <a:solidFill>
                      <a:srgbClr val="000000"/>
                    </a:solidFill>
                    <a:latin typeface="Times New Roman"/>
                  </a:rPr>
                  <a:t>에 </a:t>
                </a:r>
                <a:br>
                  <a:rPr sz="1200"/>
                </a:br>
                <a:r>
                  <a:rPr b="0" lang="ko-KR" sz="1200" spc="-1" strike="noStrike">
                    <a:solidFill>
                      <a:srgbClr val="000000"/>
                    </a:solidFill>
                    <a:latin typeface="Times New Roman"/>
                  </a:rPr>
                  <a:t>근거하여 입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200" spc="-1" strike="noStrike">
                    <a:solidFill>
                      <a:srgbClr val="000000"/>
                    </a:solidFill>
                    <a:latin typeface="Times New Roman"/>
                  </a:rPr>
                  <a:t>Short List</a:t>
                </a:r>
                <a:br>
                  <a:rPr sz="1200"/>
                </a:br>
                <a:r>
                  <a:rPr b="0" lang="ko-KR" sz="1200" spc="-1" strike="noStrike">
                    <a:solidFill>
                      <a:srgbClr val="000000"/>
                    </a:solidFill>
                    <a:latin typeface="Times New Roman"/>
                  </a:rPr>
                  <a:t>(2,3</a:t>
                </a:r>
                <a:r>
                  <a:rPr b="0" lang="ko-KR" sz="1200" spc="-1" strike="noStrike">
                    <a:solidFill>
                      <a:srgbClr val="000000"/>
                    </a:solidFill>
                    <a:latin typeface="Times New Roman"/>
                  </a:rPr>
                  <a:t>개업체</a:t>
                </a:r>
                <a:r>
                  <a:rPr b="0" lang="ko-KR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219560" y="3494160"/>
              <a:ext cx="1219320" cy="685800"/>
              <a:chOff x="4219560" y="3494160"/>
              <a:chExt cx="1219320" cy="685800"/>
            </a:xfrm>
          </p:grpSpPr>
          <p:sp>
            <p:nvSpPr>
              <p:cNvPr id="195" name=""/>
              <p:cNvSpPr/>
              <p:nvPr/>
            </p:nvSpPr>
            <p:spPr>
              <a:xfrm>
                <a:off x="4219560" y="3494160"/>
                <a:ext cx="1219320" cy="685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57160" y="3598200"/>
                <a:ext cx="768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각 입찰자들과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대안 설계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315120" y="3494160"/>
              <a:ext cx="1219320" cy="685800"/>
              <a:chOff x="6315120" y="3494160"/>
              <a:chExt cx="1219320" cy="685800"/>
            </a:xfrm>
          </p:grpSpPr>
          <p:sp>
            <p:nvSpPr>
              <p:cNvPr id="198" name=""/>
              <p:cNvSpPr/>
              <p:nvPr/>
            </p:nvSpPr>
            <p:spPr>
              <a:xfrm>
                <a:off x="6315120" y="3494160"/>
                <a:ext cx="1219320" cy="685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15920" y="3507840"/>
                <a:ext cx="1042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시공성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품질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원가</a:t>
                </a:r>
                <a:br>
                  <a:rPr sz="1200"/>
                </a:b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고려하여 설계</a:t>
                </a:r>
                <a:br>
                  <a:rPr sz="1200"/>
                </a:b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자와 함께 작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267080" y="4217400"/>
              <a:ext cx="3200040" cy="276480"/>
              <a:chOff x="4267080" y="4217400"/>
              <a:chExt cx="3200040" cy="276480"/>
            </a:xfrm>
          </p:grpSpPr>
          <p:sp>
            <p:nvSpPr>
              <p:cNvPr id="201" name=""/>
              <p:cNvSpPr/>
              <p:nvPr/>
            </p:nvSpPr>
            <p:spPr>
              <a:xfrm>
                <a:off x="4267080" y="4232160"/>
                <a:ext cx="320004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62640" y="4217400"/>
                <a:ext cx="80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설계 시공 통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120000" y="4636440"/>
              <a:ext cx="1465920" cy="460800"/>
              <a:chOff x="6120000" y="4636440"/>
              <a:chExt cx="1465920" cy="460800"/>
            </a:xfrm>
          </p:grpSpPr>
          <p:sp>
            <p:nvSpPr>
              <p:cNvPr id="204" name=""/>
              <p:cNvSpPr/>
              <p:nvPr/>
            </p:nvSpPr>
            <p:spPr>
              <a:xfrm>
                <a:off x="6120000" y="4640040"/>
                <a:ext cx="1465920" cy="457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51840" y="4636440"/>
                <a:ext cx="1031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향상된 설계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기준하여 총액 입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267080" y="5297400"/>
              <a:ext cx="3352680" cy="547560"/>
              <a:chOff x="4267080" y="5297400"/>
              <a:chExt cx="3352680" cy="547560"/>
            </a:xfrm>
          </p:grpSpPr>
          <p:sp>
            <p:nvSpPr>
              <p:cNvPr id="207" name=""/>
              <p:cNvSpPr/>
              <p:nvPr/>
            </p:nvSpPr>
            <p:spPr>
              <a:xfrm>
                <a:off x="4267080" y="5297400"/>
                <a:ext cx="3218400" cy="547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67080" y="5297400"/>
                <a:ext cx="335268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최고 품질 및 최저 가격 입찰자에게 낙찰</a:t>
                </a:r>
                <a:br>
                  <a:rPr sz="1200"/>
                </a:br>
                <a:r>
                  <a:rPr b="0" lang="zh-CN" sz="1200" spc="-1" strike="noStrike">
                    <a:solidFill>
                      <a:srgbClr val="000000"/>
                    </a:solidFill>
                    <a:latin typeface="Times New Roman"/>
                  </a:rPr>
                  <a:t>낙찰자가 제공한 자료를 이용 상세 설계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304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88 Bishopgate, City of London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조달시스템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04920" y="6553080"/>
            <a:ext cx="1918800" cy="381240"/>
            <a:chOff x="304920" y="6553080"/>
            <a:chExt cx="1918800" cy="38124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304920" y="65530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874080" y="66632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800600"/>
            <a:ext cx="4495680" cy="14479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572000"/>
            <a:ext cx="18288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5720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성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295280"/>
            <a:ext cx="4572000" cy="8384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990720"/>
            <a:ext cx="22860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06480" y="103500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프로젝트 개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43496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지하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1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층 지상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5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층 오피스 건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공사금액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470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만 파운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당초 공기 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21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개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060880"/>
            <a:ext cx="350496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공기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3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개월 단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외부마감 공사비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20%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절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총공사비의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10%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절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무하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2514600"/>
            <a:ext cx="4572000" cy="1981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74320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209680"/>
            <a:ext cx="2286000" cy="38124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6480" y="225432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관리 현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2666880"/>
            <a:ext cx="4343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발주자는 프로젝트의 조속한 완공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공사비의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초기 확정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발주자의 주요 의사 결정이 적극적으로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반영될 것을 요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디자인 단계에서 모듈화 및 공장 제작화를 통하여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현장 조립 소요 시간 절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Critical  Work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의 집중 설계 관리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발주 관리를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통한 공기지연 사전 예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설계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시공 단계에서 발주자의 의사 적극 수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4120" y="3809880"/>
            <a:ext cx="3504960" cy="24386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581280"/>
            <a:ext cx="1828800" cy="38124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5812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성공 요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4114800"/>
            <a:ext cx="358128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발주자의 요구에 맞는 발주 방식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선정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:  CM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계약 방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공기단축을 디자인 단계부터 고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발주자의 적극적 의사 결정을 통한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공기 지연 방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GMP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계약을 통한 총공사비 관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34120" y="1090440"/>
            <a:ext cx="342900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304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annons Health &amp; Safety Center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공급연쇄메니지먼트</a:t>
            </a:r>
            <a:r>
              <a:rPr b="0" lang="ko-KR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6400800"/>
            <a:ext cx="1918800" cy="380880"/>
            <a:chOff x="304920" y="6400800"/>
            <a:chExt cx="1918800" cy="38088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304920" y="6400800"/>
              <a:ext cx="5691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874080" y="651096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952880"/>
            <a:ext cx="4495680" cy="12193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4648320"/>
            <a:ext cx="18288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4648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성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295280"/>
            <a:ext cx="4572000" cy="10670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990720"/>
            <a:ext cx="22860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06480" y="103500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프로젝트 개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1434960"/>
            <a:ext cx="441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11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개의 헬스센터를 운영하는 발주자의 지속적이고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반복적인 프로젝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Supply Chain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이 프로젝트에 미치는 중요성 인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5164200"/>
            <a:ext cx="42670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품질 향상 및 원가 절감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공기단축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프로젝트 예측 능력 향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무하자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무사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743200"/>
            <a:ext cx="457200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97180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438280"/>
            <a:ext cx="2286000" cy="38124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6480" y="248292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주요 관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2895480"/>
            <a:ext cx="449568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Supply Chain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의 계획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우수한 하도급자</a:t>
            </a: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,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공급자를 발굴 지원하여 저렴하고 좋은 자재 확보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Project Management System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을 도입하여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  공급물량 및 시기에 대한 예측 능력 증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Partnering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을 통한 협력 강화 및 정보 공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- Full Cost Model </a:t>
            </a:r>
            <a:r>
              <a:rPr b="1" lang="zh-CN" sz="1400" spc="-1" strike="noStrike">
                <a:solidFill>
                  <a:srgbClr val="3333cc"/>
                </a:solidFill>
                <a:latin typeface="굴림"/>
              </a:rPr>
              <a:t>개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7696080" y="6399360"/>
            <a:ext cx="1236960" cy="393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34120" y="3809880"/>
            <a:ext cx="3504960" cy="23623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3581280"/>
            <a:ext cx="1828800" cy="38124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35812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성공 요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962520"/>
            <a:ext cx="3581640" cy="25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우수한 공급자 지원을 통한 품질확보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및 비용절감 효과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지속적이고 반복적인 프로젝트에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부합하는 시스템 구축 노력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공급자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Monitoring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을 통한 부적격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업체 배제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Full Cost Model 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개발로 비용예측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- Partnering</a:t>
            </a:r>
            <a:r>
              <a:rPr b="1" lang="zh-CN" sz="1400" spc="-1" strike="noStrike">
                <a:solidFill>
                  <a:srgbClr val="ff0000"/>
                </a:solidFill>
                <a:latin typeface="굴림"/>
              </a:rPr>
              <a:t>을 통한 공급자의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안정성 및 이윤 보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304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ridge Regional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대학교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993300"/>
                </a:solidFill>
                <a:latin typeface="Times New Roman"/>
              </a:rPr>
              <a:t>사업초기단계 기획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993300"/>
                </a:solidFill>
                <a:latin typeface="Times New Roman"/>
              </a:rPr>
              <a:t>생애주기비용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04920" y="6324480"/>
            <a:ext cx="1918800" cy="381240"/>
            <a:chOff x="304920" y="6324480"/>
            <a:chExt cx="1918800" cy="38124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304920" y="6324480"/>
              <a:ext cx="5691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74080" y="6434640"/>
              <a:ext cx="134964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1219320"/>
            <a:ext cx="3962160" cy="4952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990720"/>
            <a:ext cx="1828800" cy="38088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990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주요 성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57200" y="990720"/>
            <a:ext cx="4114800" cy="2361960"/>
            <a:chOff x="457200" y="990720"/>
            <a:chExt cx="4114800" cy="2361960"/>
          </a:xfrm>
        </p:grpSpPr>
        <p:sp>
          <p:nvSpPr>
            <p:cNvPr id="269" name=""/>
            <p:cNvSpPr/>
            <p:nvPr/>
          </p:nvSpPr>
          <p:spPr>
            <a:xfrm>
              <a:off x="609480" y="1295280"/>
              <a:ext cx="3962520" cy="2057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15238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200" y="990720"/>
              <a:ext cx="2286000" cy="380880"/>
            </a:xfrm>
            <a:prstGeom prst="flowChartInputOutput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6480" y="1035000"/>
              <a:ext cx="237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굴림"/>
                </a:rPr>
                <a:t>프로젝트 특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1676520"/>
              <a:ext cx="373356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굴림"/>
                </a:rPr>
                <a:t>- 1950</a:t>
              </a:r>
              <a:r>
                <a:rPr b="1" lang="zh-CN" sz="1400" spc="-1" strike="noStrike">
                  <a:solidFill>
                    <a:srgbClr val="3333cc"/>
                  </a:solidFill>
                  <a:latin typeface="굴림"/>
                </a:rPr>
                <a:t>년대 </a:t>
              </a:r>
              <a:r>
                <a:rPr b="1" lang="en-US" sz="1400" spc="-1" strike="noStrike">
                  <a:solidFill>
                    <a:srgbClr val="3333cc"/>
                  </a:solidFill>
                  <a:latin typeface="굴림"/>
                </a:rPr>
                <a:t>12</a:t>
              </a:r>
              <a:r>
                <a:rPr b="1" lang="zh-CN" sz="1400" spc="-1" strike="noStrike">
                  <a:solidFill>
                    <a:srgbClr val="3333cc"/>
                  </a:solidFill>
                  <a:latin typeface="굴림"/>
                </a:rPr>
                <a:t>개의 건물로 도심 내 분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굴림"/>
                </a:rPr>
                <a:t>- </a:t>
              </a:r>
              <a:r>
                <a:rPr b="1" lang="zh-CN" sz="1400" spc="-1" strike="noStrike">
                  <a:solidFill>
                    <a:srgbClr val="3333cc"/>
                  </a:solidFill>
                  <a:latin typeface="굴림"/>
                </a:rPr>
                <a:t>학생과 교직원의 이동 시간 및 에너지</a:t>
              </a:r>
              <a:br>
                <a:rPr sz="1400"/>
              </a:br>
              <a:r>
                <a:rPr b="1" lang="en-US" sz="1400" spc="-1" strike="noStrike">
                  <a:solidFill>
                    <a:srgbClr val="3333cc"/>
                  </a:solidFill>
                  <a:latin typeface="굴림"/>
                </a:rPr>
                <a:t>  낭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굴림"/>
                </a:rPr>
                <a:t>- </a:t>
              </a:r>
              <a:r>
                <a:rPr b="1" lang="zh-CN" sz="1400" spc="-1" strike="noStrike">
                  <a:solidFill>
                    <a:srgbClr val="3333cc"/>
                  </a:solidFill>
                  <a:latin typeface="굴림"/>
                </a:rPr>
                <a:t>노후화된 건물의 난방과 유지에 비용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굴림"/>
                </a:rPr>
                <a:t>  </a:t>
              </a:r>
              <a:r>
                <a:rPr b="1" lang="zh-CN" sz="1400" spc="-1" strike="noStrike">
                  <a:solidFill>
                    <a:srgbClr val="3333cc"/>
                  </a:solidFill>
                  <a:latin typeface="굴림"/>
                </a:rPr>
                <a:t>손실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952880" y="1523880"/>
            <a:ext cx="35053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8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년에 걸친 캠퍼스 사업이 공기 및</a:t>
            </a:r>
            <a:br>
              <a:rPr sz="1400"/>
            </a:b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  예산을 준수하며 성공적 완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자연 환기와 단열 등 철저한 건축계획</a:t>
            </a:r>
            <a:br>
              <a:rPr sz="1400"/>
            </a:b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  으로 에너지 비용 절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계약적 분쟁이나 클레임 발생 전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고객 및 사용자 만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3886200"/>
            <a:ext cx="3962520" cy="2286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411480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3581280"/>
            <a:ext cx="2286000" cy="381240"/>
          </a:xfrm>
          <a:prstGeom prst="flowChartInputOutpu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06480" y="3625920"/>
            <a:ext cx="23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주요 관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4267080"/>
            <a:ext cx="3733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프로젝트 초기부터 발주자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건축가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컨설</a:t>
            </a:r>
            <a:br>
              <a:rPr sz="1400"/>
            </a:b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  턴트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시공자 간의 팀웍 구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명확한 역할과 책임 구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명확한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Communication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체계 확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- LCC </a:t>
            </a:r>
            <a:r>
              <a:rPr b="1" lang="ko-KR" sz="1400" spc="-1" strike="noStrike">
                <a:solidFill>
                  <a:srgbClr val="3333cc"/>
                </a:solidFill>
                <a:latin typeface="굴림"/>
              </a:rPr>
              <a:t>적용으로 장기적 원가절감 지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7696080" y="6388200"/>
            <a:ext cx="123696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05:44:28Z</dcterms:created>
  <dc:creator>한미파슨스</dc:creator>
  <dc:description/>
  <dc:language>en-US</dc:language>
  <cp:lastModifiedBy>kchwang</cp:lastModifiedBy>
  <cp:lastPrinted>2002-04-02T06:29:38Z</cp:lastPrinted>
  <dcterms:modified xsi:type="dcterms:W3CDTF">2002-04-10T07:51:47Z</dcterms:modified>
  <cp:revision>115</cp:revision>
  <dc:subject/>
  <dc:title>슬라이드 제목 없음</dc:title>
</cp:coreProperties>
</file>