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C024-36FD-4312-914F-7CAA0EBF5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EB30-EF14-4C1A-8355-452197A2C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2069-0153-48D7-8ACB-01F7FC43E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F6DB-BD60-48AD-9D01-459C59B1C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77D61-3253-44DF-8BD4-D9296DB6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9889E-0D61-4ABC-BB08-BB03D6BF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1BB37-95E9-4BC8-A832-4BDED2E5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7AD61-9409-4144-A8FC-85A7CEDA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D041C-957D-4FCC-9A39-CB888DB6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11678-0965-4C39-AF60-FE02D194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8314D-DA03-4E73-B30F-A833586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83D4-E0FA-48A9-B61C-24E9BA37A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F0B42-A84F-49E1-864C-F723166C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ABFE0-E510-48C8-8982-249AA2C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8EC1A-0BD1-496B-93B2-DCAA58A4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35A4F-7595-4F85-B3CD-2FD6B69F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3B9A5-7BEC-4A67-A5C7-FC81650D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B741-CC25-4C70-BC78-99637B0DB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1F21-F051-4003-9A44-D9C473DFD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9F91-3474-4263-830F-248A27791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477F-823E-4FF9-BA96-CD993608F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73BD-1EDE-4726-BEF6-B784FE066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546E-BE95-44E2-836F-4AC05A05C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9D73-79C6-4A56-8EC0-3860D845D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70560" y="685800"/>
            <a:ext cx="5839560" cy="1599840"/>
            <a:chOff x="2770560" y="685800"/>
            <a:chExt cx="5839560" cy="1599840"/>
          </a:xfrm>
        </p:grpSpPr>
        <p:sp>
          <p:nvSpPr>
            <p:cNvPr id="1" name=""/>
            <p:cNvSpPr/>
            <p:nvPr/>
          </p:nvSpPr>
          <p:spPr>
            <a:xfrm>
              <a:off x="2886480" y="6858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93" swAng="10851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93" swAng="10851582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600" y="851040"/>
              <a:ext cx="572724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534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5348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0560" y="1071720"/>
              <a:ext cx="572364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53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53588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457200" y="1400040"/>
            <a:ext cx="7918560" cy="165240"/>
          </a:xfrm>
          <a:prstGeom prst="roundRect">
            <a:avLst>
              <a:gd name="adj" fmla="val 49991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162560" y="76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52C7-4AB8-46EB-B2BB-E312CEFF1978}" type="slidenum">
              <a:rPr b="1" lang="ko-KR" sz="2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365200"/>
            <a:ext cx="8152920" cy="1599840"/>
            <a:chOff x="457200" y="236520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480" y="23652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93" swAng="10851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93" swAng="10851582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600" y="2530440"/>
              <a:ext cx="572724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534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5348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0560" y="2751120"/>
              <a:ext cx="572364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53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53588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1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D65-67AF-41B8-807A-9760B7457A1F}" type="slidenum">
              <a:rPr b="0" lang="ko-K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cc66"/>
                </a:solidFill>
                <a:latin typeface="Times New Roman"/>
              </a:rPr>
              <a:t>건설산업의 선진화 방안</a:t>
            </a:r>
            <a:endParaRPr b="1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미국 건설산업의 미래 발전전략과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주요 시사점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0680" y="4846680"/>
            <a:ext cx="1552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이복남선임연구위원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한국건설산업연구원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05688-D7B5-4B3C-AD85-B7F46AD316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국가건설산업의 목표를 국가차원에서 설정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부문별 비전을 수립하여 국가 목표에 접근시키는 전략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모든 기술개발과 발전 전략의 핵심은 “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Goal”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과 연결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범정부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범산업적 접근으로 역할 분담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예상 문제점에 대한 대책 수립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2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3733920"/>
            <a:ext cx="2133720" cy="5331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신그래픽"/>
              </a:rPr>
              <a:t>국가건설목표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1160" y="4876920"/>
            <a:ext cx="1371600" cy="380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신그래픽"/>
              </a:rPr>
              <a:t>업무용 빌딩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876920"/>
            <a:ext cx="1371600" cy="380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신그래픽"/>
              </a:rPr>
              <a:t>교통시설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4876920"/>
            <a:ext cx="1371600" cy="380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신그래픽"/>
              </a:rPr>
              <a:t>발전소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4876920"/>
            <a:ext cx="1371600" cy="380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신그래픽"/>
              </a:rPr>
              <a:t>석유화학공장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715000"/>
            <a:ext cx="990720" cy="3808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신그래픽"/>
              </a:rPr>
              <a:t>외벽처리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715000"/>
            <a:ext cx="990720" cy="3808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신그래픽"/>
              </a:rPr>
              <a:t>조명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5715000"/>
            <a:ext cx="990720" cy="3808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신그래픽"/>
              </a:rPr>
              <a:t>철골 등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1" idx="0"/>
            <a:endCxn id="112" idx="0"/>
          </p:cNvCxnSpPr>
          <p:nvPr/>
        </p:nvCxnSpPr>
        <p:spPr>
          <a:xfrm flipH="1">
            <a:off x="1866600" y="4267080"/>
            <a:ext cx="2782080" cy="61056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20" name=""/>
          <p:cNvCxnSpPr>
            <a:stCxn id="111" idx="1"/>
            <a:endCxn id="113" idx="0"/>
          </p:cNvCxnSpPr>
          <p:nvPr/>
        </p:nvCxnSpPr>
        <p:spPr>
          <a:xfrm flipH="1">
            <a:off x="3733560" y="4267080"/>
            <a:ext cx="915120" cy="61056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21" name=""/>
          <p:cNvCxnSpPr>
            <a:stCxn id="111" idx="2"/>
            <a:endCxn id="114" idx="0"/>
          </p:cNvCxnSpPr>
          <p:nvPr/>
        </p:nvCxnSpPr>
        <p:spPr>
          <a:xfrm>
            <a:off x="4648320" y="4267080"/>
            <a:ext cx="915120" cy="61056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22" name=""/>
          <p:cNvCxnSpPr>
            <a:stCxn id="111" idx="3"/>
            <a:endCxn id="115" idx="0"/>
          </p:cNvCxnSpPr>
          <p:nvPr/>
        </p:nvCxnSpPr>
        <p:spPr>
          <a:xfrm>
            <a:off x="4648320" y="4267080"/>
            <a:ext cx="2743920" cy="61056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23" name=""/>
          <p:cNvCxnSpPr>
            <a:stCxn id="112" idx="2"/>
            <a:endCxn id="116" idx="0"/>
          </p:cNvCxnSpPr>
          <p:nvPr/>
        </p:nvCxnSpPr>
        <p:spPr>
          <a:xfrm flipH="1">
            <a:off x="723240" y="5257800"/>
            <a:ext cx="1143720" cy="45792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24" name=""/>
          <p:cNvCxnSpPr>
            <a:stCxn id="112" idx="2"/>
            <a:endCxn id="117" idx="0"/>
          </p:cNvCxnSpPr>
          <p:nvPr/>
        </p:nvCxnSpPr>
        <p:spPr>
          <a:xfrm>
            <a:off x="1866600" y="5257800"/>
            <a:ext cx="1080" cy="45792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25" name=""/>
          <p:cNvCxnSpPr>
            <a:stCxn id="112" idx="2"/>
            <a:endCxn id="118" idx="0"/>
          </p:cNvCxnSpPr>
          <p:nvPr/>
        </p:nvCxnSpPr>
        <p:spPr>
          <a:xfrm>
            <a:off x="1866600" y="5257800"/>
            <a:ext cx="1143720" cy="457920"/>
          </a:xfrm>
          <a:prstGeom prst="straightConnector1">
            <a:avLst/>
          </a:prstGeom>
          <a:ln w="12600">
            <a:solidFill>
              <a:srgbClr val="ffffcc"/>
            </a:solidFill>
            <a:miter/>
            <a:headEnd len="sm" type="triangle" w="sm"/>
            <a:tailEnd len="sm" type="triangle" w="sm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B040-F830-4F71-8E76-D6FA555060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65720" y="5102280"/>
            <a:ext cx="1546200" cy="787320"/>
          </a:xfrm>
          <a:custGeom>
            <a:avLst/>
            <a:gdLst>
              <a:gd name="textAreaLeft" fmla="*/ 352800 w 1546200"/>
              <a:gd name="textAreaRight" fmla="*/ 1193400 w 1546200"/>
              <a:gd name="textAreaTop" fmla="*/ 179640 h 787320"/>
              <a:gd name="textAreaBottom" fmla="*/ 60768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7080" y="1816200"/>
            <a:ext cx="31752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13320" y="1752480"/>
            <a:ext cx="912600" cy="306360"/>
          </a:xfrm>
          <a:custGeom>
            <a:avLst/>
            <a:gdLst/>
            <a:ahLst/>
            <a:rect l="l" t="t" r="r" b="b"/>
            <a:pathLst>
              <a:path w="625" h="216">
                <a:moveTo>
                  <a:pt x="0" y="0"/>
                </a:moveTo>
                <a:lnTo>
                  <a:pt x="624" y="0"/>
                </a:lnTo>
                <a:lnTo>
                  <a:pt x="62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4680" y="2457360"/>
            <a:ext cx="317520" cy="238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4680" y="2457360"/>
            <a:ext cx="31896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1800" y="2457360"/>
            <a:ext cx="31752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73440" y="2457360"/>
            <a:ext cx="1752480" cy="239760"/>
          </a:xfrm>
          <a:custGeom>
            <a:avLst/>
            <a:gdLst/>
            <a:ahLst/>
            <a:rect l="l" t="t" r="r" b="b"/>
            <a:pathLst>
              <a:path w="1201" h="170">
                <a:moveTo>
                  <a:pt x="0" y="0"/>
                </a:moveTo>
                <a:lnTo>
                  <a:pt x="1200" y="0"/>
                </a:lnTo>
                <a:lnTo>
                  <a:pt x="1200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9960" y="3097080"/>
            <a:ext cx="31752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9960" y="3097080"/>
            <a:ext cx="31896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35240" y="3097080"/>
            <a:ext cx="31752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35240" y="3097080"/>
            <a:ext cx="31896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30520" y="3097080"/>
            <a:ext cx="31752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30520" y="3097080"/>
            <a:ext cx="31896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16520" y="3097080"/>
            <a:ext cx="31572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73440" y="3097080"/>
            <a:ext cx="981000" cy="338400"/>
          </a:xfrm>
          <a:custGeom>
            <a:avLst/>
            <a:gdLst/>
            <a:ahLst/>
            <a:rect l="l" t="t" r="r" b="b"/>
            <a:pathLst>
              <a:path w="673" h="239">
                <a:moveTo>
                  <a:pt x="0" y="0"/>
                </a:moveTo>
                <a:lnTo>
                  <a:pt x="672" y="0"/>
                </a:lnTo>
                <a:lnTo>
                  <a:pt x="672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16520" y="3736800"/>
            <a:ext cx="31572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3440" y="3736800"/>
            <a:ext cx="981000" cy="241560"/>
          </a:xfrm>
          <a:custGeom>
            <a:avLst/>
            <a:gdLst/>
            <a:ahLst/>
            <a:rect l="l" t="t" r="r" b="b"/>
            <a:pathLst>
              <a:path w="673" h="170">
                <a:moveTo>
                  <a:pt x="0" y="0"/>
                </a:moveTo>
                <a:lnTo>
                  <a:pt x="672" y="0"/>
                </a:lnTo>
                <a:lnTo>
                  <a:pt x="672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0720" y="3097080"/>
            <a:ext cx="31572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00720" y="3097080"/>
            <a:ext cx="31752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097080"/>
            <a:ext cx="3189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3097080"/>
            <a:ext cx="31896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91280" y="3097080"/>
            <a:ext cx="3189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91280" y="3097080"/>
            <a:ext cx="31896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86560" y="3097080"/>
            <a:ext cx="3189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6560" y="3097080"/>
            <a:ext cx="31896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83280" y="3097080"/>
            <a:ext cx="31752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3280" y="3097080"/>
            <a:ext cx="31932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78560" y="2457360"/>
            <a:ext cx="31752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78560" y="2457360"/>
            <a:ext cx="31932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5640" y="2457360"/>
            <a:ext cx="31572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5640" y="2457360"/>
            <a:ext cx="31752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70920" y="2457360"/>
            <a:ext cx="315720" cy="238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70920" y="2457360"/>
            <a:ext cx="317520" cy="239760"/>
          </a:xfrm>
          <a:custGeom>
            <a:avLst/>
            <a:gdLst/>
            <a:ahLst/>
            <a:rect l="l" t="t" r="r" b="b"/>
            <a:pathLst>
              <a:path w="218" h="170">
                <a:moveTo>
                  <a:pt x="0" y="0"/>
                </a:moveTo>
                <a:lnTo>
                  <a:pt x="217" y="0"/>
                </a:lnTo>
                <a:lnTo>
                  <a:pt x="21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65840" y="205884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601280" y="2255760"/>
            <a:ext cx="3364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1640" y="225576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65840" y="205884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70560" y="2255760"/>
            <a:ext cx="3952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0560" y="225576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65840" y="205884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65840" y="2255760"/>
            <a:ext cx="2571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37320" y="225576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65840" y="205884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65840" y="2255760"/>
            <a:ext cx="2968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34400" y="225576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5840" y="205884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65840" y="2255760"/>
            <a:ext cx="3363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29680" y="225576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98720" y="2895480"/>
            <a:ext cx="2571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9872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94000" y="2895480"/>
            <a:ext cx="2176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9400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790720" y="2895480"/>
            <a:ext cx="1779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175280" y="2895480"/>
            <a:ext cx="3952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7528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0560" y="2895480"/>
            <a:ext cx="9889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5948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0560" y="2895480"/>
            <a:ext cx="1384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5476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0560" y="2895480"/>
            <a:ext cx="1779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5004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0560" y="2895480"/>
            <a:ext cx="2176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676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0560" y="2700360"/>
            <a:ext cx="0" cy="195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0560" y="2895480"/>
            <a:ext cx="2571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42040" y="2895480"/>
            <a:ext cx="0" cy="196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75280" y="343368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71600" y="4334040"/>
            <a:ext cx="525600" cy="23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71600" y="4334040"/>
            <a:ext cx="522360" cy="239400"/>
          </a:xfrm>
          <a:custGeom>
            <a:avLst/>
            <a:gdLst/>
            <a:ahLst/>
            <a:rect l="l" t="t" r="r" b="b"/>
            <a:pathLst>
              <a:path w="358" h="170">
                <a:moveTo>
                  <a:pt x="0" y="0"/>
                </a:moveTo>
                <a:lnTo>
                  <a:pt x="357" y="0"/>
                </a:lnTo>
                <a:lnTo>
                  <a:pt x="35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22480" y="4334040"/>
            <a:ext cx="525600" cy="23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2480" y="4334040"/>
            <a:ext cx="524160" cy="239400"/>
          </a:xfrm>
          <a:custGeom>
            <a:avLst/>
            <a:gdLst/>
            <a:ahLst/>
            <a:rect l="l" t="t" r="r" b="b"/>
            <a:pathLst>
              <a:path w="359" h="170">
                <a:moveTo>
                  <a:pt x="0" y="0"/>
                </a:moveTo>
                <a:lnTo>
                  <a:pt x="358" y="0"/>
                </a:lnTo>
                <a:lnTo>
                  <a:pt x="358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75160" y="4334040"/>
            <a:ext cx="525240" cy="23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75160" y="4334040"/>
            <a:ext cx="522000" cy="239400"/>
          </a:xfrm>
          <a:custGeom>
            <a:avLst/>
            <a:gdLst/>
            <a:ahLst/>
            <a:rect l="l" t="t" r="r" b="b"/>
            <a:pathLst>
              <a:path w="358" h="170">
                <a:moveTo>
                  <a:pt x="0" y="0"/>
                </a:moveTo>
                <a:lnTo>
                  <a:pt x="357" y="0"/>
                </a:lnTo>
                <a:lnTo>
                  <a:pt x="35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0720" y="4334040"/>
            <a:ext cx="520560" cy="23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30720" y="4334040"/>
            <a:ext cx="522360" cy="239400"/>
          </a:xfrm>
          <a:custGeom>
            <a:avLst/>
            <a:gdLst/>
            <a:ahLst/>
            <a:rect l="l" t="t" r="r" b="b"/>
            <a:pathLst>
              <a:path w="358" h="170">
                <a:moveTo>
                  <a:pt x="0" y="0"/>
                </a:moveTo>
                <a:lnTo>
                  <a:pt x="357" y="0"/>
                </a:lnTo>
                <a:lnTo>
                  <a:pt x="35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1600" y="4334040"/>
            <a:ext cx="522360" cy="23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81600" y="4334040"/>
            <a:ext cx="523800" cy="239400"/>
          </a:xfrm>
          <a:custGeom>
            <a:avLst/>
            <a:gdLst/>
            <a:ahLst/>
            <a:rect l="l" t="t" r="r" b="b"/>
            <a:pathLst>
              <a:path w="359" h="170">
                <a:moveTo>
                  <a:pt x="0" y="0"/>
                </a:moveTo>
                <a:lnTo>
                  <a:pt x="358" y="0"/>
                </a:lnTo>
                <a:lnTo>
                  <a:pt x="358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33920" y="4334040"/>
            <a:ext cx="520920" cy="23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33920" y="4334040"/>
            <a:ext cx="522360" cy="239400"/>
          </a:xfrm>
          <a:custGeom>
            <a:avLst/>
            <a:gdLst/>
            <a:ahLst/>
            <a:rect l="l" t="t" r="r" b="b"/>
            <a:pathLst>
              <a:path w="358" h="170">
                <a:moveTo>
                  <a:pt x="0" y="0"/>
                </a:moveTo>
                <a:lnTo>
                  <a:pt x="357" y="0"/>
                </a:lnTo>
                <a:lnTo>
                  <a:pt x="357" y="169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65560" y="3981600"/>
            <a:ext cx="0" cy="172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34760" y="4154400"/>
            <a:ext cx="163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35120" y="4154400"/>
            <a:ext cx="0" cy="176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65560" y="3981600"/>
            <a:ext cx="0" cy="172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185640" y="4154400"/>
            <a:ext cx="97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86000" y="4154400"/>
            <a:ext cx="0" cy="176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65560" y="3981600"/>
            <a:ext cx="0" cy="172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838680" y="4154400"/>
            <a:ext cx="326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38680" y="4154400"/>
            <a:ext cx="0" cy="176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65560" y="3981600"/>
            <a:ext cx="0" cy="172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65560" y="4154400"/>
            <a:ext cx="324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89560" y="4154400"/>
            <a:ext cx="0" cy="176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3981600"/>
            <a:ext cx="0" cy="172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5560" y="4154400"/>
            <a:ext cx="974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40440" y="4154400"/>
            <a:ext cx="0" cy="176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65560" y="3981600"/>
            <a:ext cx="0" cy="172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5560" y="4154400"/>
            <a:ext cx="1630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4154400"/>
            <a:ext cx="0" cy="176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0" y="1781280"/>
            <a:ext cx="505080" cy="305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바탕체"/>
              </a:rPr>
              <a:t>대통령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50800" y="2435400"/>
            <a:ext cx="870840" cy="24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바탕체"/>
              </a:rPr>
              <a:t>국가과학기술위원회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5240" y="3112920"/>
            <a:ext cx="59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cc"/>
                </a:solidFill>
                <a:latin typeface="Arial"/>
                <a:ea typeface="바탕체"/>
              </a:rPr>
              <a:t>6</a:t>
            </a:r>
            <a:r>
              <a:rPr b="1" lang="ko-KR" sz="1000" spc="-1" strike="noStrike">
                <a:solidFill>
                  <a:srgbClr val="ffffcc"/>
                </a:solidFill>
                <a:latin typeface="Arial"/>
                <a:ea typeface="바탕체"/>
              </a:rPr>
              <a:t>개분과위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2840" y="2455920"/>
            <a:ext cx="459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cc"/>
                </a:solidFill>
                <a:latin typeface="Arial"/>
                <a:ea typeface="바탕체"/>
              </a:rPr>
              <a:t>정부내각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48240" y="2413080"/>
            <a:ext cx="1230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cc"/>
                </a:solidFill>
                <a:latin typeface="Arial"/>
                <a:ea typeface="바탕체"/>
              </a:rPr>
              <a:t>(NSTC)/9</a:t>
            </a:r>
            <a:r>
              <a:rPr b="1" lang="ko-KR" sz="1200" spc="-1" strike="noStrike">
                <a:solidFill>
                  <a:srgbClr val="ffffcc"/>
                </a:solidFill>
                <a:latin typeface="Arial"/>
                <a:ea typeface="바탕체"/>
              </a:rPr>
              <a:t>개분과위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21760" y="311292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cc"/>
                </a:solidFill>
                <a:latin typeface="Arial"/>
                <a:ea typeface="바탕체"/>
              </a:rPr>
              <a:t>(CCIT)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18960" y="3086280"/>
            <a:ext cx="489960" cy="335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바탕체"/>
              </a:rPr>
              <a:t>민간산업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바탕체"/>
              </a:rPr>
              <a:t>기술분과위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43000" y="3703680"/>
            <a:ext cx="642240" cy="275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바탕체"/>
              </a:rPr>
              <a:t>건설분과위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1400" y="3746520"/>
            <a:ext cx="851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cc"/>
                </a:solidFill>
                <a:latin typeface="Arial"/>
                <a:ea typeface="바탕체"/>
              </a:rPr>
              <a:t>(C&amp;B/CERF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58920" y="3909960"/>
            <a:ext cx="18583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cc"/>
                </a:solidFill>
                <a:latin typeface="Arial"/>
                <a:ea typeface="바탕체"/>
              </a:rPr>
              <a:t>*National Construction Goals(White Paper)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09760" y="4329000"/>
            <a:ext cx="4287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cc"/>
                </a:solidFill>
                <a:latin typeface="Arial"/>
                <a:ea typeface="바탕체"/>
              </a:rPr>
              <a:t>공기단축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cc"/>
                </a:solidFill>
                <a:latin typeface="Arial"/>
                <a:ea typeface="바탕체"/>
              </a:rPr>
              <a:t>(50%)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62080" y="4329000"/>
            <a:ext cx="4287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cc"/>
                </a:solidFill>
                <a:latin typeface="Arial"/>
                <a:ea typeface="바탕체"/>
              </a:rPr>
              <a:t>유지보수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cc"/>
                </a:solidFill>
                <a:latin typeface="Arial"/>
                <a:ea typeface="바탕체"/>
              </a:rPr>
              <a:t>(50%)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20880" y="4329000"/>
            <a:ext cx="4197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cc"/>
                </a:solidFill>
                <a:latin typeface="Arial"/>
                <a:ea typeface="바탕체"/>
              </a:rPr>
              <a:t>생산성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cc"/>
                </a:solidFill>
                <a:latin typeface="Arial"/>
                <a:ea typeface="바탕체"/>
              </a:rPr>
              <a:t>(30%)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70320" y="4329000"/>
            <a:ext cx="4287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cc"/>
                </a:solidFill>
                <a:latin typeface="Arial"/>
                <a:ea typeface="바탕체"/>
              </a:rPr>
              <a:t>직업질병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cc"/>
                </a:solidFill>
                <a:latin typeface="Arial"/>
                <a:ea typeface="바탕체"/>
              </a:rPr>
              <a:t>(50%)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7640" y="4335480"/>
            <a:ext cx="518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ffcc"/>
                </a:solidFill>
                <a:latin typeface="Arial"/>
                <a:ea typeface="바탕체"/>
              </a:rPr>
              <a:t>공해</a:t>
            </a:r>
            <a:r>
              <a:rPr b="1" lang="en-US" sz="700" spc="-1" strike="noStrike">
                <a:solidFill>
                  <a:srgbClr val="ffffcc"/>
                </a:solidFill>
                <a:latin typeface="Arial"/>
                <a:ea typeface="바탕체"/>
              </a:rPr>
              <a:t>/</a:t>
            </a:r>
            <a:r>
              <a:rPr b="1" lang="zh-CN" sz="700" spc="-1" strike="noStrike">
                <a:solidFill>
                  <a:srgbClr val="ffffcc"/>
                </a:solidFill>
                <a:latin typeface="Arial"/>
                <a:ea typeface="바탕체"/>
              </a:rPr>
              <a:t>쓰레기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cc"/>
                </a:solidFill>
                <a:latin typeface="Arial"/>
                <a:ea typeface="바탕체"/>
              </a:rPr>
              <a:t>(50%)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4329000"/>
            <a:ext cx="4287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cc"/>
                </a:solidFill>
                <a:latin typeface="Arial"/>
                <a:ea typeface="바탕체"/>
              </a:rPr>
              <a:t>내구년한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ffffcc"/>
                </a:solidFill>
                <a:latin typeface="Arial"/>
                <a:ea typeface="바탕체"/>
              </a:rPr>
              <a:t>(50%)</a:t>
            </a: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178160" y="4815000"/>
            <a:ext cx="1844640" cy="1447560"/>
          </a:xfrm>
          <a:custGeom>
            <a:avLst/>
            <a:gdLst>
              <a:gd name="textAreaLeft" fmla="*/ 360 w 1844640"/>
              <a:gd name="textAreaRight" fmla="*/ 1845360 w 18446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2520" y="4815000"/>
            <a:ext cx="1511280" cy="146340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5920" y="5584680"/>
            <a:ext cx="96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Arial"/>
                <a:ea typeface="바탕체"/>
              </a:rPr>
              <a:t>2003</a:t>
            </a:r>
            <a:r>
              <a:rPr b="1" i="1" lang="zh-CN" sz="2000" spc="-1" strike="noStrike">
                <a:solidFill>
                  <a:srgbClr val="ffffcc"/>
                </a:solidFill>
                <a:latin typeface="Arial"/>
                <a:ea typeface="바탕체"/>
              </a:rPr>
              <a:t>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0840" y="3598920"/>
            <a:ext cx="96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Arial"/>
                <a:ea typeface="바탕체"/>
              </a:rPr>
              <a:t>1994</a:t>
            </a:r>
            <a:r>
              <a:rPr b="1" i="1" lang="zh-CN" sz="2000" spc="-1" strike="noStrike">
                <a:solidFill>
                  <a:srgbClr val="ffffcc"/>
                </a:solidFill>
                <a:latin typeface="Arial"/>
                <a:ea typeface="바탕체"/>
              </a:rPr>
              <a:t>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1240" y="4865760"/>
            <a:ext cx="824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국가제도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자재성능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/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표준화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설계기술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시공공법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관리방법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정보처리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자동화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/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기계화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  <a:ea typeface="바탕체"/>
              </a:rPr>
              <a:t>발주방식등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30400" y="4875120"/>
            <a:ext cx="7336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cc"/>
                </a:solidFill>
                <a:latin typeface="Arial"/>
                <a:ea typeface="바탕체"/>
              </a:rPr>
              <a:t>건축시설물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cc"/>
                </a:solidFill>
                <a:latin typeface="Arial"/>
                <a:ea typeface="바탕체"/>
              </a:rPr>
              <a:t>발전소시설물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cc"/>
                </a:solidFill>
                <a:latin typeface="Arial"/>
                <a:ea typeface="바탕체"/>
              </a:rPr>
              <a:t>공장시설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cc"/>
                </a:solidFill>
                <a:latin typeface="Arial"/>
                <a:ea typeface="바탕체"/>
              </a:rPr>
              <a:t>사회간접시설물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cc"/>
                </a:solidFill>
                <a:latin typeface="Arial"/>
                <a:ea typeface="바탕체"/>
              </a:rPr>
              <a:t>상하수도시설물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cc"/>
                </a:solidFill>
                <a:latin typeface="Arial"/>
                <a:ea typeface="바탕체"/>
              </a:rPr>
              <a:t>댐 및 치수설비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cc"/>
                </a:solidFill>
                <a:latin typeface="Arial"/>
                <a:ea typeface="바탕체"/>
              </a:rPr>
              <a:t>환경설비등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00040" y="4156200"/>
            <a:ext cx="3727440" cy="27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690" swAng="5402690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690" swAng="5402690"/>
              </a:path>
            </a:pathLst>
          </a:custGeom>
          <a:noFill/>
          <a:ln cap="rnd" w="50760">
            <a:solidFill>
              <a:srgbClr val="ff3300"/>
            </a:solidFill>
            <a:custDash>
              <a:ds d="499000" sp="201000"/>
              <a:ds d="199000" sp="20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60280" y="5286240"/>
            <a:ext cx="813960" cy="39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바탕체"/>
              </a:rPr>
              <a:t>산학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바탕체"/>
              </a:rPr>
              <a:t>민간주도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바탕체"/>
              </a:rPr>
              <a:t>기술 개발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4080" y="4417920"/>
            <a:ext cx="1546200" cy="787320"/>
          </a:xfrm>
          <a:custGeom>
            <a:avLst/>
            <a:gdLst>
              <a:gd name="textAreaLeft" fmla="*/ 352800 w 1546200"/>
              <a:gd name="textAreaRight" fmla="*/ 1193400 w 1546200"/>
              <a:gd name="textAreaTop" fmla="*/ 179640 h 787320"/>
              <a:gd name="textAreaBottom" fmla="*/ 60768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시설부문별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비전</a:t>
            </a:r>
            <a:r>
              <a:rPr b="1" lang="en-US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/Roadma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49" idx="2"/>
            <a:endCxn id="256" idx="0"/>
          </p:cNvCxnSpPr>
          <p:nvPr/>
        </p:nvCxnSpPr>
        <p:spPr>
          <a:xfrm rot="10800000">
            <a:off x="1556640" y="5204520"/>
            <a:ext cx="965880" cy="342360"/>
          </a:xfrm>
          <a:prstGeom prst="curvedConnector2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예상 문제점에 대한 대책 수립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1FD6-1553-4051-9033-CF84BB7148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국건설산업의 목표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시설물의 건설 효율성 증대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이상의 사업기간 단축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이상의 유지 및 보수 비용 절감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이상의 생산성과 편의 성 증대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이상의 부상과 질병 감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이상의 공해와 폐기물 감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이상의 내구성과 유연성 증대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건설인력의 건강과 안전 향상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이상의 근로자 질병과 부상을 감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0933400">
            <a:off x="3218040" y="5714640"/>
            <a:ext cx="59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신그래픽"/>
              </a:rPr>
              <a:t>Rational Plan for Federal Research for Construction and Build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20EF-20E7-49E8-8402-B1FB46EF93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목표 달성을 위한 기본 전략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I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와 의사결정방식 접목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건설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ycle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의 자동화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고성능 자재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환경의 품질 향상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위험 제거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감소 기술 개발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수행성과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성능 표준화 시스템 개발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인적자원의 성능 개선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2018-CBAB-4F3D-ABA7-C91929C767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업무용 빌딩의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Roadmap </a:t>
            </a: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개발의 배경</a:t>
            </a:r>
            <a:endParaRPr b="1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건설부문의 생산성 향상을 위한 종합계획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R&amp;D Plan for Meeting Construction and Building Goals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DOC/DOE, NSTC, November, 1994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R&amp;D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의 목표 설정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공기단축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 5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유지 및 보수 비용 절감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 5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생산성과 안락성 향상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 3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거주지로부터 질병 및 부상 감소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 5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쓰레기와 공해 감소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 5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수명과 유연성 확대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 5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직무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직업으로부터 질병 및 부상 감소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 5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ime Horizon : 1998 - 2003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9916-0575-4FF5-B22A-9F03010D85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고성능에 대한 시각을 가지게 된 배경</a:t>
            </a:r>
            <a:endParaRPr b="1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454040" y="1981080"/>
            <a:ext cx="4565520" cy="398880"/>
            <a:chOff x="1454040" y="1981080"/>
            <a:chExt cx="4565520" cy="398880"/>
          </a:xfrm>
        </p:grpSpPr>
        <p:sp>
          <p:nvSpPr>
            <p:cNvPr id="269" name=""/>
            <p:cNvSpPr/>
            <p:nvPr/>
          </p:nvSpPr>
          <p:spPr>
            <a:xfrm>
              <a:off x="1454040" y="1981080"/>
              <a:ext cx="292320" cy="333360"/>
            </a:xfrm>
            <a:custGeom>
              <a:avLst/>
              <a:gdLst/>
              <a:ahLst/>
              <a:rect l="l" t="t" r="r" b="b"/>
              <a:pathLst>
                <a:path w="282" h="240">
                  <a:moveTo>
                    <a:pt x="138" y="0"/>
                  </a:moveTo>
                  <a:lnTo>
                    <a:pt x="0" y="240"/>
                  </a:lnTo>
                  <a:lnTo>
                    <a:pt x="282" y="240"/>
                  </a:lnTo>
                  <a:lnTo>
                    <a:pt x="138" y="48"/>
                  </a:lnTo>
                </a:path>
              </a:pathLst>
            </a:custGeom>
            <a:solidFill>
              <a:srgbClr val="ffcc66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6520" y="2209680"/>
              <a:ext cx="1904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34080" y="1981080"/>
              <a:ext cx="208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기획 및 설계비 </a:t>
              </a:r>
              <a:r>
                <a:rPr b="1" lang="ko-KR" sz="20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: 0.4%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305000" y="2346480"/>
            <a:ext cx="4449960" cy="398880"/>
            <a:chOff x="1305000" y="2346480"/>
            <a:chExt cx="4449960" cy="398880"/>
          </a:xfrm>
        </p:grpSpPr>
        <p:sp>
          <p:nvSpPr>
            <p:cNvPr id="273" name=""/>
            <p:cNvSpPr/>
            <p:nvPr/>
          </p:nvSpPr>
          <p:spPr>
            <a:xfrm>
              <a:off x="1305000" y="2381400"/>
              <a:ext cx="592200" cy="333360"/>
            </a:xfrm>
            <a:custGeom>
              <a:avLst/>
              <a:gdLst/>
              <a:ahLst/>
              <a:rect l="l" t="t" r="r" b="b"/>
              <a:pathLst>
                <a:path w="571" h="240">
                  <a:moveTo>
                    <a:pt x="139" y="0"/>
                  </a:moveTo>
                  <a:lnTo>
                    <a:pt x="0" y="240"/>
                  </a:lnTo>
                  <a:lnTo>
                    <a:pt x="571" y="240"/>
                  </a:lnTo>
                  <a:lnTo>
                    <a:pt x="433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2540160"/>
              <a:ext cx="18288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6280" y="2346480"/>
              <a:ext cx="194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건설공사비 </a:t>
              </a:r>
              <a:r>
                <a:rPr b="1" lang="en-US" sz="20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: 15.9%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1720" y="2781360"/>
            <a:ext cx="5601600" cy="1733400"/>
            <a:chOff x="531720" y="2781360"/>
            <a:chExt cx="5601600" cy="1733400"/>
          </a:xfrm>
        </p:grpSpPr>
        <p:sp>
          <p:nvSpPr>
            <p:cNvPr id="277" name=""/>
            <p:cNvSpPr/>
            <p:nvPr/>
          </p:nvSpPr>
          <p:spPr>
            <a:xfrm>
              <a:off x="531720" y="2781360"/>
              <a:ext cx="2136960" cy="1733400"/>
            </a:xfrm>
            <a:custGeom>
              <a:avLst/>
              <a:gdLst/>
              <a:ahLst/>
              <a:rect l="l" t="t" r="r" b="b"/>
              <a:pathLst>
                <a:path w="2064" h="1248">
                  <a:moveTo>
                    <a:pt x="720" y="0"/>
                  </a:moveTo>
                  <a:lnTo>
                    <a:pt x="0" y="1248"/>
                  </a:lnTo>
                  <a:lnTo>
                    <a:pt x="2064" y="1248"/>
                  </a:lnTo>
                  <a:lnTo>
                    <a:pt x="1392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62320" y="3657600"/>
              <a:ext cx="1218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01320" y="345132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유지 및 보수비 </a:t>
              </a:r>
              <a:r>
                <a:rPr b="1" lang="en-US" sz="20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: 83.3%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57200" y="4403880"/>
            <a:ext cx="4733280" cy="398880"/>
            <a:chOff x="457200" y="4403880"/>
            <a:chExt cx="4733280" cy="398880"/>
          </a:xfrm>
        </p:grpSpPr>
        <p:sp>
          <p:nvSpPr>
            <p:cNvPr id="281" name=""/>
            <p:cNvSpPr/>
            <p:nvPr/>
          </p:nvSpPr>
          <p:spPr>
            <a:xfrm>
              <a:off x="457200" y="4514760"/>
              <a:ext cx="2286000" cy="133560"/>
            </a:xfrm>
            <a:custGeom>
              <a:avLst/>
              <a:gdLst/>
              <a:ahLst/>
              <a:rect l="l" t="t" r="r" b="b"/>
              <a:pathLst>
                <a:path w="2208" h="96">
                  <a:moveTo>
                    <a:pt x="48" y="0"/>
                  </a:moveTo>
                  <a:lnTo>
                    <a:pt x="0" y="96"/>
                  </a:lnTo>
                  <a:lnTo>
                    <a:pt x="2208" y="96"/>
                  </a:lnTo>
                  <a:lnTo>
                    <a:pt x="2180" y="48"/>
                  </a:lnTo>
                  <a:lnTo>
                    <a:pt x="48" y="48"/>
                  </a:lnTo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43200" y="4610160"/>
              <a:ext cx="838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93240" y="4403880"/>
              <a:ext cx="149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해체비 </a:t>
              </a:r>
              <a:r>
                <a:rPr b="1" lang="ko-KR" sz="20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: 0.4%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>
            <a:off x="4343400" y="5257800"/>
            <a:ext cx="2962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굴림"/>
              </a:rPr>
              <a:t>Parato's Rule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굴림"/>
              <a:ea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6296400" y="6400800"/>
            <a:ext cx="229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*LCC</a:t>
            </a:r>
            <a:r>
              <a:rPr b="1" lang="zh-CN" sz="1000" spc="-1" strike="noStrike">
                <a:solidFill>
                  <a:srgbClr val="ffffcc"/>
                </a:solidFill>
                <a:latin typeface="Times New Roman"/>
              </a:rPr>
              <a:t>개념 도입을 위한 시설안전관리체계 선진화 방안</a:t>
            </a: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cc"/>
                </a:solidFill>
                <a:latin typeface="Times New Roman"/>
              </a:rPr>
              <a:t>국토연구원</a:t>
            </a: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, 2000.6, p.193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4160" y="495288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신그래픽"/>
              </a:rPr>
              <a:t>건축물의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신그래픽"/>
              </a:rPr>
              <a:t>LCC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신그래픽"/>
              </a:rPr>
              <a:t>비용 구성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0ED2-CA47-437D-8873-55F331DEC3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래의 새로운 요구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581280" y="5334120"/>
            <a:ext cx="4419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굴림"/>
              </a:rPr>
              <a:t>기술진로 개발의 핵심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굴림"/>
              <a:ea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미래의 빌딩이 요구하는 새로운 요구사항은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세기의 요구가 지속 가능한 가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미래 빌딩에서 우리가 요구하는 것이 무엇인가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있다면 어떻게 달성할 것 인가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다음 수 십 년간 우리가 어떻게 기술개발과 적용의 속도를 높일 수 있는가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0148-6BA3-4E02-9BC6-ABDF94EA7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비전과 진로 개발팀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2000. 10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월 발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National Construction Goal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에서 출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미 에너지성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(DOE)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의 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BTS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가 주관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Office of Building Technology, State and Community Program(BTS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기본 개념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Research, Development and Deployment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National Goal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에서 제시된 목표 중심으로 개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Time Horizon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2001 - 2020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2D62-0BEA-4A02-B56C-A8783EE314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Rethinking Commercial Building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4191120"/>
            <a:ext cx="62960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헤드라인"/>
              </a:rPr>
              <a:t>"Whole Building System ? !"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헤드라인"/>
              <a:ea typeface="헤드라인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복잡하고 다양한 기술 도입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표준화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관례화된 설계기준 고수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개별시스템의 독립된 기능과 역할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ater Heating –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일회성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e Heating – Post Usage ?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715000" y="4800600"/>
          <a:ext cx="320040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4800600"/>
                    <a:ext cx="32004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5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68C7-D29A-4B81-905D-F55FBF6D29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국 빌딩산업의 오늘과 내일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450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만개의 업무용 빌딩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총 에너지 소비량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1/6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총 전기소비량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32%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과거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년 동안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개 건물이 소비하는 전기 소비량이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배로 증가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현재보다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25%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의 전기소비량이 증가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이대로 방치해두면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년간 업무용 빌딩에 투입되는  에너지 비용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,0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불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30%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에너지 효율화 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연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3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불 절감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기존의 기술로도 가능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80%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까지도 절감이 가능할 것으로 예상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에너지 효율화를 위한 기술진로 개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장기연구 및 개발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냉난방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Combined)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기술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전력효율화 기술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에너지 재사용 기술 등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3B48-71BF-449D-9451-F42045F628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주요 내용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세계건설산업의 새로운 추세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미국건설산업의 당면문제와 대책 수립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미국건설산업의 비전과 전략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비전 사례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1 –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업무용 빌딩의 비전과 전략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(2020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년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비전 사례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2 –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교통부문의 비전과 전략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(202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년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국내건설산업에 주는 시사점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국내건설산업의 대응방안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결론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6E19-0371-4145-86DD-1468159973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2020</a:t>
            </a: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년 업무용 빌딩의 이슈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지식기반 작업 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(Knowledge-Based Work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Desk Top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에서 개별 부재로 이동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개인 통제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Collaborative, reconfigurable Workplace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공간과 정보 공유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개인별 물리적 공간 감소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평균 연령층의 변화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노령화로 인한 이동의 편의성 확보 필수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도시 재탄생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(Urban Rebirth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도심지로 이동을 위한 인센티브제 가동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건설기능인력 부족 대체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건설공법과 기술로 기능인력 수요 감소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477120" y="3581280"/>
          <a:ext cx="24559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581280"/>
                    <a:ext cx="24559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2690-58D8-4735-9C55-833A9FF07D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래 전망과 비전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1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첨단과 실 시간 기술의 접목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(Incorporate smart, responsive technology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첨단자재와 시스템 사용으로 실시간 대응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건전한 환경 반영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(Reflect sound environmental practices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에너지소비감소와 폐기물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쓰레기 감소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주변 환경과 통합개발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(Be an integral part of sustainable community development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개별빌딩에서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ystem Block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개념으로 진입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248520" y="4560840"/>
          <a:ext cx="289548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560840"/>
                    <a:ext cx="289548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8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40F2-A146-4019-BEE0-38A6A7E10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래 전망과 비전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2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8080" y="5381640"/>
            <a:ext cx="76294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굴림"/>
              </a:rPr>
              <a:t>High-Performance Commercial Building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굴림"/>
              <a:ea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영업과 개발자에게 혜택보장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(Be recognized for their bottom line benefits to business and developers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생산성과 효율성 증가는 건물의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LCC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비용을 절감시켜 준다는데 대한 확신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개발자와 건물임대업자들의 인식과 새로운 수요 발생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단순하고 안전한 설계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(Be designed for simplicity and safety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건설과 유지보수에 편리한 설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건설기간 단축과 안전성을 전제로 한 설계 요구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840" y="152280"/>
            <a:ext cx="414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D71E-96E2-4F24-A9AE-F1AB3325C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목표 달성 전략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성능 측정방법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(Performance Metrics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기술개발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(Technology Development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Proces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의 변화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(Process Change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시장의 변환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(Market Transformation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624720" y="3048120"/>
          <a:ext cx="2367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4720" y="3048120"/>
                    <a:ext cx="2367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95200" y="152280"/>
            <a:ext cx="42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16EB-1890-4630-8F32-571325A2EE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ilestone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28400" y="2286000"/>
            <a:ext cx="1552680" cy="1885680"/>
            <a:chOff x="428400" y="2286000"/>
            <a:chExt cx="1552680" cy="1885680"/>
          </a:xfrm>
        </p:grpSpPr>
        <p:sp>
          <p:nvSpPr>
            <p:cNvPr id="326" name=""/>
            <p:cNvSpPr/>
            <p:nvPr/>
          </p:nvSpPr>
          <p:spPr>
            <a:xfrm>
              <a:off x="457200" y="2286000"/>
              <a:ext cx="152388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Times New Roman"/>
                  <a:ea typeface="신그래픽"/>
                </a:rPr>
                <a:t>2002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400" y="2654280"/>
              <a:ext cx="1484640" cy="15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Pilot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프로젝트 선정</a:t>
              </a:r>
              <a:br>
                <a:rPr sz="1200"/>
              </a:b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WBS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개념 도입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Pilot Project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에 은행</a:t>
              </a:r>
              <a:br>
                <a:rPr sz="1200"/>
              </a:b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융자 발생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HBR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에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Top News</a:t>
              </a:r>
              <a:br>
                <a:rPr sz="1200"/>
              </a:b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로 등장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105640" y="2286000"/>
            <a:ext cx="1551960" cy="1411200"/>
            <a:chOff x="2105640" y="2286000"/>
            <a:chExt cx="1551960" cy="1411200"/>
          </a:xfrm>
        </p:grpSpPr>
        <p:sp>
          <p:nvSpPr>
            <p:cNvPr id="329" name=""/>
            <p:cNvSpPr/>
            <p:nvPr/>
          </p:nvSpPr>
          <p:spPr>
            <a:xfrm>
              <a:off x="2133720" y="2286000"/>
              <a:ext cx="152388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Times New Roman"/>
                  <a:ea typeface="신그래픽"/>
                </a:rPr>
                <a:t>2003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05640" y="2654280"/>
              <a:ext cx="14482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Collaborative </a:t>
              </a: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설계</a:t>
              </a:r>
              <a:br>
                <a:rPr sz="1200"/>
              </a:b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절차 도입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5</a:t>
              </a: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개 도시 혹은 정부</a:t>
              </a:r>
              <a:br>
                <a:rPr sz="1200"/>
              </a:b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기관에서 </a:t>
              </a: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WBS</a:t>
              </a: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도입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780000" y="2286000"/>
            <a:ext cx="1571040" cy="1885680"/>
            <a:chOff x="3780000" y="2286000"/>
            <a:chExt cx="1571040" cy="1885680"/>
          </a:xfrm>
        </p:grpSpPr>
        <p:sp>
          <p:nvSpPr>
            <p:cNvPr id="332" name=""/>
            <p:cNvSpPr/>
            <p:nvPr/>
          </p:nvSpPr>
          <p:spPr>
            <a:xfrm>
              <a:off x="3809880" y="2286000"/>
              <a:ext cx="152424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Times New Roman"/>
                  <a:ea typeface="신그래픽"/>
                </a:rPr>
                <a:t>2005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80000" y="2654280"/>
              <a:ext cx="1571040" cy="15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최초 </a:t>
              </a: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WBS</a:t>
              </a: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를 </a:t>
              </a: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REIT</a:t>
              </a:r>
              <a:br>
                <a:rPr sz="1200"/>
              </a:b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</a:t>
              </a: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상품 등장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조달청</a:t>
              </a: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(GSA)</a:t>
              </a: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이 </a:t>
              </a: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WBS</a:t>
              </a:r>
              <a:br>
                <a:rPr sz="1200"/>
              </a:b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 </a:t>
              </a: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를 표준으로 채택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최초의 </a:t>
              </a: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WBS </a:t>
              </a:r>
              <a:r>
                <a:rPr b="1" lang="zh-CN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성능</a:t>
              </a:r>
              <a:br>
                <a:rPr sz="1200"/>
              </a:br>
              <a:r>
                <a:rPr b="1" lang="en-US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측정 지수 등장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86400" y="2286000"/>
            <a:ext cx="1523880" cy="1173960"/>
            <a:chOff x="5486400" y="2286000"/>
            <a:chExt cx="1523880" cy="1173960"/>
          </a:xfrm>
        </p:grpSpPr>
        <p:sp>
          <p:nvSpPr>
            <p:cNvPr id="335" name=""/>
            <p:cNvSpPr/>
            <p:nvPr/>
          </p:nvSpPr>
          <p:spPr>
            <a:xfrm>
              <a:off x="5486400" y="2286000"/>
              <a:ext cx="152388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Times New Roman"/>
                  <a:ea typeface="신그래픽"/>
                </a:rPr>
                <a:t>2010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0160" y="2654280"/>
              <a:ext cx="1213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신규 건물 및 리모델</a:t>
              </a:r>
              <a:br>
                <a:rPr sz="1200"/>
              </a:b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링 건물의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25%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가</a:t>
              </a:r>
              <a:br>
                <a:rPr sz="1200"/>
              </a:b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WBS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개념 도입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62920" y="2286000"/>
            <a:ext cx="1545840" cy="1173960"/>
            <a:chOff x="7162920" y="2286000"/>
            <a:chExt cx="1545840" cy="1173960"/>
          </a:xfrm>
        </p:grpSpPr>
        <p:sp>
          <p:nvSpPr>
            <p:cNvPr id="338" name=""/>
            <p:cNvSpPr/>
            <p:nvPr/>
          </p:nvSpPr>
          <p:spPr>
            <a:xfrm>
              <a:off x="7162920" y="2286000"/>
              <a:ext cx="1523880" cy="3049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Times New Roman"/>
                  <a:ea typeface="신그래픽"/>
                </a:rPr>
                <a:t>2020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10440" y="2654280"/>
              <a:ext cx="14983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신규 건물 및 리모델링</a:t>
              </a:r>
              <a:br>
                <a:rPr sz="1200"/>
              </a:b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건물의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70%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가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WBS</a:t>
              </a:r>
              <a:br>
                <a:rPr sz="1200"/>
              </a:b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   </a:t>
              </a:r>
              <a:r>
                <a:rPr b="1" lang="ko-KR" sz="12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개념 도입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948640" y="6124680"/>
            <a:ext cx="30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-WBS, Whole Building Syste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-HBR, Harvard Business Revie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23960" y="4876920"/>
            <a:ext cx="78105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굴림"/>
              </a:rPr>
              <a:t>예측가능한 </a:t>
            </a:r>
            <a:r>
              <a:rPr b="1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굴림"/>
              </a:rPr>
              <a:t>2020</a:t>
            </a:r>
            <a:r>
              <a:rPr b="1" lang="zh-CN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굴림"/>
              </a:rPr>
              <a:t>년 업무용 빌딩의 모습 </a:t>
            </a: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굴림"/>
              </a:rPr>
              <a:t>?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굴림"/>
              <a:ea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295200" y="152280"/>
            <a:ext cx="42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업무용 빌딩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D6BC-ECE4-44B4-AE02-79953FBAE7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래의 새로운 요구 추정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581280" y="5334120"/>
            <a:ext cx="4419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굴림"/>
              </a:rPr>
              <a:t>기술진로 개발의 핵심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굴림"/>
              <a:ea typeface="굴림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미래의 공공시설이 요구하는 새로운 요구사항은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세기의 요구가 지속 가능한 가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미래 공공시설에 우리가 요구하는 것이 무엇인가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있다면 어떻게 달성할 것 인가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다음 수 십 년간 우리가 어떻게 기술개발과 적용의 속도를 높일 수 있는가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5121-AF62-4140-A233-2892F49486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차세대 교통시스템의 이상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371600" y="2362320"/>
            <a:ext cx="651528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"Moving Anyone and Anything,</a:t>
            </a:r>
            <a:endParaRPr b="1" i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i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Anywhere, Anytime, </a:t>
            </a:r>
            <a:endParaRPr b="1" i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On Time !"</a:t>
            </a:r>
            <a:endParaRPr b="1" i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85720" y="48560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바탕체"/>
                <a:ea typeface="바탕체"/>
              </a:rPr>
              <a:t>“</a:t>
            </a:r>
            <a:r>
              <a:rPr b="1" i="1" lang="zh-CN" sz="1800" spc="-1" strike="noStrike">
                <a:solidFill>
                  <a:srgbClr val="ffffcc"/>
                </a:solidFill>
                <a:latin typeface="바탕체"/>
                <a:ea typeface="바탕체"/>
              </a:rPr>
              <a:t>사람이든 상품이든 언제</a:t>
            </a:r>
            <a:r>
              <a:rPr b="1" i="1" lang="en-US" sz="1800" spc="-1" strike="noStrike">
                <a:solidFill>
                  <a:srgbClr val="ffffcc"/>
                </a:solidFill>
                <a:latin typeface="바탕체"/>
                <a:ea typeface="바탕체"/>
              </a:rPr>
              <a:t>, </a:t>
            </a:r>
            <a:r>
              <a:rPr b="1" i="1" lang="zh-CN" sz="1800" spc="-1" strike="noStrike">
                <a:solidFill>
                  <a:srgbClr val="ffffcc"/>
                </a:solidFill>
                <a:latin typeface="바탕체"/>
                <a:ea typeface="바탕체"/>
              </a:rPr>
              <a:t>어디서나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cc"/>
                </a:solidFill>
                <a:latin typeface="바탕체"/>
                <a:ea typeface="바탕체"/>
              </a:rPr>
              <a:t>정해진 시간이내에 이동이 가능해야 한다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F5B1-18A3-4643-AD70-B88D9803AA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래 교통수단의 핵심 경쟁력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58920" y="2436840"/>
            <a:ext cx="6811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바탕체"/>
                <a:ea typeface="바탕체"/>
              </a:rPr>
              <a:t>미래는 이동성</a:t>
            </a:r>
            <a:r>
              <a:rPr b="1" lang="en-US" sz="3200" spc="-1" strike="noStrike">
                <a:solidFill>
                  <a:srgbClr val="ffffcc"/>
                </a:solidFill>
                <a:latin typeface="바탕체"/>
                <a:ea typeface="바탕체"/>
              </a:rPr>
              <a:t>(Mobility)</a:t>
            </a:r>
            <a:r>
              <a:rPr b="1" lang="zh-CN" sz="3200" spc="-1" strike="noStrike">
                <a:solidFill>
                  <a:srgbClr val="ffffcc"/>
                </a:solidFill>
                <a:latin typeface="바탕체"/>
                <a:ea typeface="바탕체"/>
              </a:rPr>
              <a:t>에 달려있다 …</a:t>
            </a:r>
            <a:r>
              <a:rPr b="1" lang="en-US" sz="3200" spc="-1" strike="noStrike">
                <a:solidFill>
                  <a:srgbClr val="ffffcc"/>
                </a:solidFill>
                <a:latin typeface="바탕체"/>
                <a:ea typeface="바탕체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cc"/>
                </a:solidFill>
                <a:latin typeface="바탕체"/>
                <a:ea typeface="바탕체"/>
              </a:rPr>
              <a:t>사람</a:t>
            </a:r>
            <a:r>
              <a:rPr b="1" i="1" lang="en-US" sz="2800" spc="-1" strike="noStrike">
                <a:solidFill>
                  <a:srgbClr val="ffffcc"/>
                </a:solidFill>
                <a:latin typeface="바탕체"/>
                <a:ea typeface="바탕체"/>
              </a:rPr>
              <a:t>, </a:t>
            </a:r>
            <a:r>
              <a:rPr b="1" i="1" lang="zh-CN" sz="2800" spc="-1" strike="noStrike">
                <a:solidFill>
                  <a:srgbClr val="ffffcc"/>
                </a:solidFill>
                <a:latin typeface="바탕체"/>
                <a:ea typeface="바탕체"/>
              </a:rPr>
              <a:t>상품</a:t>
            </a:r>
            <a:r>
              <a:rPr b="1" i="1" lang="en-US" sz="2800" spc="-1" strike="noStrike">
                <a:solidFill>
                  <a:srgbClr val="ffffcc"/>
                </a:solidFill>
                <a:latin typeface="바탕체"/>
                <a:ea typeface="바탕체"/>
              </a:rPr>
              <a:t>, </a:t>
            </a:r>
            <a:r>
              <a:rPr b="1" i="1" lang="zh-CN" sz="2800" spc="-1" strike="noStrike">
                <a:solidFill>
                  <a:srgbClr val="ffffcc"/>
                </a:solidFill>
                <a:latin typeface="바탕체"/>
                <a:ea typeface="바탕체"/>
              </a:rPr>
              <a:t>그리고 아이디어 </a:t>
            </a:r>
            <a:r>
              <a:rPr b="1" i="1" lang="en-US" sz="2800" spc="-1" strike="noStrike">
                <a:solidFill>
                  <a:srgbClr val="ffffcc"/>
                </a:solidFill>
                <a:latin typeface="바탕체"/>
                <a:ea typeface="바탕체"/>
              </a:rPr>
              <a:t>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56360" y="4130640"/>
            <a:ext cx="2737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신그래픽"/>
                <a:ea typeface="신그래픽"/>
              </a:rPr>
              <a:t>어떻게 갖출 것인가 </a:t>
            </a:r>
            <a:r>
              <a:rPr b="1" lang="en-US" sz="3200" spc="-1" strike="noStrike">
                <a:solidFill>
                  <a:srgbClr val="ffffcc"/>
                </a:solidFill>
                <a:latin typeface="신그래픽"/>
                <a:ea typeface="신그래픽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신그래픽"/>
                <a:ea typeface="신그래픽"/>
              </a:rPr>
              <a:t>(</a:t>
            </a:r>
            <a:r>
              <a:rPr b="1" i="1" lang="zh-CN" sz="2000" spc="-1" strike="noStrike">
                <a:solidFill>
                  <a:srgbClr val="ffffcc"/>
                </a:solidFill>
                <a:latin typeface="신그래픽"/>
                <a:ea typeface="신그래픽"/>
              </a:rPr>
              <a:t>국가의 책임</a:t>
            </a:r>
            <a:r>
              <a:rPr b="1" i="1" lang="en-US" sz="2000" spc="-1" strike="noStrike">
                <a:solidFill>
                  <a:srgbClr val="ffffcc"/>
                </a:solidFill>
                <a:latin typeface="신그래픽"/>
                <a:ea typeface="신그래픽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28FE-66F8-47BF-A3CA-DE1C7E7906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비전 수립의 대상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219320" y="2057400"/>
            <a:ext cx="3047760" cy="2971800"/>
            <a:chOff x="1219320" y="2057400"/>
            <a:chExt cx="3047760" cy="2971800"/>
          </a:xfrm>
        </p:grpSpPr>
        <p:sp>
          <p:nvSpPr>
            <p:cNvPr id="357" name=""/>
            <p:cNvSpPr/>
            <p:nvPr/>
          </p:nvSpPr>
          <p:spPr>
            <a:xfrm>
              <a:off x="1600200" y="2590920"/>
              <a:ext cx="1371600" cy="1371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66880" y="2590920"/>
              <a:ext cx="1371600" cy="1371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28800" y="3352680"/>
              <a:ext cx="1371600" cy="137160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78720" y="4114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교통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07920" y="2666880"/>
              <a:ext cx="781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Inf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Tech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73240" y="2666880"/>
              <a:ext cx="781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  <a:ea typeface="신그래픽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Tech.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19320" y="2057400"/>
              <a:ext cx="3047760" cy="2971800"/>
            </a:xfrm>
            <a:prstGeom prst="ellipse">
              <a:avLst/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742480" y="3962520"/>
            <a:ext cx="3164400" cy="1294560"/>
            <a:chOff x="2742480" y="3962520"/>
            <a:chExt cx="3164400" cy="1294560"/>
          </a:xfrm>
        </p:grpSpPr>
        <p:sp>
          <p:nvSpPr>
            <p:cNvPr id="365" name=""/>
            <p:cNvSpPr/>
            <p:nvPr/>
          </p:nvSpPr>
          <p:spPr>
            <a:xfrm>
              <a:off x="4420080" y="3962520"/>
              <a:ext cx="14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  <a:ea typeface="신그래픽"/>
                </a:rPr>
                <a:t>Mobil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66" name=""/>
            <p:cNvCxnSpPr>
              <a:stCxn id="365" idx="1"/>
              <a:endCxn id="363" idx="4"/>
            </p:cNvCxnSpPr>
            <p:nvPr/>
          </p:nvCxnSpPr>
          <p:spPr>
            <a:xfrm flipV="1" rot="10800000">
              <a:off x="2742480" y="4221720"/>
              <a:ext cx="1677240" cy="826200"/>
            </a:xfrm>
            <a:prstGeom prst="curvedConnector5">
              <a:avLst>
                <a:gd name="adj1" fmla="val 4529"/>
                <a:gd name="adj2" fmla="val 62685"/>
                <a:gd name="adj3" fmla="val 4529"/>
              </a:avLst>
            </a:prstGeom>
            <a:ln w="28440">
              <a:solidFill>
                <a:srgbClr val="ffffcc"/>
              </a:solidFill>
              <a:prstDash val="dashDot"/>
              <a:miter/>
              <a:tailEnd len="med" type="triangle" w="med"/>
            </a:ln>
          </p:spPr>
        </p:cxnSp>
      </p:grpSp>
      <p:grpSp>
        <p:nvGrpSpPr>
          <p:cNvPr id="367" name=""/>
          <p:cNvGrpSpPr/>
          <p:nvPr/>
        </p:nvGrpSpPr>
        <p:grpSpPr>
          <a:xfrm>
            <a:off x="5491440" y="2451240"/>
            <a:ext cx="2845800" cy="1771560"/>
            <a:chOff x="5491440" y="2451240"/>
            <a:chExt cx="2845800" cy="1771560"/>
          </a:xfrm>
        </p:grpSpPr>
        <p:sp>
          <p:nvSpPr>
            <p:cNvPr id="368" name=""/>
            <p:cNvSpPr/>
            <p:nvPr/>
          </p:nvSpPr>
          <p:spPr>
            <a:xfrm>
              <a:off x="5491440" y="2451240"/>
              <a:ext cx="28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cc"/>
                  </a:solidFill>
                  <a:latin typeface="견명조"/>
                  <a:ea typeface="견명조"/>
                </a:rPr>
                <a:t>사람과 상품</a:t>
              </a:r>
              <a:r>
                <a:rPr b="1" lang="en-US" sz="2400" spc="-1" strike="noStrike">
                  <a:solidFill>
                    <a:srgbClr val="ffffcc"/>
                  </a:solidFill>
                  <a:latin typeface="견명조"/>
                  <a:ea typeface="견명조"/>
                </a:rPr>
                <a:t>, </a:t>
              </a:r>
              <a:r>
                <a:rPr b="1" lang="zh-CN" sz="2400" spc="-1" strike="noStrike">
                  <a:solidFill>
                    <a:srgbClr val="ffffcc"/>
                  </a:solidFill>
                  <a:latin typeface="견명조"/>
                  <a:ea typeface="견명조"/>
                </a:rPr>
                <a:t>그리고 아이디어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69" name=""/>
            <p:cNvCxnSpPr>
              <a:stCxn id="368" idx="2"/>
              <a:endCxn id="365" idx="3"/>
            </p:cNvCxnSpPr>
            <p:nvPr/>
          </p:nvCxnSpPr>
          <p:spPr>
            <a:xfrm rot="5400000">
              <a:off x="5753520" y="3061440"/>
              <a:ext cx="1315080" cy="1008720"/>
            </a:xfrm>
            <a:prstGeom prst="curvedConnector2">
              <a:avLst/>
            </a:prstGeom>
            <a:ln w="38160">
              <a:solidFill>
                <a:srgbClr val="ff99ff"/>
              </a:solidFill>
              <a:prstDash val="sysDot"/>
              <a:miter/>
              <a:headEnd len="med" type="triangle" w="med"/>
            </a:ln>
          </p:spPr>
        </p:cxnSp>
      </p:grpSp>
      <p:sp>
        <p:nvSpPr>
          <p:cNvPr id="370" name=""/>
          <p:cNvSpPr/>
          <p:nvPr/>
        </p:nvSpPr>
        <p:spPr>
          <a:xfrm>
            <a:off x="5446080" y="536256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cc"/>
                </a:solidFill>
                <a:latin typeface="견명조"/>
                <a:ea typeface="견명조"/>
              </a:rPr>
              <a:t>X-tech.</a:t>
            </a:r>
            <a:r>
              <a:rPr b="1" lang="ko-KR" sz="1600" spc="-1" strike="noStrike">
                <a:solidFill>
                  <a:srgbClr val="ffffcc"/>
                </a:solidFill>
                <a:latin typeface="견명조"/>
                <a:ea typeface="견명조"/>
              </a:rPr>
              <a:t>는 현재로서는 초극정밀기술과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cc"/>
                </a:solidFill>
                <a:latin typeface="견명조"/>
                <a:ea typeface="견명조"/>
              </a:rPr>
              <a:t>생명공학기술을 말함</a:t>
            </a:r>
            <a:r>
              <a:rPr b="1" lang="ko-KR" sz="1600" spc="-1" strike="noStrike">
                <a:solidFill>
                  <a:srgbClr val="ffffcc"/>
                </a:solidFill>
                <a:latin typeface="견명조"/>
                <a:ea typeface="견명조"/>
              </a:rPr>
              <a:t>(Nano &amp; Bio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1CAA-71E6-4289-9530-DC19446C41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cc66"/>
                </a:solidFill>
                <a:latin typeface="Times New Roman"/>
              </a:rPr>
              <a:t>2025</a:t>
            </a:r>
            <a:r>
              <a:rPr b="1" i="1" lang="zh-CN" sz="3400" spc="-1" strike="noStrike">
                <a:solidFill>
                  <a:srgbClr val="ffcc66"/>
                </a:solidFill>
                <a:latin typeface="Times New Roman"/>
              </a:rPr>
              <a:t>년까지  교통수요의 변화 추세</a:t>
            </a:r>
            <a:r>
              <a:rPr b="1" i="1" lang="en-US" sz="3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i="1" lang="zh-CN" sz="3400" spc="-1" strike="noStrike">
                <a:solidFill>
                  <a:srgbClr val="ffcc66"/>
                </a:solidFill>
                <a:latin typeface="Times New Roman"/>
              </a:rPr>
              <a:t>세계</a:t>
            </a:r>
            <a:endParaRPr b="1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세계 인구는 약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40%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증가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인구의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60%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이상이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만명 이상의 대도시에 거주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선진국 인구의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20%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이상이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65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세 이상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전세계 차량 대수가 현재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억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천만에서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억대로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국내외 해상 무역이 현재보다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배 이상 증가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항공기 승객은 현재보다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배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항공화물은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배 증가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5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1EE8-75AB-49C4-A019-7BF91255F7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세계건설산업의 새로운 추세</a:t>
            </a:r>
            <a:br>
              <a:rPr sz="3600"/>
            </a:b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(Global Trend) - 1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세계건설산업의 변화 전망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미국을 중심으로 한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OECD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가입국 팀 구성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2020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년까지를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Time Horizone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으로 설정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전망에 대응하는 중장기 국가의 건설산업 정책 수립이 주 목적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시장의 변화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(Market Globalization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국내시장만을 위한 차별성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특수성 불인정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국가간의 장벽 붕괴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국내외 콘소시움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/JV 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증가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국내외 공동투자 활발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BOT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사업 활성화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환경보존과 보호에 대한 기준 엄격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원가상승의 요인으로 작용 함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F1E1-23B9-4FF0-B6AE-AEE8CA4895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2020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년까지 고속도로 통행량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차량 대수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년간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1.8%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씩 증가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2020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년도에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조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천억대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년간 통과 차량 대수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2020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년까지 에너지 소비량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현재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24 Quadrillion Btu 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에서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35 Quadrillion Btu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로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2020</a:t>
            </a: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년도 탄산가스배출량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억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천만 톤에서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억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천만 톤으로 증가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치명적인 교통사고 발생율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1966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년 이후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년 동안 년간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3.8%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씩 감소해 옴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cc66"/>
                </a:solidFill>
                <a:latin typeface="Times New Roman"/>
              </a:rPr>
              <a:t>2025</a:t>
            </a:r>
            <a:r>
              <a:rPr b="1" i="1" lang="zh-CN" sz="3400" spc="-1" strike="noStrike">
                <a:solidFill>
                  <a:srgbClr val="ffcc66"/>
                </a:solidFill>
                <a:latin typeface="Times New Roman"/>
              </a:rPr>
              <a:t>년까지  교통수요의 변화 추세</a:t>
            </a:r>
            <a:r>
              <a:rPr b="1" i="1" lang="en-US" sz="3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i="1" lang="zh-CN" sz="3400" spc="-1" strike="noStrike">
                <a:solidFill>
                  <a:srgbClr val="ffcc66"/>
                </a:solidFill>
                <a:latin typeface="Times New Roman"/>
              </a:rPr>
              <a:t>미국</a:t>
            </a:r>
            <a:endParaRPr b="1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A1BA-BF7A-47C6-8C13-3F2B2858A6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2020</a:t>
            </a: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년 세계교통량 추정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57920" y="3873600"/>
            <a:ext cx="1116720" cy="1917720"/>
            <a:chOff x="457920" y="3873600"/>
            <a:chExt cx="1116720" cy="1917720"/>
          </a:xfrm>
        </p:grpSpPr>
        <p:grpSp>
          <p:nvGrpSpPr>
            <p:cNvPr id="380" name=""/>
            <p:cNvGrpSpPr/>
            <p:nvPr/>
          </p:nvGrpSpPr>
          <p:grpSpPr>
            <a:xfrm>
              <a:off x="457920" y="3873600"/>
              <a:ext cx="924840" cy="1280880"/>
              <a:chOff x="457920" y="3873600"/>
              <a:chExt cx="924840" cy="1280880"/>
            </a:xfrm>
          </p:grpSpPr>
          <p:sp>
            <p:nvSpPr>
              <p:cNvPr id="381" name=""/>
              <p:cNvSpPr/>
              <p:nvPr/>
            </p:nvSpPr>
            <p:spPr>
              <a:xfrm>
                <a:off x="750960" y="4471920"/>
                <a:ext cx="631800" cy="682560"/>
              </a:xfrm>
              <a:prstGeom prst="rect">
                <a:avLst/>
              </a:prstGeom>
              <a:solidFill>
                <a:srgbClr val="004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2400" y="4473720"/>
                <a:ext cx="628560" cy="679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19280" y="4813200"/>
                <a:ext cx="31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50960" y="4183200"/>
                <a:ext cx="631800" cy="290520"/>
              </a:xfrm>
              <a:prstGeom prst="rect">
                <a:avLst/>
              </a:prstGeom>
              <a:solidFill>
                <a:srgbClr val="bf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2400" y="4184640"/>
                <a:ext cx="628560" cy="2858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719280" y="4327560"/>
                <a:ext cx="31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0960" y="3929040"/>
                <a:ext cx="631800" cy="25416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2400" y="3930480"/>
                <a:ext cx="628560" cy="250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19280" y="4056120"/>
                <a:ext cx="31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0960" y="3892680"/>
                <a:ext cx="631800" cy="363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2400" y="3894120"/>
                <a:ext cx="628560" cy="33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19280" y="3909960"/>
                <a:ext cx="31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7920" y="4776840"/>
                <a:ext cx="250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cc"/>
                    </a:solidFill>
                    <a:latin typeface="Arial"/>
                  </a:rPr>
                  <a:t>54.0%</a:t>
                </a:r>
                <a:endParaRPr b="0" lang="en-US" sz="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7920" y="4290840"/>
                <a:ext cx="250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cc"/>
                    </a:solidFill>
                    <a:latin typeface="Arial"/>
                  </a:rPr>
                  <a:t>23.0%</a:t>
                </a:r>
                <a:endParaRPr b="0" lang="en-US" sz="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7920" y="4019400"/>
                <a:ext cx="2505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cc"/>
                    </a:solidFill>
                    <a:latin typeface="Arial"/>
                  </a:rPr>
                  <a:t>20.0%</a:t>
                </a:r>
                <a:endParaRPr b="0" lang="en-US" sz="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2480" y="3873600"/>
                <a:ext cx="201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ffcc"/>
                    </a:solidFill>
                    <a:latin typeface="Arial"/>
                  </a:rPr>
                  <a:t>3.0%</a:t>
                </a:r>
                <a:endParaRPr b="0" lang="en-US" sz="7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507960" y="5334120"/>
              <a:ext cx="106668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55</a:t>
              </a: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조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PKM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1960</a:t>
              </a: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년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815480" y="3268800"/>
            <a:ext cx="1308600" cy="2522520"/>
            <a:chOff x="1815480" y="3268800"/>
            <a:chExt cx="1308600" cy="2522520"/>
          </a:xfrm>
        </p:grpSpPr>
        <p:grpSp>
          <p:nvGrpSpPr>
            <p:cNvPr id="399" name=""/>
            <p:cNvGrpSpPr/>
            <p:nvPr/>
          </p:nvGrpSpPr>
          <p:grpSpPr>
            <a:xfrm>
              <a:off x="1815480" y="3268800"/>
              <a:ext cx="1170720" cy="1896840"/>
              <a:chOff x="1815480" y="3268800"/>
              <a:chExt cx="1170720" cy="1896840"/>
            </a:xfrm>
          </p:grpSpPr>
          <p:sp>
            <p:nvSpPr>
              <p:cNvPr id="400" name=""/>
              <p:cNvSpPr/>
              <p:nvPr/>
            </p:nvSpPr>
            <p:spPr>
              <a:xfrm>
                <a:off x="2208240" y="4160880"/>
                <a:ext cx="777960" cy="1004760"/>
              </a:xfrm>
              <a:prstGeom prst="rect">
                <a:avLst/>
              </a:prstGeom>
              <a:solidFill>
                <a:srgbClr val="004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09680" y="4162320"/>
                <a:ext cx="774720" cy="1001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2170080" y="46623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08240" y="3610080"/>
                <a:ext cx="777960" cy="550800"/>
              </a:xfrm>
              <a:prstGeom prst="rect">
                <a:avLst/>
              </a:prstGeom>
              <a:solidFill>
                <a:srgbClr val="bf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09680" y="3611520"/>
                <a:ext cx="774720" cy="54756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2170080" y="38847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08240" y="3438360"/>
                <a:ext cx="777960" cy="17172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09680" y="3440160"/>
                <a:ext cx="774720" cy="1681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170080" y="35244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08240" y="3268800"/>
                <a:ext cx="777960" cy="1713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209680" y="3270240"/>
                <a:ext cx="774720" cy="166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2170080" y="33544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15480" y="461016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</a:rPr>
                  <a:t>53.0%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815480" y="383076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</a:rPr>
                  <a:t>29.0%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78840" y="3470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</a:rPr>
                  <a:t>9.0%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878840" y="330048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</a:rPr>
                  <a:t>9.0%</a:t>
                </a:r>
                <a:endParaRPr b="0" lang="en-US" sz="1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057400" y="5334120"/>
              <a:ext cx="106668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234</a:t>
              </a: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조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PKM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1990</a:t>
              </a: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년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650400" y="2746440"/>
            <a:ext cx="1531080" cy="3044880"/>
            <a:chOff x="3650400" y="2746440"/>
            <a:chExt cx="1531080" cy="3044880"/>
          </a:xfrm>
        </p:grpSpPr>
        <p:grpSp>
          <p:nvGrpSpPr>
            <p:cNvPr id="418" name=""/>
            <p:cNvGrpSpPr/>
            <p:nvPr/>
          </p:nvGrpSpPr>
          <p:grpSpPr>
            <a:xfrm>
              <a:off x="3650400" y="2746440"/>
              <a:ext cx="1472400" cy="2408040"/>
              <a:chOff x="3650400" y="2746440"/>
              <a:chExt cx="1472400" cy="2408040"/>
            </a:xfrm>
          </p:grpSpPr>
          <p:sp>
            <p:nvSpPr>
              <p:cNvPr id="419" name=""/>
              <p:cNvSpPr/>
              <p:nvPr/>
            </p:nvSpPr>
            <p:spPr>
              <a:xfrm>
                <a:off x="4122720" y="4119480"/>
                <a:ext cx="1000080" cy="1035000"/>
              </a:xfrm>
              <a:prstGeom prst="rect">
                <a:avLst/>
              </a:prstGeom>
              <a:solidFill>
                <a:srgbClr val="004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25960" y="4122720"/>
                <a:ext cx="992160" cy="1028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4073040" y="46371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22720" y="3494160"/>
                <a:ext cx="1000080" cy="625320"/>
              </a:xfrm>
              <a:prstGeom prst="rect">
                <a:avLst/>
              </a:prstGeom>
              <a:solidFill>
                <a:srgbClr val="bf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25960" y="3497400"/>
                <a:ext cx="992160" cy="6188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4073040" y="380700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22720" y="3349800"/>
                <a:ext cx="1000080" cy="14436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25960" y="3352680"/>
                <a:ext cx="992160" cy="1382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4073040" y="342108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122720" y="2746440"/>
                <a:ext cx="1000080" cy="6033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25960" y="2749680"/>
                <a:ext cx="992160" cy="5968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4073040" y="30481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650400" y="45687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cc"/>
                    </a:solidFill>
                    <a:latin typeface="Arial"/>
                  </a:rPr>
                  <a:t>43.0%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50400" y="373860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cc"/>
                    </a:solidFill>
                    <a:latin typeface="Arial"/>
                  </a:rPr>
                  <a:t>26.0%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35360" y="3352680"/>
                <a:ext cx="34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cc"/>
                    </a:solidFill>
                    <a:latin typeface="Arial"/>
                  </a:rPr>
                  <a:t>6.0%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50400" y="297972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cc"/>
                    </a:solidFill>
                    <a:latin typeface="Arial"/>
                  </a:rPr>
                  <a:t>25.0%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114800" y="5334120"/>
              <a:ext cx="106668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530</a:t>
              </a: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조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PKM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2020</a:t>
              </a: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년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749920" y="1784520"/>
            <a:ext cx="3069000" cy="4006800"/>
            <a:chOff x="5749920" y="1784520"/>
            <a:chExt cx="3069000" cy="4006800"/>
          </a:xfrm>
        </p:grpSpPr>
        <p:grpSp>
          <p:nvGrpSpPr>
            <p:cNvPr id="437" name=""/>
            <p:cNvGrpSpPr/>
            <p:nvPr/>
          </p:nvGrpSpPr>
          <p:grpSpPr>
            <a:xfrm>
              <a:off x="5749920" y="1784520"/>
              <a:ext cx="3069000" cy="3396960"/>
              <a:chOff x="5749920" y="1784520"/>
              <a:chExt cx="3069000" cy="3396960"/>
            </a:xfrm>
          </p:grpSpPr>
          <p:sp>
            <p:nvSpPr>
              <p:cNvPr id="438" name=""/>
              <p:cNvSpPr/>
              <p:nvPr/>
            </p:nvSpPr>
            <p:spPr>
              <a:xfrm>
                <a:off x="6357960" y="3992400"/>
                <a:ext cx="1698480" cy="1189080"/>
              </a:xfrm>
              <a:prstGeom prst="rect">
                <a:avLst/>
              </a:prstGeom>
              <a:solidFill>
                <a:srgbClr val="004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62640" y="3997440"/>
                <a:ext cx="1687680" cy="1177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273720" y="4586400"/>
                <a:ext cx="84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57960" y="3313080"/>
                <a:ext cx="1698480" cy="679320"/>
              </a:xfrm>
              <a:prstGeom prst="rect">
                <a:avLst/>
              </a:prstGeom>
              <a:solidFill>
                <a:srgbClr val="bf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62640" y="3317760"/>
                <a:ext cx="1687680" cy="66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273720" y="3652920"/>
                <a:ext cx="84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57960" y="3178080"/>
                <a:ext cx="1698480" cy="13500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62640" y="3182760"/>
                <a:ext cx="1687680" cy="12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273720" y="3244680"/>
                <a:ext cx="84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57960" y="1784520"/>
                <a:ext cx="1698480" cy="1393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62640" y="1789200"/>
                <a:ext cx="1687680" cy="138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273720" y="2481120"/>
                <a:ext cx="84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796000" y="4489560"/>
                <a:ext cx="50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35.0%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49920" y="3556080"/>
                <a:ext cx="50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20.0%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48560" y="314964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4.0%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49920" y="2384280"/>
                <a:ext cx="50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41.0%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211600" y="225576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cc"/>
                    </a:solidFill>
                    <a:latin typeface="Times New Roman"/>
                    <a:ea typeface="신그래픽"/>
                  </a:rPr>
                  <a:t>고속열차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318160" y="3073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cc"/>
                    </a:solidFill>
                    <a:latin typeface="Times New Roman"/>
                    <a:ea typeface="신그래픽"/>
                  </a:rPr>
                  <a:t>철도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318160" y="3479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cc"/>
                    </a:solidFill>
                    <a:latin typeface="Times New Roman"/>
                    <a:ea typeface="신그래픽"/>
                  </a:rPr>
                  <a:t>버스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264880" y="441972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cc"/>
                    </a:solidFill>
                    <a:latin typeface="Times New Roman"/>
                    <a:ea typeface="신그래픽"/>
                  </a:rPr>
                  <a:t>승용차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6477120" y="5334120"/>
              <a:ext cx="1523880" cy="457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1,030</a:t>
              </a: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조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PKM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2050</a:t>
              </a:r>
              <a:r>
                <a:rPr b="1" lang="zh-CN" sz="15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년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55160" y="190512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PKM, passenger-kilome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8400-CDFC-402C-AA3F-6F78036C01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국가 교통시스템의 개선과 기회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개선되어야 할 숙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인명과 사회비용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사고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상해 등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세계인구의 폭발 및 밀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노령화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무역거래와 관광객 증가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세계화와 경쟁력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환경 보존과 보호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테러 위험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선진화된 기술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대규모 사회간접시설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개선후의 기회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교통관련 사망과 사고 제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모든 미국인들에게 접근성과 이동성을 부여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여행 시간 및 비용 절감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전천후로 사람과 물류 이동성 증가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소음과 배출량 제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안전도 향상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첨단 기술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정보 및 나노 기술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8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A2A8-DE89-4E8F-818C-1211480966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cc66"/>
                </a:solidFill>
                <a:latin typeface="Times New Roman"/>
              </a:rPr>
              <a:t>차세대 교통시스템 비전에 포함될 내용</a:t>
            </a:r>
            <a:endParaRPr b="1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미래 국가에 요구되는 교통시스템의 역할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경제와 보안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삶의 질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교통부문에서의 변화 추세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무엇이 문제인가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어디로 갈 것인가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목표 제시 및 달성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cc"/>
                </a:solidFill>
                <a:latin typeface="Times New Roman"/>
              </a:rPr>
              <a:t>목표달성을 위한 혁신적인 기술과 개념을 도출시킴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연구와 교육에 관한 요구 사항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참여 주체의 역할 분담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정부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산업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학계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장애 요소들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Barriers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규범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법과 제도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문화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정책과 정치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기술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세계화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920" y="152280"/>
            <a:ext cx="372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DF2A-DB35-435E-A705-D1F3DFB373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고속도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64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만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km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의 공공도로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백만대의 차량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조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천억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assenger k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5,776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om km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의 화물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8,7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조의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TU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에너지 소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도시철도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(Mass Transit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508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개의 사업자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20,0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대의 차량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66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assenger k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2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조의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TU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에너지 소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국의 교통시스템 현황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1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7280" y="152280"/>
            <a:ext cx="38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90C6-2F21-4AF8-924C-2521422E7D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국의 교통시스템 현황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2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철도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총연장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=280,000k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assenger k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21,54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on km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화물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5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조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TU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에너지 소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항공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5,4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개 민간 공항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94,0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대의 항공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71,2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assenger km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21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on km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화물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,9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조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TU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에너지 소모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해운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내륙 및 해양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40,000km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의 수로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백만대의 선박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3,900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개의 부두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12,160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억 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ton km 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화물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1,350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조 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BTU 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에너지 소비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배관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(Pipelines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260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만 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km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9,920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억 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ton km 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유류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5,620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억 입방미티의 가스 운반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21</a:t>
            </a:r>
            <a:r>
              <a:rPr b="1" lang="ko-KR" sz="1800" spc="-1" strike="noStrike">
                <a:solidFill>
                  <a:srgbClr val="ffffcc"/>
                </a:solidFill>
                <a:latin typeface="Times New Roman"/>
              </a:rPr>
              <a:t>백만 입방미터의 천연가스 소비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7280" y="152280"/>
            <a:ext cx="38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61B9-ADF4-44A8-9F06-85AA138760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국 교통시스템의 현안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1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안전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(Safety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치명적인 도로 교통사고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년간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41,500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건 발생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350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만 명 부상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년간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백만 건의 충돌 사고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,65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불의 년간 치료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각종 사고의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70-90%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가 사람의 실수에 의해 발생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이동성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(Mobility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주요 교량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28,0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개 중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¼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이 부실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혼잡으로 인한 운전자 손실 비용이 년간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51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불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항공기 지연으로 인한 연간 손실비용이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억불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미국 내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개 주요공항에서 년간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시간 이상 지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미국 항만의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40%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가 육지로부터 접근이 어렵다는 것으로 보고됨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7280" y="152280"/>
            <a:ext cx="38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5DD5-0BD8-47CF-B2A4-6563CF9F18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경제성장과 무역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Economic Growth and Trade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세계항공시장에서 미국  항공사의 시장 점유율 하락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미국의 자동차산업은 국제경쟁 및 환경에 대한 압력을 받고 있음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미 항만산업은 늘어나는 수요에 비해 용량 미달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미국 지능형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(ITS)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체계 산업은 실용면에서 한계에 직면하고 있음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인간과 자연환경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이산화탄소의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/3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을 배출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교통이 가장 빨리 성장하는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reenhouse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가스의 공급원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교통이 미국 석유의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2/3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를 소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늘어나는 교통기반시설이 국토를 타 목적으로 활용하는 것과 이해 상충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공항 확장과 소음공해의 대치 상태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국 교통시스템의 현안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2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7280" y="152280"/>
            <a:ext cx="38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9AFC-C5B1-4937-BF5D-0561BD6D9F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안전과 안보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(Security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GPS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와 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IT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에 의존하는 현행 교통시스템은 사이버 테러에 노출되어 있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교통시스템은 화학 및 생화학무기의 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차 공격 대상임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통합교통센타와 교통 수단간 연계는 노출의 핵심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경제의 세계화는 노출을 더욱 확산시킴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국 교통시스템의 현안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3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7280" y="152280"/>
            <a:ext cx="38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E883-EAF8-4159-A96C-9570C66747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연방정부의 연구개발 기획 절차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중장기 전망과 수요 추정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사용자의 요구 파악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혁신시스템 개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더 싸기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빠르게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국제수준의 연구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인적자원개발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연구소요 자금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정부기금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세계시장 수요를 통해 가시화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철저한 검증과 평가시스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029200" y="2133720"/>
            <a:ext cx="3505320" cy="3340800"/>
            <a:chOff x="5029200" y="2133720"/>
            <a:chExt cx="3505320" cy="3340800"/>
          </a:xfrm>
        </p:grpSpPr>
        <p:sp>
          <p:nvSpPr>
            <p:cNvPr id="490" name=""/>
            <p:cNvSpPr/>
            <p:nvPr/>
          </p:nvSpPr>
          <p:spPr>
            <a:xfrm>
              <a:off x="6248520" y="2133720"/>
              <a:ext cx="761760" cy="7621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94360" y="2971800"/>
              <a:ext cx="1295280" cy="6098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144" y="0"/>
                  </a:moveTo>
                  <a:lnTo>
                    <a:pt x="624" y="0"/>
                  </a:lnTo>
                  <a:lnTo>
                    <a:pt x="816" y="384"/>
                  </a:lnTo>
                  <a:lnTo>
                    <a:pt x="0" y="38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38680" y="3657600"/>
              <a:ext cx="2133720" cy="6098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144" y="0"/>
                  </a:moveTo>
                  <a:lnTo>
                    <a:pt x="624" y="0"/>
                  </a:lnTo>
                  <a:lnTo>
                    <a:pt x="816" y="384"/>
                  </a:lnTo>
                  <a:lnTo>
                    <a:pt x="0" y="38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29200" y="4343400"/>
              <a:ext cx="3505320" cy="6858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144" y="0"/>
                  </a:moveTo>
                  <a:lnTo>
                    <a:pt x="624" y="0"/>
                  </a:lnTo>
                  <a:lnTo>
                    <a:pt x="816" y="384"/>
                  </a:lnTo>
                  <a:lnTo>
                    <a:pt x="0" y="38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60840" y="2455920"/>
              <a:ext cx="54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국가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건설목표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2080" y="298152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기관간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역할분담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80760" y="3686400"/>
              <a:ext cx="111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과학 기술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연구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/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개발 수행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98480" y="454032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신그래픽"/>
                </a:rPr>
                <a:t>교육 및 기술훈련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33800" y="5137200"/>
              <a:ext cx="22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(</a:t>
              </a:r>
              <a:r>
                <a:rPr b="1" lang="zh-CN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전략기획 수립의 기본 접근 절차</a:t>
              </a:r>
              <a:r>
                <a:rPr b="1" lang="en-US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97280" y="152280"/>
            <a:ext cx="38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5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5FC7-B7B1-41EB-BDCA-5C4CB632D1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프로젝트 수행방법의 변화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시간과 투입비용에 대한 절감 압박 가중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T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기술 발달로 시간과 장소의 제약 소멸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지구촌을 대상으로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시간 가동체제 돌입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roject Island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조직의 개념 소멸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Collaboration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과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Coordination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능력이 지배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건설제품과 프로세스의 표준화 가속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기술의 변화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정보기술 도입의 확대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생산과 관리부문에 확대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자재기술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고성능과 내구성 강화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구매방식의 변화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(e-commerce </a:t>
            </a:r>
            <a:r>
              <a:rPr b="1" lang="zh-CN" sz="1800" spc="-1" strike="noStrike">
                <a:solidFill>
                  <a:srgbClr val="ffffcc"/>
                </a:solidFill>
                <a:latin typeface="Times New Roman"/>
              </a:rPr>
              <a:t>보편화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세계건설산업의 새로운 추세</a:t>
            </a:r>
            <a:br>
              <a:rPr sz="3600"/>
            </a:b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(Global Trend) - 2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2052-6CD0-4631-A1BF-0F068479A8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비전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2050</a:t>
            </a: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년의 탄생 배경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92080" y="2209680"/>
            <a:ext cx="366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21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세기 종합교통시스템 혁신의 필요성 충족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위한 국가종합교통시스템의 비전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2050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수립이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필요한 결론 도달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91240" y="3535200"/>
            <a:ext cx="7493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신그래픽"/>
              </a:rPr>
              <a:t>Vision 205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 –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신그래픽"/>
              </a:rPr>
              <a:t>An Integrated National Transportation Syste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280" y="152280"/>
            <a:ext cx="38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B969-6DAB-4115-8562-59E3E4EE5F0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Vision 2050</a:t>
            </a: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년의 목차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비전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2050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의 개요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(Introduction to Vision 2050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배경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목적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목표 및 포괄적 내용 기술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현재와 미래의 교통수요 변화 전망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변화 전망에 따른 과제와 해결 방향 서술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비전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-21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세기의 종합교통시스템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21</a:t>
            </a: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세기 교통수요의 변화와 국가경쟁력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21</a:t>
            </a: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세기 국가경쟁력 확보를 위한 종합교통시스템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비전 달성을 위한 기술과 개념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신기술과 기술 활용의 변화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이동 개념의 변환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연구개발 자금투자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인적 및 시설에 소요되는 비용 추정과 범 정부 차원의 재원 조달에 대한 협력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필요한 조처 사항 들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인적 및 제도적 뒷받침 등</a:t>
            </a: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7280" y="152280"/>
            <a:ext cx="38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교통부문의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Vision/Road Map </a:t>
            </a:r>
            <a:r>
              <a:rPr b="1" lang="zh-CN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개발의 배경 </a:t>
            </a:r>
            <a:r>
              <a:rPr b="1" lang="en-US" sz="1400" spc="-1" strike="noStrike">
                <a:solidFill>
                  <a:srgbClr val="ffffcc"/>
                </a:solidFill>
                <a:latin typeface="바탕체"/>
                <a:ea typeface="바탕체"/>
              </a:rPr>
              <a:t>- 1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52E1-D742-4DBD-9B52-94E5CBEF851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국내건설산업에 주는 시사점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1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국내건설산업의 당면과제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건설원가의 무변화 – 품셈제도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낮은 생산성과 국제경쟁력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노동력 수급 상황 악화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현안중심의 정책과 제도 개선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장기비전 부재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낮은 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IT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기술과 활용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정책과 제도 개선에 중점을 둠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FC5D-93E1-4F81-9E5C-23C2BED8C2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국내건설산업의 미래 계획의 한계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건설산업진흥기본계획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(5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년단위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건설기술진흥기본계획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(5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년단위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건설기술연구개발사업의 중장기 계획 수립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2003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년도 연구개발과제 발굴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미래 장기목표와 전략 부재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Top Down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이 아닌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Bottom Up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시스템이 아닌 개인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요소기술 중심의 한계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건설산업을 종합적으로 다루는 기능 부재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국내건설산업에 주는 시사점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2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08B0-BF0F-4B26-AD75-CDA2AD6284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현재보다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2020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년도에 선진국가와 격차가 휠씬 벌어짐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경쟁력 상실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현재보다 건설산업에 진입하는 인력의 자질 저하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노동력 확보가 곤란함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건설산업이 타 산업에 경제적 부담으로 작용 가능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국내건설산업에 주는 시사점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3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62120" y="4267080"/>
            <a:ext cx="8153280" cy="1983240"/>
            <a:chOff x="762120" y="4267080"/>
            <a:chExt cx="8153280" cy="1983240"/>
          </a:xfrm>
        </p:grpSpPr>
        <p:sp>
          <p:nvSpPr>
            <p:cNvPr id="514" name=""/>
            <p:cNvSpPr/>
            <p:nvPr/>
          </p:nvSpPr>
          <p:spPr>
            <a:xfrm>
              <a:off x="950760" y="4800600"/>
              <a:ext cx="533520" cy="533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선진국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50760" y="5334120"/>
              <a:ext cx="53352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한국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84280" y="4800600"/>
              <a:ext cx="1447920" cy="533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영국</a:t>
              </a: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, </a:t>
              </a: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미국</a:t>
              </a: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, </a:t>
              </a: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싱가폴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등 주요국의 전략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84280" y="5334120"/>
              <a:ext cx="144792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국내의 미래전략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70280" y="4800600"/>
              <a:ext cx="533520" cy="533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선진국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70280" y="5334120"/>
              <a:ext cx="53352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한국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03800" y="4800600"/>
              <a:ext cx="1447560" cy="533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주요국 건설산업의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변화 모습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03800" y="5334120"/>
              <a:ext cx="144756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국내건설산업의 위상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89800" y="4800600"/>
              <a:ext cx="533160" cy="533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선진국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89800" y="5334120"/>
              <a:ext cx="53316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한국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22960" y="4800600"/>
              <a:ext cx="1447920" cy="533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미래 전략이 가져다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줄 모습을 전망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22960" y="5334120"/>
              <a:ext cx="144792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신그래픽"/>
                  <a:ea typeface="신그래픽"/>
                </a:rPr>
                <a:t>선진국과 대비 모습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32200" y="4952880"/>
              <a:ext cx="761760" cy="4572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51360" y="495288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49200" y="4387680"/>
              <a:ext cx="141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(2001</a:t>
              </a:r>
              <a:r>
                <a:rPr b="1" lang="zh-CN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년의 모습</a:t>
              </a:r>
              <a:r>
                <a:rPr b="1" lang="en-US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68360" y="4387680"/>
              <a:ext cx="141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(2010</a:t>
              </a:r>
              <a:r>
                <a:rPr b="1" lang="zh-CN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년의 모습</a:t>
              </a:r>
              <a:r>
                <a:rPr b="1" lang="en-US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7640" y="4387680"/>
              <a:ext cx="141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(2020</a:t>
              </a:r>
              <a:r>
                <a:rPr b="1" lang="zh-CN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년의 모습</a:t>
              </a:r>
              <a:r>
                <a:rPr b="1" lang="en-US" sz="16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3440" y="5791320"/>
              <a:ext cx="137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각국의 미래전략을 분석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국내 현안과 전략부재 도출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05000" y="5791320"/>
              <a:ext cx="115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경쟁력 상승 </a:t>
              </a:r>
              <a:r>
                <a:rPr b="1" lang="en-US" sz="12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- </a:t>
              </a:r>
              <a:r>
                <a:rPr b="1" lang="zh-CN" sz="12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성장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현재보다 약화된 모습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55920" y="5791320"/>
              <a:ext cx="1518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건설산업의 새로운 모습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cc"/>
                  </a:solidFill>
                  <a:latin typeface="신그래픽"/>
                  <a:ea typeface="신그래픽"/>
                </a:rPr>
                <a:t>세계건설시장에서 퇴출된 모습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2120" y="4267080"/>
              <a:ext cx="8153280" cy="198144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B58B-91EB-413A-BDF6-DC987F89D05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대응 방안 수립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건설산업의 목표를 국가경제와 국민 삶의 질 향상시키는데  중점을 둠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목표 달성 히 건설산업이 국가의 핵심 경제 자원으로 탈 바꿈 할 수 있는 비전 제시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목표수립은 종합적이며 장기적 관점에서 수립하되 실천 전략은 단계별로 진행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Time Horizon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을 최소한 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2020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년 이상으로 함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12A3-19DB-4454-A690-ACBC988430C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648240" y="1798560"/>
            <a:ext cx="1600200" cy="53352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신그래픽"/>
                <a:ea typeface="신그래픽"/>
              </a:rPr>
              <a:t>한국건설 목표와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신그래픽"/>
                <a:ea typeface="신그래픽"/>
              </a:rPr>
              <a:t>비전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48240" y="2789280"/>
            <a:ext cx="16002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신그래픽"/>
                <a:ea typeface="신그래픽"/>
              </a:rPr>
              <a:t>부문별 비전과 전략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48240" y="3017880"/>
            <a:ext cx="160020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48240" y="4008600"/>
            <a:ext cx="16002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신그래픽"/>
                <a:ea typeface="신그래픽"/>
              </a:rPr>
              <a:t>시설물별 비전과 전략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48240" y="4237200"/>
            <a:ext cx="160020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648240" y="5227560"/>
            <a:ext cx="16002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신그래픽"/>
                <a:ea typeface="신그래픽"/>
              </a:rPr>
              <a:t>차수별 비전과 전략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48240" y="5456160"/>
            <a:ext cx="160020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15360" y="2957400"/>
            <a:ext cx="10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약 </a:t>
            </a:r>
            <a:r>
              <a:rPr b="1" lang="en-US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15</a:t>
            </a: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개 부문의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비전과 전략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70720" y="4206960"/>
            <a:ext cx="10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약 </a:t>
            </a:r>
            <a:r>
              <a:rPr b="1" lang="en-US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60</a:t>
            </a: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개 부문의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비전과 전략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75400" y="5425920"/>
            <a:ext cx="114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매 </a:t>
            </a:r>
            <a:r>
              <a:rPr b="1" lang="en-US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5</a:t>
            </a: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년 단위 비전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신그래픽"/>
                <a:ea typeface="신그래픽"/>
              </a:rPr>
              <a:t>과 전략을 수립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94120" y="2941560"/>
            <a:ext cx="137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목표 달성을 위한 비전수립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단계별 추진 전략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역할 분담과 소요예산 등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37" idx="0"/>
            <a:endCxn id="538" idx="0"/>
          </p:cNvCxnSpPr>
          <p:nvPr/>
        </p:nvCxnSpPr>
        <p:spPr>
          <a:xfrm>
            <a:off x="4447800" y="2332080"/>
            <a:ext cx="108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4410000" y="347508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10000" y="469440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51" name=""/>
          <p:cNvCxnSpPr/>
          <p:nvPr/>
        </p:nvCxnSpPr>
        <p:spPr>
          <a:xfrm flipH="1" rot="10800000">
            <a:off x="3647880" y="4541040"/>
            <a:ext cx="2160" cy="1220040"/>
          </a:xfrm>
          <a:prstGeom prst="bentConnector3">
            <a:avLst>
              <a:gd name="adj1" fmla="val -31200000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552" name=""/>
          <p:cNvCxnSpPr/>
          <p:nvPr/>
        </p:nvCxnSpPr>
        <p:spPr>
          <a:xfrm flipH="1" rot="10800000">
            <a:off x="3647880" y="3169440"/>
            <a:ext cx="2160" cy="1220040"/>
          </a:xfrm>
          <a:prstGeom prst="bentConnector3">
            <a:avLst>
              <a:gd name="adj1" fmla="val -31900000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2206800" y="499896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평가 및 보완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06800" y="35812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평가 및 보완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6010200" y="1874880"/>
            <a:ext cx="1447920" cy="38088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55520" y="1855800"/>
            <a:ext cx="82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국가건설목표와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신그래픽"/>
                <a:ea typeface="신그래픽"/>
              </a:rPr>
              <a:t>비전수립의 필요성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248440" y="2065320"/>
            <a:ext cx="7617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48440" y="5656320"/>
            <a:ext cx="914400" cy="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12760" y="54277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건설기술진흥기본계획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년도별 연구 및 기술개발 과제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74440" y="1798560"/>
            <a:ext cx="10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(</a:t>
            </a: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생산성 향상 목표</a:t>
            </a:r>
            <a:r>
              <a:rPr b="1" lang="en-US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8080" y="2971800"/>
            <a:ext cx="7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(</a:t>
            </a: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교통부문</a:t>
            </a:r>
            <a:r>
              <a:rPr b="1" lang="en-US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02800" y="4145040"/>
            <a:ext cx="9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(</a:t>
            </a: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도로교통부문</a:t>
            </a:r>
            <a:r>
              <a:rPr b="1" lang="en-US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60400" y="5318280"/>
            <a:ext cx="108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(</a:t>
            </a:r>
            <a:r>
              <a:rPr b="1" lang="zh-CN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터널관련기술부문</a:t>
            </a:r>
            <a:r>
              <a:rPr b="1" lang="en-US" sz="1200" spc="-1" strike="noStrike">
                <a:solidFill>
                  <a:srgbClr val="ffffcc"/>
                </a:solidFill>
                <a:latin typeface="신그래픽"/>
                <a:ea typeface="신그래픽"/>
              </a:rPr>
              <a:t>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대응 방안 수립 절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4BE0-5C50-4354-88A1-3F02685E37A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국가건설산업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건설산업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수요구조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공급구조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정책과 제도 등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교통부문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도로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항만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공항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철도 등 주요 시설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수자원부문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빌딩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주거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문화시설 부문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국토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지역개발부문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환경부문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플랜트부문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발전소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정유공장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,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굴림"/>
              </a:rPr>
              <a:t>석유화학공장 등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건설기술부문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프로젝트관리부문의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Vision 2025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국가건설산업의 비전수립 대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6E21-BFCA-4C39-9C0F-FD1D1096897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결론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현안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미래보다 현안 중심의 인식과 시행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이대로 방치했을 경우 미래는 현재보다 심각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현안에 대응책이 나와야 한다면…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하지 않았을 경우의 미래 전망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해야 한다면 지금부터 서둘러야 함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국가건설산업에 새로운 비전과 전략이 필요함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범 국가적 차원에서 지원이 되어야 목표 달성 가능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건설산업만의 문제에서 떠나있음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F98D-CABB-4283-8B4A-72AD894BC80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기술의 변화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계속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건설자동화 추세 획기적 확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자동위치확인시스템 보편화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설계단계에서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Simulation(Cyber Space Construction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건설주체간의 관계변화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(Business Relationship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계약 전략의 변화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(Cost/Price)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개념에서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Value Added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개념으로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LCC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개념 도입 보편화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타트너링관계의 일반적 형성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주종관계가 아닌 상호보완적 관계로 발전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발주자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계약자간에 역할 변화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위험부담과 이익분담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세계건설산업의 새로운 추세</a:t>
            </a:r>
            <a:br>
              <a:rPr sz="3600"/>
            </a:b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(Global Trend) - 3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2E44-80C6-4F59-B413-22A2D6D24F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계획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설계 및 시공절차의 변화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계획의 변화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Design to Cost”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와 “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Design to Capacity”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일반화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Design for Plant Life”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로 확대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설계 및 시방서의 표준화 추세 확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시공기술과 절차의 변화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GPS/PDA/Bar Code/In-situ </a:t>
            </a:r>
            <a:r>
              <a:rPr b="1" lang="ko-KR" sz="2000" spc="-1" strike="noStrike">
                <a:solidFill>
                  <a:srgbClr val="ffffcc"/>
                </a:solidFill>
                <a:latin typeface="Times New Roman"/>
              </a:rPr>
              <a:t>정보화 확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인력 확보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(Work Force)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기능인력의 부족 심화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노동기피 현상 증가</a:t>
            </a: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cc"/>
                </a:solidFill>
                <a:latin typeface="Times New Roman"/>
              </a:rPr>
              <a:t>고급인력 진입 기피 현상 심화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세계건설산업의 새로운 추세</a:t>
            </a:r>
            <a:br>
              <a:rPr sz="3600"/>
            </a:b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(Global Trend) - 4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F0FC-B8C3-4948-B873-46115BD47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미래 전망과 미국건설산업의 당면과제</a:t>
            </a:r>
            <a:endParaRPr b="1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낮은 생산성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기술개발의 속도 저하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너무세분화된 생산구조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IT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기술의 도입보다는 시늉정도로만 인식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최종소비자의 요구충족보다는 생산자의 편의성에 우선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3D </a:t>
            </a: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현상으로 노동력의 공급과 진입이 한계점에 도달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cc"/>
                </a:solidFill>
                <a:latin typeface="Times New Roman"/>
              </a:rPr>
              <a:t>장기비전보다는 현안 중심으로 문제 해결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AE87-BFDB-444A-B9FF-CBED96A4AD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미래에 예견되는 문제점 진단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소비자로부터 외면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기술발전 저하로 생산역할자의 급격한 감소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노동력 공급의 한계로 생산자체에 상당한 차질 초래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현재보다 생산성이 낮아져 최종 사용자인 국민들의 비용부담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세금과 사용료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이 가중됨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고급두뇌와 고급기술자 진입이 좌절됨으로 인해 현재보다 기술은 훨씬 후퇴 예상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D349-89D3-486F-84AB-CABA12BB7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</a:rPr>
              <a:t>예상 문제점에 대한 대책 수립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- 1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현안 문제 해결과 미래 비전을 분리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현안 문제는 가능한 기업에 일임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생산성 중심으로 소비자에게 혜택이 돌아가게 하는 접근 방식 채택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장기비전을 설정한 후 비전 달성을 위한 기술진로와 전략을 수립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목표 달성을 위한 단계별 진행 현황을 측정하는 방식을 도입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Vision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달성 후의 모습 상정하여 소비자를 설득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C22C-97B1-4CC7-BF21-8A1CE49DEA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9T20:03:07Z</dcterms:created>
  <dc:creator>Pat Wiseley</dc:creator>
  <dc:description/>
  <dc:language>en-US</dc:language>
  <cp:lastModifiedBy>hanmiparsons</cp:lastModifiedBy>
  <cp:lastPrinted>1998-05-27T11:02:26Z</cp:lastPrinted>
  <dcterms:modified xsi:type="dcterms:W3CDTF">2002-03-25T03:57:42Z</dcterms:modified>
  <cp:revision>106</cp:revision>
  <dc:subject/>
  <dc:title>NCHRP 10-49 Improved Contracting Methods for Highway Construction Projects</dc:title>
</cp:coreProperties>
</file>